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BA570-C1CA-4850-9E92-D72E3846C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60165-CDA5-4650-8F9D-A7588900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8F264-BF60-4B7D-A392-3CE981E1B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1C25-4213-4049-85D2-91749F1D5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8810D-ED84-4A21-8412-B6C8A2A31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B43F5-7056-4F8A-A3E6-29A6DB8ED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4EFAD-74E7-4B6E-8885-BB3A95385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002D-732B-4926-B2ED-6A6B34DA9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C7DF-4305-4E3A-958B-17F8B9570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8FDD0-0CA9-4325-8473-202243FD7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DB301-0517-474F-9DCE-2E46A89E7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8B19-18F7-4809-B160-6527A8CA5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CDE36-F0FD-4A88-91AC-7623EBF295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4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Definite Integr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171360" y="2336760"/>
            <a:ext cx="6077160" cy="62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spcBef>
                <a:spcPts val="2001"/>
              </a:spcBef>
              <a:buClr>
                <a:srgbClr val="000000"/>
              </a:buClr>
              <a:buFont typeface="Times New Roman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≥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8.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≤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MPARISON PROPER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Object 4"/>
              <p:cNvSpPr txBox="1"/>
              <p:nvPr/>
            </p:nvSpPr>
            <p:spPr>
              <a:xfrm>
                <a:off x="1371600" y="2971800"/>
                <a:ext cx="4267080" cy="11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≥</m:t>
                        </m:r>
                        <m:r>
                          <m:t xml:space="preserve">0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6"/>
              <p:cNvSpPr txBox="1"/>
              <p:nvPr/>
            </p:nvSpPr>
            <p:spPr>
              <a:xfrm>
                <a:off x="685800" y="5410080"/>
                <a:ext cx="5105520" cy="11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≥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Object 8"/>
              <p:cNvSpPr txBox="1"/>
              <p:nvPr/>
            </p:nvSpPr>
            <p:spPr>
              <a:xfrm>
                <a:off x="228600" y="7620120"/>
                <a:ext cx="6629400" cy="1265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≤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  <m:r>
                      <m:t xml:space="preserve">≤</m:t>
                    </m:r>
                    <m:r>
                      <m:t xml:space="preserve">M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−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2" descr=""/>
          <p:cNvPicPr/>
          <p:nvPr/>
        </p:nvPicPr>
        <p:blipFill>
          <a:blip r:embed="rId1"/>
          <a:srcRect l="46097" t="21875" r="0" b="8332"/>
          <a:stretch/>
        </p:blipFill>
        <p:spPr>
          <a:xfrm>
            <a:off x="-11160" y="457200"/>
            <a:ext cx="6670800" cy="8229600"/>
          </a:xfrm>
          <a:prstGeom prst="rect">
            <a:avLst/>
          </a:prstGeom>
          <a:ln w="0">
            <a:noFill/>
          </a:ln>
        </p:spPr>
      </p:pic>
      <p:sp>
        <p:nvSpPr>
          <p:cNvPr id="76" name="Ink 3"/>
          <p:cNvSpPr/>
          <p:nvPr/>
        </p:nvSpPr>
        <p:spPr>
          <a:xfrm>
            <a:off x="404640" y="1405080"/>
            <a:ext cx="1452600" cy="393480"/>
          </a:xfrm>
          <a:custGeom>
            <a:avLst/>
            <a:gdLst/>
            <a:ahLst/>
            <a:rect l="l" t="t" r="r" b="b"/>
            <a:pathLst>
              <a:path w="4036" h="1092">
                <a:moveTo>
                  <a:pt x="1124" y="4233"/>
                </a:moveTo>
                <a:cubicBezTo>
                  <a:pt x="1124" y="4387"/>
                  <a:pt x="1124" y="4542"/>
                  <a:pt x="1124" y="4696"/>
                </a:cubicBezTo>
                <a:cubicBezTo>
                  <a:pt x="1124" y="4575"/>
                  <a:pt x="1124" y="4454"/>
                  <a:pt x="1124" y="4333"/>
                </a:cubicBezTo>
                <a:cubicBezTo>
                  <a:pt x="1190" y="4333"/>
                  <a:pt x="1231" y="4326"/>
                  <a:pt x="1290" y="4366"/>
                </a:cubicBezTo>
                <a:cubicBezTo>
                  <a:pt x="1374" y="4422"/>
                  <a:pt x="1401" y="4473"/>
                  <a:pt x="1488" y="4498"/>
                </a:cubicBezTo>
                <a:cubicBezTo>
                  <a:pt x="1497" y="4552"/>
                  <a:pt x="1496" y="4602"/>
                  <a:pt x="1521" y="4663"/>
                </a:cubicBezTo>
                <a:cubicBezTo>
                  <a:pt x="1548" y="4729"/>
                  <a:pt x="1563" y="4736"/>
                  <a:pt x="1588" y="4663"/>
                </a:cubicBezTo>
                <a:cubicBezTo>
                  <a:pt x="1609" y="4601"/>
                  <a:pt x="1651" y="4558"/>
                  <a:pt x="1687" y="4531"/>
                </a:cubicBezTo>
                <a:cubicBezTo>
                  <a:pt x="1750" y="4483"/>
                  <a:pt x="1697" y="4465"/>
                  <a:pt x="1786" y="4465"/>
                </a:cubicBezTo>
                <a:cubicBezTo>
                  <a:pt x="1798" y="4465"/>
                  <a:pt x="1876" y="4520"/>
                  <a:pt x="1885" y="4531"/>
                </a:cubicBezTo>
                <a:cubicBezTo>
                  <a:pt x="1911" y="4563"/>
                  <a:pt x="1979" y="4674"/>
                  <a:pt x="1984" y="4696"/>
                </a:cubicBezTo>
                <a:cubicBezTo>
                  <a:pt x="1984" y="4729"/>
                  <a:pt x="1984" y="4741"/>
                  <a:pt x="1984" y="4763"/>
                </a:cubicBezTo>
                <a:cubicBezTo>
                  <a:pt x="2039" y="4763"/>
                  <a:pt x="2095" y="4763"/>
                  <a:pt x="2150" y="4763"/>
                </a:cubicBezTo>
              </a:path>
              <a:path w="4036" h="1092">
                <a:moveTo>
                  <a:pt x="3142" y="4333"/>
                </a:moveTo>
                <a:cubicBezTo>
                  <a:pt x="3075" y="4333"/>
                  <a:pt x="3064" y="4348"/>
                  <a:pt x="3010" y="4366"/>
                </a:cubicBezTo>
                <a:cubicBezTo>
                  <a:pt x="2964" y="4381"/>
                  <a:pt x="2920" y="4427"/>
                  <a:pt x="2877" y="4465"/>
                </a:cubicBezTo>
                <a:cubicBezTo>
                  <a:pt x="2826" y="4510"/>
                  <a:pt x="2759" y="4533"/>
                  <a:pt x="2712" y="4564"/>
                </a:cubicBezTo>
                <a:cubicBezTo>
                  <a:pt x="2680" y="4585"/>
                  <a:pt x="2648" y="4640"/>
                  <a:pt x="2646" y="4663"/>
                </a:cubicBezTo>
                <a:cubicBezTo>
                  <a:pt x="2638" y="4771"/>
                  <a:pt x="2619" y="4737"/>
                  <a:pt x="2613" y="4829"/>
                </a:cubicBezTo>
                <a:cubicBezTo>
                  <a:pt x="2613" y="4851"/>
                  <a:pt x="2613" y="4873"/>
                  <a:pt x="2613" y="4895"/>
                </a:cubicBezTo>
                <a:cubicBezTo>
                  <a:pt x="2800" y="4895"/>
                  <a:pt x="2988" y="4895"/>
                  <a:pt x="3175" y="4895"/>
                </a:cubicBezTo>
              </a:path>
              <a:path w="4036" h="1092">
                <a:moveTo>
                  <a:pt x="4233" y="4101"/>
                </a:moveTo>
                <a:cubicBezTo>
                  <a:pt x="4218" y="4040"/>
                  <a:pt x="4201" y="4028"/>
                  <a:pt x="4167" y="4002"/>
                </a:cubicBezTo>
                <a:cubicBezTo>
                  <a:pt x="4129" y="3974"/>
                  <a:pt x="4123" y="3914"/>
                  <a:pt x="4101" y="3903"/>
                </a:cubicBezTo>
                <a:cubicBezTo>
                  <a:pt x="4057" y="3881"/>
                  <a:pt x="3932" y="3894"/>
                  <a:pt x="3903" y="3936"/>
                </a:cubicBezTo>
                <a:cubicBezTo>
                  <a:pt x="3862" y="3995"/>
                  <a:pt x="3810" y="4063"/>
                  <a:pt x="3803" y="4134"/>
                </a:cubicBezTo>
                <a:cubicBezTo>
                  <a:pt x="3791" y="4254"/>
                  <a:pt x="3768" y="4497"/>
                  <a:pt x="3836" y="4597"/>
                </a:cubicBezTo>
                <a:cubicBezTo>
                  <a:pt x="3867" y="4643"/>
                  <a:pt x="3897" y="4708"/>
                  <a:pt x="3903" y="4763"/>
                </a:cubicBezTo>
                <a:cubicBezTo>
                  <a:pt x="3912" y="4843"/>
                  <a:pt x="3880" y="4924"/>
                  <a:pt x="3936" y="4961"/>
                </a:cubicBezTo>
              </a:path>
              <a:path w="4036" h="1092">
                <a:moveTo>
                  <a:pt x="3638" y="4729"/>
                </a:moveTo>
                <a:cubicBezTo>
                  <a:pt x="3858" y="4729"/>
                  <a:pt x="4079" y="4729"/>
                  <a:pt x="4299" y="4729"/>
                </a:cubicBezTo>
              </a:path>
              <a:path w="4036" h="1092">
                <a:moveTo>
                  <a:pt x="4862" y="4233"/>
                </a:moveTo>
                <a:cubicBezTo>
                  <a:pt x="4808" y="4342"/>
                  <a:pt x="4743" y="4438"/>
                  <a:pt x="4663" y="4531"/>
                </a:cubicBezTo>
                <a:cubicBezTo>
                  <a:pt x="4598" y="4607"/>
                  <a:pt x="4544" y="4682"/>
                  <a:pt x="4498" y="4763"/>
                </a:cubicBezTo>
                <a:cubicBezTo>
                  <a:pt x="4471" y="4817"/>
                  <a:pt x="4460" y="4825"/>
                  <a:pt x="4465" y="4862"/>
                </a:cubicBezTo>
                <a:cubicBezTo>
                  <a:pt x="4548" y="4879"/>
                  <a:pt x="4647" y="4874"/>
                  <a:pt x="4729" y="4895"/>
                </a:cubicBezTo>
                <a:cubicBezTo>
                  <a:pt x="4784" y="4909"/>
                  <a:pt x="4841" y="4914"/>
                  <a:pt x="4895" y="4928"/>
                </a:cubicBezTo>
                <a:cubicBezTo>
                  <a:pt x="4988" y="4953"/>
                  <a:pt x="5064" y="4983"/>
                  <a:pt x="5159" y="499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Ink 4"/>
          <p:cNvSpPr/>
          <p:nvPr/>
        </p:nvSpPr>
        <p:spPr>
          <a:xfrm>
            <a:off x="2035080" y="1560600"/>
            <a:ext cx="239760" cy="261720"/>
          </a:xfrm>
          <a:custGeom>
            <a:avLst/>
            <a:gdLst/>
            <a:ahLst/>
            <a:rect l="l" t="t" r="r" b="b"/>
            <a:pathLst>
              <a:path w="663" h="728">
                <a:moveTo>
                  <a:pt x="5689" y="4465"/>
                </a:moveTo>
                <a:cubicBezTo>
                  <a:pt x="5689" y="4663"/>
                  <a:pt x="5689" y="4862"/>
                  <a:pt x="5689" y="5060"/>
                </a:cubicBezTo>
                <a:cubicBezTo>
                  <a:pt x="5689" y="4932"/>
                  <a:pt x="5668" y="4822"/>
                  <a:pt x="5655" y="4696"/>
                </a:cubicBezTo>
                <a:cubicBezTo>
                  <a:pt x="5643" y="4578"/>
                  <a:pt x="5655" y="4453"/>
                  <a:pt x="5655" y="4333"/>
                </a:cubicBezTo>
                <a:cubicBezTo>
                  <a:pt x="5690" y="4447"/>
                  <a:pt x="5677" y="4509"/>
                  <a:pt x="5755" y="4597"/>
                </a:cubicBezTo>
                <a:cubicBezTo>
                  <a:pt x="5804" y="4652"/>
                  <a:pt x="5826" y="4681"/>
                  <a:pt x="5887" y="4696"/>
                </a:cubicBezTo>
                <a:cubicBezTo>
                  <a:pt x="5921" y="4679"/>
                  <a:pt x="6061" y="4587"/>
                  <a:pt x="6085" y="4564"/>
                </a:cubicBezTo>
                <a:cubicBezTo>
                  <a:pt x="6117" y="4534"/>
                  <a:pt x="6201" y="4430"/>
                  <a:pt x="6251" y="4531"/>
                </a:cubicBezTo>
                <a:cubicBezTo>
                  <a:pt x="6270" y="4568"/>
                  <a:pt x="6280" y="4685"/>
                  <a:pt x="6284" y="4729"/>
                </a:cubicBezTo>
                <a:cubicBezTo>
                  <a:pt x="6289" y="4783"/>
                  <a:pt x="6317" y="4801"/>
                  <a:pt x="6317" y="486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Ink 5"/>
          <p:cNvSpPr/>
          <p:nvPr/>
        </p:nvSpPr>
        <p:spPr>
          <a:xfrm>
            <a:off x="2619360" y="1023840"/>
            <a:ext cx="4156200" cy="1013040"/>
          </a:xfrm>
          <a:custGeom>
            <a:avLst/>
            <a:gdLst/>
            <a:ahLst/>
            <a:rect l="l" t="t" r="r" b="b"/>
            <a:pathLst>
              <a:path w="11543" h="2812">
                <a:moveTo>
                  <a:pt x="7640" y="4498"/>
                </a:moveTo>
                <a:cubicBezTo>
                  <a:pt x="7618" y="4498"/>
                  <a:pt x="7596" y="4498"/>
                  <a:pt x="7574" y="4498"/>
                </a:cubicBezTo>
                <a:cubicBezTo>
                  <a:pt x="7552" y="4574"/>
                  <a:pt x="7529" y="4602"/>
                  <a:pt x="7474" y="4663"/>
                </a:cubicBezTo>
                <a:cubicBezTo>
                  <a:pt x="7436" y="4701"/>
                  <a:pt x="7425" y="4719"/>
                  <a:pt x="7441" y="4763"/>
                </a:cubicBezTo>
                <a:cubicBezTo>
                  <a:pt x="7398" y="4792"/>
                  <a:pt x="7409" y="4844"/>
                  <a:pt x="7375" y="4895"/>
                </a:cubicBezTo>
                <a:cubicBezTo>
                  <a:pt x="7340" y="4948"/>
                  <a:pt x="7342" y="4961"/>
                  <a:pt x="7342" y="5027"/>
                </a:cubicBezTo>
                <a:cubicBezTo>
                  <a:pt x="7342" y="5095"/>
                  <a:pt x="7330" y="5141"/>
                  <a:pt x="7375" y="5192"/>
                </a:cubicBezTo>
                <a:cubicBezTo>
                  <a:pt x="7425" y="5250"/>
                  <a:pt x="7464" y="5268"/>
                  <a:pt x="7508" y="5325"/>
                </a:cubicBezTo>
              </a:path>
              <a:path w="11543" h="2812">
                <a:moveTo>
                  <a:pt x="7938" y="4829"/>
                </a:moveTo>
                <a:cubicBezTo>
                  <a:pt x="7865" y="4829"/>
                  <a:pt x="7837" y="4820"/>
                  <a:pt x="7805" y="4862"/>
                </a:cubicBezTo>
                <a:cubicBezTo>
                  <a:pt x="7776" y="4901"/>
                  <a:pt x="7749" y="4906"/>
                  <a:pt x="7706" y="4928"/>
                </a:cubicBezTo>
                <a:cubicBezTo>
                  <a:pt x="7671" y="4945"/>
                  <a:pt x="7646" y="4948"/>
                  <a:pt x="7640" y="4994"/>
                </a:cubicBezTo>
                <a:cubicBezTo>
                  <a:pt x="7632" y="5058"/>
                  <a:pt x="7640" y="5128"/>
                  <a:pt x="7640" y="5192"/>
                </a:cubicBezTo>
                <a:cubicBezTo>
                  <a:pt x="7715" y="5192"/>
                  <a:pt x="7737" y="5146"/>
                  <a:pt x="7772" y="5126"/>
                </a:cubicBezTo>
                <a:cubicBezTo>
                  <a:pt x="7806" y="5106"/>
                  <a:pt x="7831" y="5086"/>
                  <a:pt x="7838" y="5027"/>
                </a:cubicBezTo>
                <a:cubicBezTo>
                  <a:pt x="7846" y="4957"/>
                  <a:pt x="7838" y="4953"/>
                  <a:pt x="7838" y="5027"/>
                </a:cubicBezTo>
                <a:cubicBezTo>
                  <a:pt x="7838" y="5092"/>
                  <a:pt x="7811" y="5222"/>
                  <a:pt x="7871" y="5259"/>
                </a:cubicBezTo>
                <a:cubicBezTo>
                  <a:pt x="7887" y="5269"/>
                  <a:pt x="7951" y="5259"/>
                  <a:pt x="7971" y="5259"/>
                </a:cubicBezTo>
              </a:path>
              <a:path w="11543" h="2812">
                <a:moveTo>
                  <a:pt x="8136" y="5159"/>
                </a:moveTo>
                <a:cubicBezTo>
                  <a:pt x="8186" y="5210"/>
                  <a:pt x="8244" y="5254"/>
                  <a:pt x="8268" y="5325"/>
                </a:cubicBezTo>
                <a:cubicBezTo>
                  <a:pt x="8288" y="5386"/>
                  <a:pt x="8268" y="5491"/>
                  <a:pt x="8268" y="5556"/>
                </a:cubicBezTo>
                <a:cubicBezTo>
                  <a:pt x="8221" y="5572"/>
                  <a:pt x="8235" y="5566"/>
                  <a:pt x="8235" y="5622"/>
                </a:cubicBezTo>
              </a:path>
              <a:path w="11543" h="2812">
                <a:moveTo>
                  <a:pt x="8632" y="4630"/>
                </a:moveTo>
                <a:cubicBezTo>
                  <a:pt x="8632" y="4906"/>
                  <a:pt x="8632" y="5667"/>
                  <a:pt x="8632" y="5391"/>
                </a:cubicBezTo>
                <a:cubicBezTo>
                  <a:pt x="8632" y="5284"/>
                  <a:pt x="8635" y="5185"/>
                  <a:pt x="8665" y="5126"/>
                </a:cubicBezTo>
                <a:cubicBezTo>
                  <a:pt x="8688" y="5080"/>
                  <a:pt x="8700" y="5093"/>
                  <a:pt x="8764" y="5093"/>
                </a:cubicBezTo>
                <a:cubicBezTo>
                  <a:pt x="8854" y="5093"/>
                  <a:pt x="8920" y="5104"/>
                  <a:pt x="8963" y="5126"/>
                </a:cubicBezTo>
                <a:cubicBezTo>
                  <a:pt x="9009" y="5149"/>
                  <a:pt x="8996" y="5162"/>
                  <a:pt x="8996" y="5226"/>
                </a:cubicBezTo>
                <a:cubicBezTo>
                  <a:pt x="8996" y="5300"/>
                  <a:pt x="9012" y="5369"/>
                  <a:pt x="8963" y="5424"/>
                </a:cubicBezTo>
                <a:cubicBezTo>
                  <a:pt x="8924" y="5463"/>
                  <a:pt x="8909" y="5482"/>
                  <a:pt x="8897" y="5523"/>
                </a:cubicBezTo>
                <a:cubicBezTo>
                  <a:pt x="8853" y="5464"/>
                  <a:pt x="8856" y="5468"/>
                  <a:pt x="8797" y="5424"/>
                </a:cubicBezTo>
              </a:path>
              <a:path w="11543" h="2812">
                <a:moveTo>
                  <a:pt x="9227" y="4630"/>
                </a:moveTo>
                <a:cubicBezTo>
                  <a:pt x="9277" y="4647"/>
                  <a:pt x="9255" y="4663"/>
                  <a:pt x="9327" y="4663"/>
                </a:cubicBezTo>
                <a:cubicBezTo>
                  <a:pt x="9395" y="4663"/>
                  <a:pt x="9398" y="4682"/>
                  <a:pt x="9426" y="4696"/>
                </a:cubicBezTo>
                <a:cubicBezTo>
                  <a:pt x="9449" y="4708"/>
                  <a:pt x="9505" y="4723"/>
                  <a:pt x="9525" y="4763"/>
                </a:cubicBezTo>
                <a:cubicBezTo>
                  <a:pt x="9623" y="4961"/>
                  <a:pt x="9525" y="5394"/>
                  <a:pt x="9525" y="5622"/>
                </a:cubicBezTo>
                <a:cubicBezTo>
                  <a:pt x="9451" y="5622"/>
                  <a:pt x="9480" y="5648"/>
                  <a:pt x="9426" y="5655"/>
                </a:cubicBezTo>
                <a:cubicBezTo>
                  <a:pt x="9319" y="5668"/>
                  <a:pt x="9203" y="5655"/>
                  <a:pt x="9095" y="5655"/>
                </a:cubicBezTo>
              </a:path>
              <a:path w="11543" h="2812">
                <a:moveTo>
                  <a:pt x="7673" y="4399"/>
                </a:moveTo>
                <a:cubicBezTo>
                  <a:pt x="7571" y="4399"/>
                  <a:pt x="7501" y="4416"/>
                  <a:pt x="7408" y="4432"/>
                </a:cubicBezTo>
                <a:cubicBezTo>
                  <a:pt x="7338" y="4444"/>
                  <a:pt x="7285" y="4446"/>
                  <a:pt x="7276" y="4531"/>
                </a:cubicBezTo>
                <a:cubicBezTo>
                  <a:pt x="7263" y="4648"/>
                  <a:pt x="7288" y="4764"/>
                  <a:pt x="7309" y="4862"/>
                </a:cubicBezTo>
                <a:cubicBezTo>
                  <a:pt x="7324" y="4934"/>
                  <a:pt x="7330" y="5031"/>
                  <a:pt x="7342" y="5093"/>
                </a:cubicBezTo>
                <a:cubicBezTo>
                  <a:pt x="7357" y="5169"/>
                  <a:pt x="7361" y="5259"/>
                  <a:pt x="7375" y="5325"/>
                </a:cubicBezTo>
                <a:cubicBezTo>
                  <a:pt x="7392" y="5404"/>
                  <a:pt x="7387" y="5480"/>
                  <a:pt x="7408" y="5523"/>
                </a:cubicBezTo>
                <a:cubicBezTo>
                  <a:pt x="7418" y="5542"/>
                  <a:pt x="7408" y="5600"/>
                  <a:pt x="7408" y="5622"/>
                </a:cubicBezTo>
                <a:cubicBezTo>
                  <a:pt x="7483" y="5622"/>
                  <a:pt x="7506" y="5592"/>
                  <a:pt x="7574" y="5556"/>
                </a:cubicBezTo>
                <a:cubicBezTo>
                  <a:pt x="7640" y="5521"/>
                  <a:pt x="7669" y="5523"/>
                  <a:pt x="7739" y="5523"/>
                </a:cubicBezTo>
              </a:path>
              <a:path w="11543" h="2812">
                <a:moveTo>
                  <a:pt x="13626" y="3373"/>
                </a:moveTo>
                <a:cubicBezTo>
                  <a:pt x="13626" y="3329"/>
                  <a:pt x="13626" y="3285"/>
                  <a:pt x="13626" y="3241"/>
                </a:cubicBezTo>
                <a:cubicBezTo>
                  <a:pt x="13571" y="3241"/>
                  <a:pt x="13516" y="3241"/>
                  <a:pt x="13461" y="3241"/>
                </a:cubicBezTo>
                <a:cubicBezTo>
                  <a:pt x="13461" y="3417"/>
                  <a:pt x="13442" y="3615"/>
                  <a:pt x="13494" y="3770"/>
                </a:cubicBezTo>
                <a:cubicBezTo>
                  <a:pt x="13510" y="3817"/>
                  <a:pt x="13527" y="3824"/>
                  <a:pt x="13527" y="3903"/>
                </a:cubicBezTo>
                <a:cubicBezTo>
                  <a:pt x="13527" y="3981"/>
                  <a:pt x="13554" y="3989"/>
                  <a:pt x="13560" y="4035"/>
                </a:cubicBezTo>
                <a:cubicBezTo>
                  <a:pt x="13569" y="4109"/>
                  <a:pt x="13560" y="4191"/>
                  <a:pt x="13560" y="4266"/>
                </a:cubicBezTo>
                <a:cubicBezTo>
                  <a:pt x="13492" y="4266"/>
                  <a:pt x="13489" y="4247"/>
                  <a:pt x="13461" y="4233"/>
                </a:cubicBezTo>
                <a:cubicBezTo>
                  <a:pt x="13428" y="4233"/>
                  <a:pt x="13417" y="4233"/>
                  <a:pt x="13428" y="4200"/>
                </a:cubicBezTo>
              </a:path>
              <a:path w="11543" h="2812">
                <a:moveTo>
                  <a:pt x="14089" y="3737"/>
                </a:moveTo>
                <a:cubicBezTo>
                  <a:pt x="14089" y="3676"/>
                  <a:pt x="14097" y="3652"/>
                  <a:pt x="14056" y="3605"/>
                </a:cubicBezTo>
                <a:cubicBezTo>
                  <a:pt x="14033" y="3579"/>
                  <a:pt x="14007" y="3484"/>
                  <a:pt x="13990" y="3473"/>
                </a:cubicBezTo>
                <a:cubicBezTo>
                  <a:pt x="13975" y="3463"/>
                  <a:pt x="13909" y="3473"/>
                  <a:pt x="13891" y="3473"/>
                </a:cubicBezTo>
                <a:cubicBezTo>
                  <a:pt x="13891" y="3561"/>
                  <a:pt x="13873" y="3661"/>
                  <a:pt x="13924" y="3737"/>
                </a:cubicBezTo>
                <a:cubicBezTo>
                  <a:pt x="13956" y="3784"/>
                  <a:pt x="13985" y="3794"/>
                  <a:pt x="13990" y="3836"/>
                </a:cubicBezTo>
                <a:cubicBezTo>
                  <a:pt x="13994" y="3865"/>
                  <a:pt x="14034" y="3904"/>
                  <a:pt x="14056" y="3936"/>
                </a:cubicBezTo>
                <a:cubicBezTo>
                  <a:pt x="14091" y="3989"/>
                  <a:pt x="14089" y="4002"/>
                  <a:pt x="14089" y="4068"/>
                </a:cubicBezTo>
                <a:cubicBezTo>
                  <a:pt x="14089" y="4148"/>
                  <a:pt x="14115" y="4167"/>
                  <a:pt x="14122" y="4233"/>
                </a:cubicBezTo>
                <a:cubicBezTo>
                  <a:pt x="14127" y="4275"/>
                  <a:pt x="14132" y="4341"/>
                  <a:pt x="14155" y="4366"/>
                </a:cubicBezTo>
                <a:cubicBezTo>
                  <a:pt x="14155" y="4355"/>
                  <a:pt x="14155" y="4344"/>
                  <a:pt x="14155" y="4333"/>
                </a:cubicBezTo>
              </a:path>
              <a:path w="11543" h="2812">
                <a:moveTo>
                  <a:pt x="13924" y="4035"/>
                </a:moveTo>
                <a:cubicBezTo>
                  <a:pt x="14023" y="4035"/>
                  <a:pt x="14122" y="4035"/>
                  <a:pt x="14221" y="4035"/>
                </a:cubicBezTo>
              </a:path>
              <a:path w="11543" h="2812">
                <a:moveTo>
                  <a:pt x="14618" y="3506"/>
                </a:moveTo>
                <a:cubicBezTo>
                  <a:pt x="14618" y="3586"/>
                  <a:pt x="14638" y="3629"/>
                  <a:pt x="14651" y="3704"/>
                </a:cubicBezTo>
                <a:cubicBezTo>
                  <a:pt x="14670" y="3811"/>
                  <a:pt x="14652" y="3906"/>
                  <a:pt x="14684" y="4002"/>
                </a:cubicBezTo>
                <a:cubicBezTo>
                  <a:pt x="14692" y="4026"/>
                  <a:pt x="14684" y="4216"/>
                  <a:pt x="14684" y="4134"/>
                </a:cubicBezTo>
                <a:cubicBezTo>
                  <a:pt x="14684" y="4090"/>
                  <a:pt x="14685" y="4062"/>
                  <a:pt x="14651" y="4035"/>
                </a:cubicBezTo>
                <a:cubicBezTo>
                  <a:pt x="14613" y="4005"/>
                  <a:pt x="14595" y="3991"/>
                  <a:pt x="14552" y="3969"/>
                </a:cubicBezTo>
                <a:cubicBezTo>
                  <a:pt x="14533" y="3959"/>
                  <a:pt x="14475" y="3969"/>
                  <a:pt x="14453" y="3969"/>
                </a:cubicBezTo>
                <a:cubicBezTo>
                  <a:pt x="14453" y="4057"/>
                  <a:pt x="14453" y="4145"/>
                  <a:pt x="14453" y="4233"/>
                </a:cubicBezTo>
                <a:cubicBezTo>
                  <a:pt x="14530" y="4233"/>
                  <a:pt x="14607" y="4233"/>
                  <a:pt x="14684" y="4233"/>
                </a:cubicBezTo>
              </a:path>
              <a:path w="11543" h="2812">
                <a:moveTo>
                  <a:pt x="14883" y="4035"/>
                </a:moveTo>
                <a:cubicBezTo>
                  <a:pt x="14905" y="4035"/>
                  <a:pt x="14927" y="4035"/>
                  <a:pt x="14949" y="4035"/>
                </a:cubicBezTo>
                <a:cubicBezTo>
                  <a:pt x="14969" y="4115"/>
                  <a:pt x="15044" y="4128"/>
                  <a:pt x="15114" y="4167"/>
                </a:cubicBezTo>
                <a:cubicBezTo>
                  <a:pt x="15172" y="4196"/>
                  <a:pt x="15188" y="4201"/>
                  <a:pt x="15214" y="4233"/>
                </a:cubicBezTo>
              </a:path>
              <a:path w="11543" h="2812">
                <a:moveTo>
                  <a:pt x="15214" y="4068"/>
                </a:moveTo>
                <a:cubicBezTo>
                  <a:pt x="15203" y="4068"/>
                  <a:pt x="15191" y="4068"/>
                  <a:pt x="15180" y="4068"/>
                </a:cubicBezTo>
                <a:cubicBezTo>
                  <a:pt x="15162" y="4123"/>
                  <a:pt x="15087" y="4144"/>
                  <a:pt x="15048" y="4200"/>
                </a:cubicBezTo>
                <a:cubicBezTo>
                  <a:pt x="15048" y="4233"/>
                  <a:pt x="15048" y="4244"/>
                  <a:pt x="15048" y="4266"/>
                </a:cubicBezTo>
              </a:path>
              <a:path w="11543" h="2812">
                <a:moveTo>
                  <a:pt x="13064" y="3605"/>
                </a:moveTo>
                <a:cubicBezTo>
                  <a:pt x="13064" y="3649"/>
                  <a:pt x="13064" y="3693"/>
                  <a:pt x="13064" y="3737"/>
                </a:cubicBezTo>
                <a:cubicBezTo>
                  <a:pt x="12982" y="3758"/>
                  <a:pt x="12976" y="3789"/>
                  <a:pt x="12965" y="3870"/>
                </a:cubicBezTo>
                <a:cubicBezTo>
                  <a:pt x="12908" y="3870"/>
                  <a:pt x="12885" y="3876"/>
                  <a:pt x="12865" y="3936"/>
                </a:cubicBezTo>
                <a:cubicBezTo>
                  <a:pt x="12844" y="3998"/>
                  <a:pt x="12893" y="4030"/>
                  <a:pt x="12932" y="4068"/>
                </a:cubicBezTo>
                <a:cubicBezTo>
                  <a:pt x="12983" y="4118"/>
                  <a:pt x="12994" y="4134"/>
                  <a:pt x="13064" y="4134"/>
                </a:cubicBezTo>
                <a:cubicBezTo>
                  <a:pt x="13116" y="4134"/>
                  <a:pt x="13090" y="4167"/>
                  <a:pt x="13163" y="4167"/>
                </a:cubicBezTo>
              </a:path>
              <a:path w="11543" h="2812">
                <a:moveTo>
                  <a:pt x="15743" y="3803"/>
                </a:moveTo>
                <a:cubicBezTo>
                  <a:pt x="15743" y="3871"/>
                  <a:pt x="15755" y="3918"/>
                  <a:pt x="15710" y="3969"/>
                </a:cubicBezTo>
                <a:cubicBezTo>
                  <a:pt x="15674" y="4010"/>
                  <a:pt x="15632" y="4113"/>
                  <a:pt x="15610" y="4167"/>
                </a:cubicBezTo>
                <a:cubicBezTo>
                  <a:pt x="15594" y="4206"/>
                  <a:pt x="15587" y="4259"/>
                  <a:pt x="15577" y="4299"/>
                </a:cubicBezTo>
                <a:cubicBezTo>
                  <a:pt x="15680" y="4311"/>
                  <a:pt x="15770" y="4333"/>
                  <a:pt x="15875" y="4333"/>
                </a:cubicBezTo>
                <a:cubicBezTo>
                  <a:pt x="15886" y="4333"/>
                  <a:pt x="15897" y="4333"/>
                  <a:pt x="15908" y="4333"/>
                </a:cubicBezTo>
              </a:path>
              <a:path w="11543" h="2812">
                <a:moveTo>
                  <a:pt x="13626" y="4399"/>
                </a:moveTo>
                <a:cubicBezTo>
                  <a:pt x="13593" y="4399"/>
                  <a:pt x="13560" y="4399"/>
                  <a:pt x="13527" y="4399"/>
                </a:cubicBezTo>
                <a:cubicBezTo>
                  <a:pt x="13527" y="4454"/>
                  <a:pt x="13527" y="4509"/>
                  <a:pt x="13527" y="4564"/>
                </a:cubicBezTo>
                <a:cubicBezTo>
                  <a:pt x="13579" y="4564"/>
                  <a:pt x="13619" y="4585"/>
                  <a:pt x="13626" y="4531"/>
                </a:cubicBezTo>
                <a:cubicBezTo>
                  <a:pt x="13633" y="4478"/>
                  <a:pt x="13677" y="4495"/>
                  <a:pt x="13692" y="4465"/>
                </a:cubicBezTo>
                <a:cubicBezTo>
                  <a:pt x="13724" y="4401"/>
                  <a:pt x="13672" y="4495"/>
                  <a:pt x="13692" y="4531"/>
                </a:cubicBezTo>
                <a:cubicBezTo>
                  <a:pt x="13732" y="4603"/>
                  <a:pt x="13774" y="4570"/>
                  <a:pt x="13824" y="4597"/>
                </a:cubicBezTo>
                <a:cubicBezTo>
                  <a:pt x="13855" y="4627"/>
                  <a:pt x="13861" y="4638"/>
                  <a:pt x="13891" y="4630"/>
                </a:cubicBezTo>
              </a:path>
              <a:path w="11543" h="2812">
                <a:moveTo>
                  <a:pt x="13924" y="2844"/>
                </a:moveTo>
                <a:cubicBezTo>
                  <a:pt x="13891" y="2844"/>
                  <a:pt x="13880" y="2844"/>
                  <a:pt x="13858" y="2844"/>
                </a:cubicBezTo>
                <a:cubicBezTo>
                  <a:pt x="13858" y="2941"/>
                  <a:pt x="13878" y="3060"/>
                  <a:pt x="13891" y="3109"/>
                </a:cubicBezTo>
                <a:cubicBezTo>
                  <a:pt x="13900" y="3142"/>
                  <a:pt x="13891" y="3204"/>
                  <a:pt x="13891" y="3241"/>
                </a:cubicBezTo>
                <a:cubicBezTo>
                  <a:pt x="13908" y="3174"/>
                  <a:pt x="13967" y="3176"/>
                  <a:pt x="13990" y="3142"/>
                </a:cubicBezTo>
                <a:cubicBezTo>
                  <a:pt x="13990" y="3109"/>
                  <a:pt x="13990" y="3098"/>
                  <a:pt x="14023" y="3109"/>
                </a:cubicBezTo>
                <a:cubicBezTo>
                  <a:pt x="14067" y="3124"/>
                  <a:pt x="14062" y="3162"/>
                  <a:pt x="14089" y="3175"/>
                </a:cubicBezTo>
                <a:cubicBezTo>
                  <a:pt x="14135" y="3198"/>
                  <a:pt x="14122" y="3210"/>
                  <a:pt x="14122" y="3274"/>
                </a:cubicBezTo>
                <a:cubicBezTo>
                  <a:pt x="14122" y="3344"/>
                  <a:pt x="14079" y="3340"/>
                  <a:pt x="14023" y="3340"/>
                </a:cubicBezTo>
                <a:cubicBezTo>
                  <a:pt x="13990" y="3340"/>
                  <a:pt x="13979" y="3340"/>
                  <a:pt x="13957" y="3340"/>
                </a:cubicBezTo>
              </a:path>
              <a:path w="11543" h="2812">
                <a:moveTo>
                  <a:pt x="9293" y="4035"/>
                </a:moveTo>
                <a:cubicBezTo>
                  <a:pt x="9293" y="4110"/>
                  <a:pt x="9320" y="4079"/>
                  <a:pt x="9327" y="4134"/>
                </a:cubicBezTo>
                <a:cubicBezTo>
                  <a:pt x="9327" y="4172"/>
                  <a:pt x="9330" y="4186"/>
                  <a:pt x="9360" y="4200"/>
                </a:cubicBezTo>
                <a:cubicBezTo>
                  <a:pt x="9360" y="4150"/>
                  <a:pt x="9339" y="4062"/>
                  <a:pt x="9393" y="4035"/>
                </a:cubicBezTo>
                <a:cubicBezTo>
                  <a:pt x="9437" y="4013"/>
                  <a:pt x="9449" y="4002"/>
                  <a:pt x="9525" y="4002"/>
                </a:cubicBezTo>
                <a:cubicBezTo>
                  <a:pt x="9570" y="4002"/>
                  <a:pt x="9632" y="3985"/>
                  <a:pt x="9657" y="4035"/>
                </a:cubicBezTo>
                <a:cubicBezTo>
                  <a:pt x="9673" y="4067"/>
                  <a:pt x="9681" y="4132"/>
                  <a:pt x="9690" y="4167"/>
                </a:cubicBezTo>
                <a:cubicBezTo>
                  <a:pt x="9774" y="4100"/>
                  <a:pt x="9849" y="4112"/>
                  <a:pt x="9922" y="4068"/>
                </a:cubicBezTo>
                <a:cubicBezTo>
                  <a:pt x="9936" y="4060"/>
                  <a:pt x="9979" y="3985"/>
                  <a:pt x="10021" y="4068"/>
                </a:cubicBezTo>
                <a:cubicBezTo>
                  <a:pt x="10050" y="4126"/>
                  <a:pt x="9984" y="4144"/>
                  <a:pt x="10054" y="4167"/>
                </a:cubicBezTo>
              </a:path>
              <a:path w="11543" h="2812">
                <a:moveTo>
                  <a:pt x="10451" y="3737"/>
                </a:moveTo>
                <a:cubicBezTo>
                  <a:pt x="10411" y="3790"/>
                  <a:pt x="10445" y="3821"/>
                  <a:pt x="10418" y="3870"/>
                </a:cubicBezTo>
                <a:cubicBezTo>
                  <a:pt x="10388" y="3925"/>
                  <a:pt x="10385" y="3935"/>
                  <a:pt x="10385" y="4002"/>
                </a:cubicBezTo>
                <a:cubicBezTo>
                  <a:pt x="10385" y="4024"/>
                  <a:pt x="10385" y="4046"/>
                  <a:pt x="10385" y="4068"/>
                </a:cubicBezTo>
                <a:cubicBezTo>
                  <a:pt x="10341" y="4098"/>
                  <a:pt x="10352" y="4133"/>
                  <a:pt x="10352" y="4200"/>
                </a:cubicBezTo>
                <a:cubicBezTo>
                  <a:pt x="10352" y="4242"/>
                  <a:pt x="10375" y="4259"/>
                  <a:pt x="10385" y="4299"/>
                </a:cubicBezTo>
                <a:cubicBezTo>
                  <a:pt x="10430" y="4314"/>
                  <a:pt x="10425" y="4346"/>
                  <a:pt x="10484" y="4366"/>
                </a:cubicBezTo>
                <a:cubicBezTo>
                  <a:pt x="10537" y="4384"/>
                  <a:pt x="10497" y="4381"/>
                  <a:pt x="10550" y="4399"/>
                </a:cubicBezTo>
              </a:path>
              <a:path w="11543" h="2812">
                <a:moveTo>
                  <a:pt x="10749" y="3903"/>
                </a:moveTo>
                <a:cubicBezTo>
                  <a:pt x="10749" y="4002"/>
                  <a:pt x="10749" y="4101"/>
                  <a:pt x="10749" y="4200"/>
                </a:cubicBezTo>
                <a:cubicBezTo>
                  <a:pt x="10749" y="4131"/>
                  <a:pt x="10746" y="4134"/>
                  <a:pt x="10815" y="4134"/>
                </a:cubicBezTo>
                <a:cubicBezTo>
                  <a:pt x="10851" y="4134"/>
                  <a:pt x="10877" y="4167"/>
                  <a:pt x="10881" y="4200"/>
                </a:cubicBezTo>
                <a:cubicBezTo>
                  <a:pt x="10888" y="4253"/>
                  <a:pt x="10881" y="4312"/>
                  <a:pt x="10881" y="4366"/>
                </a:cubicBezTo>
                <a:cubicBezTo>
                  <a:pt x="10829" y="4366"/>
                  <a:pt x="10789" y="4387"/>
                  <a:pt x="10782" y="4333"/>
                </a:cubicBezTo>
                <a:cubicBezTo>
                  <a:pt x="10782" y="4322"/>
                  <a:pt x="10782" y="4310"/>
                  <a:pt x="10782" y="4299"/>
                </a:cubicBezTo>
              </a:path>
              <a:path w="11543" h="2812">
                <a:moveTo>
                  <a:pt x="11245" y="4266"/>
                </a:moveTo>
                <a:cubicBezTo>
                  <a:pt x="11245" y="4255"/>
                  <a:pt x="11245" y="4244"/>
                  <a:pt x="11245" y="4233"/>
                </a:cubicBezTo>
                <a:cubicBezTo>
                  <a:pt x="11316" y="4233"/>
                  <a:pt x="11351" y="4207"/>
                  <a:pt x="11410" y="4200"/>
                </a:cubicBezTo>
                <a:cubicBezTo>
                  <a:pt x="11518" y="4188"/>
                  <a:pt x="11632" y="4200"/>
                  <a:pt x="11741" y="4200"/>
                </a:cubicBezTo>
              </a:path>
              <a:path w="11543" h="2812">
                <a:moveTo>
                  <a:pt x="12138" y="4101"/>
                </a:moveTo>
                <a:cubicBezTo>
                  <a:pt x="12138" y="4090"/>
                  <a:pt x="12138" y="4079"/>
                  <a:pt x="12138" y="4068"/>
                </a:cubicBezTo>
                <a:cubicBezTo>
                  <a:pt x="12083" y="4082"/>
                  <a:pt x="12046" y="4106"/>
                  <a:pt x="12039" y="4167"/>
                </a:cubicBezTo>
                <a:cubicBezTo>
                  <a:pt x="12033" y="4221"/>
                  <a:pt x="12039" y="4279"/>
                  <a:pt x="12039" y="4333"/>
                </a:cubicBezTo>
                <a:cubicBezTo>
                  <a:pt x="12069" y="4333"/>
                  <a:pt x="12164" y="4319"/>
                  <a:pt x="12171" y="4299"/>
                </a:cubicBezTo>
                <a:cubicBezTo>
                  <a:pt x="12171" y="4277"/>
                  <a:pt x="12171" y="4255"/>
                  <a:pt x="12171" y="4233"/>
                </a:cubicBezTo>
                <a:cubicBezTo>
                  <a:pt x="12263" y="4218"/>
                  <a:pt x="12230" y="4220"/>
                  <a:pt x="12270" y="4167"/>
                </a:cubicBezTo>
                <a:cubicBezTo>
                  <a:pt x="12281" y="4156"/>
                  <a:pt x="12292" y="4145"/>
                  <a:pt x="12303" y="4134"/>
                </a:cubicBezTo>
                <a:cubicBezTo>
                  <a:pt x="12303" y="4218"/>
                  <a:pt x="12316" y="4292"/>
                  <a:pt x="12336" y="4333"/>
                </a:cubicBezTo>
                <a:cubicBezTo>
                  <a:pt x="12358" y="4378"/>
                  <a:pt x="12379" y="4413"/>
                  <a:pt x="12435" y="4432"/>
                </a:cubicBezTo>
                <a:cubicBezTo>
                  <a:pt x="12472" y="4444"/>
                  <a:pt x="12497" y="4456"/>
                  <a:pt x="12535" y="4465"/>
                </a:cubicBezTo>
              </a:path>
              <a:path w="11543" h="2812">
                <a:moveTo>
                  <a:pt x="12468" y="3770"/>
                </a:moveTo>
                <a:cubicBezTo>
                  <a:pt x="12506" y="3836"/>
                  <a:pt x="12562" y="3875"/>
                  <a:pt x="12601" y="3936"/>
                </a:cubicBezTo>
                <a:cubicBezTo>
                  <a:pt x="12648" y="4009"/>
                  <a:pt x="12671" y="4072"/>
                  <a:pt x="12733" y="4134"/>
                </a:cubicBezTo>
                <a:cubicBezTo>
                  <a:pt x="12769" y="4170"/>
                  <a:pt x="12786" y="4279"/>
                  <a:pt x="12799" y="4333"/>
                </a:cubicBezTo>
                <a:cubicBezTo>
                  <a:pt x="12813" y="4390"/>
                  <a:pt x="12832" y="4437"/>
                  <a:pt x="12832" y="4498"/>
                </a:cubicBezTo>
                <a:cubicBezTo>
                  <a:pt x="12832" y="4531"/>
                  <a:pt x="12832" y="4542"/>
                  <a:pt x="12832" y="4564"/>
                </a:cubicBezTo>
              </a:path>
              <a:path w="11543" h="2812">
                <a:moveTo>
                  <a:pt x="16173" y="4465"/>
                </a:moveTo>
                <a:cubicBezTo>
                  <a:pt x="16173" y="4194"/>
                  <a:pt x="16125" y="3849"/>
                  <a:pt x="16206" y="3605"/>
                </a:cubicBezTo>
                <a:cubicBezTo>
                  <a:pt x="16206" y="3594"/>
                  <a:pt x="16206" y="3583"/>
                  <a:pt x="16206" y="3572"/>
                </a:cubicBezTo>
                <a:cubicBezTo>
                  <a:pt x="16206" y="3512"/>
                  <a:pt x="16208" y="3604"/>
                  <a:pt x="16239" y="3638"/>
                </a:cubicBezTo>
                <a:cubicBezTo>
                  <a:pt x="16320" y="3725"/>
                  <a:pt x="16326" y="3837"/>
                  <a:pt x="16404" y="3936"/>
                </a:cubicBezTo>
                <a:cubicBezTo>
                  <a:pt x="16462" y="4010"/>
                  <a:pt x="16457" y="4035"/>
                  <a:pt x="16536" y="4035"/>
                </a:cubicBezTo>
                <a:cubicBezTo>
                  <a:pt x="16580" y="3978"/>
                  <a:pt x="16597" y="3946"/>
                  <a:pt x="16603" y="3870"/>
                </a:cubicBezTo>
                <a:cubicBezTo>
                  <a:pt x="16608" y="3807"/>
                  <a:pt x="16592" y="3787"/>
                  <a:pt x="16636" y="3737"/>
                </a:cubicBezTo>
                <a:cubicBezTo>
                  <a:pt x="16662" y="3708"/>
                  <a:pt x="16655" y="3616"/>
                  <a:pt x="16669" y="3605"/>
                </a:cubicBezTo>
                <a:cubicBezTo>
                  <a:pt x="16680" y="3605"/>
                  <a:pt x="16691" y="3605"/>
                  <a:pt x="16702" y="3605"/>
                </a:cubicBezTo>
                <a:cubicBezTo>
                  <a:pt x="16702" y="3745"/>
                  <a:pt x="16707" y="3870"/>
                  <a:pt x="16735" y="4002"/>
                </a:cubicBezTo>
                <a:cubicBezTo>
                  <a:pt x="16755" y="4096"/>
                  <a:pt x="16752" y="4206"/>
                  <a:pt x="16768" y="4299"/>
                </a:cubicBezTo>
                <a:cubicBezTo>
                  <a:pt x="16782" y="4379"/>
                  <a:pt x="16801" y="4447"/>
                  <a:pt x="16801" y="4531"/>
                </a:cubicBezTo>
                <a:cubicBezTo>
                  <a:pt x="16801" y="4586"/>
                  <a:pt x="16790" y="4608"/>
                  <a:pt x="16834" y="4597"/>
                </a:cubicBezTo>
              </a:path>
              <a:path w="11543" h="2812">
                <a:moveTo>
                  <a:pt x="17231" y="4068"/>
                </a:moveTo>
                <a:cubicBezTo>
                  <a:pt x="17199" y="4111"/>
                  <a:pt x="17191" y="4161"/>
                  <a:pt x="17165" y="4200"/>
                </a:cubicBezTo>
                <a:cubicBezTo>
                  <a:pt x="17127" y="4257"/>
                  <a:pt x="17089" y="4358"/>
                  <a:pt x="17066" y="4432"/>
                </a:cubicBezTo>
                <a:cubicBezTo>
                  <a:pt x="17029" y="4553"/>
                  <a:pt x="17090" y="4657"/>
                  <a:pt x="17132" y="4729"/>
                </a:cubicBezTo>
                <a:cubicBezTo>
                  <a:pt x="17155" y="4768"/>
                  <a:pt x="17171" y="4781"/>
                  <a:pt x="17231" y="4796"/>
                </a:cubicBezTo>
              </a:path>
              <a:path w="11543" h="2812">
                <a:moveTo>
                  <a:pt x="17363" y="4200"/>
                </a:moveTo>
                <a:cubicBezTo>
                  <a:pt x="17363" y="4410"/>
                  <a:pt x="17363" y="4973"/>
                  <a:pt x="17363" y="4763"/>
                </a:cubicBezTo>
                <a:cubicBezTo>
                  <a:pt x="17363" y="4704"/>
                  <a:pt x="17371" y="4696"/>
                  <a:pt x="17396" y="4663"/>
                </a:cubicBezTo>
                <a:cubicBezTo>
                  <a:pt x="17418" y="4634"/>
                  <a:pt x="17450" y="4571"/>
                  <a:pt x="17463" y="4564"/>
                </a:cubicBezTo>
                <a:cubicBezTo>
                  <a:pt x="17511" y="4540"/>
                  <a:pt x="17595" y="4568"/>
                  <a:pt x="17628" y="4597"/>
                </a:cubicBezTo>
                <a:cubicBezTo>
                  <a:pt x="17659" y="4625"/>
                  <a:pt x="17691" y="4723"/>
                  <a:pt x="17694" y="4729"/>
                </a:cubicBezTo>
                <a:cubicBezTo>
                  <a:pt x="17694" y="4763"/>
                  <a:pt x="17694" y="4774"/>
                  <a:pt x="17694" y="4796"/>
                </a:cubicBezTo>
                <a:cubicBezTo>
                  <a:pt x="17623" y="4796"/>
                  <a:pt x="17584" y="4804"/>
                  <a:pt x="17529" y="4763"/>
                </a:cubicBezTo>
              </a:path>
              <a:path w="11543" h="2812">
                <a:moveTo>
                  <a:pt x="17628" y="4465"/>
                </a:moveTo>
                <a:cubicBezTo>
                  <a:pt x="17639" y="4465"/>
                  <a:pt x="17650" y="4465"/>
                  <a:pt x="17661" y="4465"/>
                </a:cubicBezTo>
                <a:cubicBezTo>
                  <a:pt x="17687" y="4426"/>
                  <a:pt x="17701" y="4438"/>
                  <a:pt x="17727" y="4399"/>
                </a:cubicBezTo>
                <a:cubicBezTo>
                  <a:pt x="17793" y="4399"/>
                  <a:pt x="17860" y="4399"/>
                  <a:pt x="17926" y="4399"/>
                </a:cubicBezTo>
              </a:path>
              <a:path w="11543" h="2812">
                <a:moveTo>
                  <a:pt x="18587" y="4432"/>
                </a:moveTo>
                <a:cubicBezTo>
                  <a:pt x="18533" y="4432"/>
                  <a:pt x="18418" y="4407"/>
                  <a:pt x="18389" y="4465"/>
                </a:cubicBezTo>
                <a:cubicBezTo>
                  <a:pt x="18372" y="4500"/>
                  <a:pt x="18389" y="4590"/>
                  <a:pt x="18389" y="4630"/>
                </a:cubicBezTo>
                <a:cubicBezTo>
                  <a:pt x="18444" y="4630"/>
                  <a:pt x="18514" y="4653"/>
                  <a:pt x="18521" y="4597"/>
                </a:cubicBezTo>
                <a:cubicBezTo>
                  <a:pt x="18527" y="4546"/>
                  <a:pt x="18567" y="4559"/>
                  <a:pt x="18587" y="4498"/>
                </a:cubicBezTo>
                <a:cubicBezTo>
                  <a:pt x="18596" y="4472"/>
                  <a:pt x="18620" y="4359"/>
                  <a:pt x="18620" y="4432"/>
                </a:cubicBezTo>
                <a:cubicBezTo>
                  <a:pt x="18620" y="4513"/>
                  <a:pt x="18634" y="4558"/>
                  <a:pt x="18653" y="4597"/>
                </a:cubicBezTo>
                <a:cubicBezTo>
                  <a:pt x="18660" y="4610"/>
                  <a:pt x="18708" y="4719"/>
                  <a:pt x="18752" y="4663"/>
                </a:cubicBezTo>
                <a:cubicBezTo>
                  <a:pt x="18752" y="4652"/>
                  <a:pt x="18752" y="4641"/>
                  <a:pt x="18752" y="4630"/>
                </a:cubicBezTo>
              </a:path>
              <a:path w="11543" h="2812">
                <a:moveTo>
                  <a:pt x="18620" y="3870"/>
                </a:moveTo>
                <a:cubicBezTo>
                  <a:pt x="18620" y="3949"/>
                  <a:pt x="18672" y="3964"/>
                  <a:pt x="18686" y="4035"/>
                </a:cubicBezTo>
                <a:cubicBezTo>
                  <a:pt x="18698" y="4094"/>
                  <a:pt x="18717" y="4175"/>
                  <a:pt x="18752" y="4233"/>
                </a:cubicBezTo>
                <a:cubicBezTo>
                  <a:pt x="18816" y="4337"/>
                  <a:pt x="18760" y="4443"/>
                  <a:pt x="18785" y="4564"/>
                </a:cubicBezTo>
                <a:cubicBezTo>
                  <a:pt x="18805" y="4658"/>
                  <a:pt x="18818" y="4725"/>
                  <a:pt x="18818" y="4829"/>
                </a:cubicBezTo>
                <a:cubicBezTo>
                  <a:pt x="18818" y="4907"/>
                  <a:pt x="18850" y="5104"/>
                  <a:pt x="18785" y="512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Ink 6"/>
          <p:cNvSpPr/>
          <p:nvPr/>
        </p:nvSpPr>
        <p:spPr>
          <a:xfrm>
            <a:off x="2894040" y="2071800"/>
            <a:ext cx="119160" cy="155520"/>
          </a:xfrm>
          <a:custGeom>
            <a:avLst/>
            <a:gdLst/>
            <a:ahLst/>
            <a:rect l="l" t="t" r="r" b="b"/>
            <a:pathLst>
              <a:path w="331" h="431">
                <a:moveTo>
                  <a:pt x="8136" y="5755"/>
                </a:moveTo>
                <a:cubicBezTo>
                  <a:pt x="8103" y="5755"/>
                  <a:pt x="8092" y="5755"/>
                  <a:pt x="8070" y="5755"/>
                </a:cubicBezTo>
                <a:cubicBezTo>
                  <a:pt x="8070" y="5842"/>
                  <a:pt x="8045" y="5795"/>
                  <a:pt x="8037" y="5887"/>
                </a:cubicBezTo>
                <a:cubicBezTo>
                  <a:pt x="8030" y="5963"/>
                  <a:pt x="8021" y="6062"/>
                  <a:pt x="8070" y="6118"/>
                </a:cubicBezTo>
                <a:cubicBezTo>
                  <a:pt x="8100" y="6152"/>
                  <a:pt x="8159" y="6182"/>
                  <a:pt x="8202" y="6185"/>
                </a:cubicBezTo>
                <a:cubicBezTo>
                  <a:pt x="8256" y="6189"/>
                  <a:pt x="8313" y="6185"/>
                  <a:pt x="8367" y="6185"/>
                </a:cubicBezTo>
                <a:cubicBezTo>
                  <a:pt x="8367" y="6109"/>
                  <a:pt x="8354" y="6080"/>
                  <a:pt x="8334" y="6019"/>
                </a:cubicBezTo>
                <a:cubicBezTo>
                  <a:pt x="8320" y="5978"/>
                  <a:pt x="8326" y="5883"/>
                  <a:pt x="8301" y="5854"/>
                </a:cubicBezTo>
                <a:cubicBezTo>
                  <a:pt x="8270" y="5818"/>
                  <a:pt x="8209" y="5847"/>
                  <a:pt x="8202" y="5788"/>
                </a:cubicBezTo>
                <a:cubicBezTo>
                  <a:pt x="8202" y="5755"/>
                  <a:pt x="8202" y="5744"/>
                  <a:pt x="8169" y="5755"/>
                </a:cubicBezTo>
                <a:cubicBezTo>
                  <a:pt x="8242" y="5773"/>
                  <a:pt x="8236" y="5778"/>
                  <a:pt x="8334" y="578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Ink 7"/>
          <p:cNvSpPr/>
          <p:nvPr/>
        </p:nvSpPr>
        <p:spPr>
          <a:xfrm>
            <a:off x="3214800" y="2084400"/>
            <a:ext cx="23760" cy="177840"/>
          </a:xfrm>
          <a:custGeom>
            <a:avLst/>
            <a:gdLst/>
            <a:ahLst/>
            <a:rect l="l" t="t" r="r" b="b"/>
            <a:pathLst>
              <a:path w="67" h="497">
                <a:moveTo>
                  <a:pt x="8930" y="5788"/>
                </a:moveTo>
                <a:cubicBezTo>
                  <a:pt x="8930" y="5953"/>
                  <a:pt x="8930" y="6119"/>
                  <a:pt x="8930" y="6284"/>
                </a:cubicBezTo>
                <a:cubicBezTo>
                  <a:pt x="8963" y="6284"/>
                  <a:pt x="8974" y="6284"/>
                  <a:pt x="8996" y="628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Ink 8"/>
          <p:cNvSpPr/>
          <p:nvPr/>
        </p:nvSpPr>
        <p:spPr>
          <a:xfrm>
            <a:off x="690480" y="1608120"/>
            <a:ext cx="6215040" cy="5167440"/>
          </a:xfrm>
          <a:custGeom>
            <a:avLst/>
            <a:gdLst/>
            <a:ahLst/>
            <a:rect l="l" t="t" r="r" b="b"/>
            <a:pathLst>
              <a:path w="17265" h="14354">
                <a:moveTo>
                  <a:pt x="9260" y="10649"/>
                </a:moveTo>
                <a:cubicBezTo>
                  <a:pt x="9667" y="10649"/>
                  <a:pt x="10098" y="10648"/>
                  <a:pt x="10484" y="10616"/>
                </a:cubicBezTo>
                <a:cubicBezTo>
                  <a:pt x="10855" y="10585"/>
                  <a:pt x="11249" y="10621"/>
                  <a:pt x="11609" y="10649"/>
                </a:cubicBezTo>
                <a:cubicBezTo>
                  <a:pt x="11709" y="10657"/>
                  <a:pt x="11780" y="10662"/>
                  <a:pt x="11873" y="10683"/>
                </a:cubicBezTo>
                <a:cubicBezTo>
                  <a:pt x="11944" y="10699"/>
                  <a:pt x="11999" y="10698"/>
                  <a:pt x="12072" y="10716"/>
                </a:cubicBezTo>
                <a:cubicBezTo>
                  <a:pt x="12122" y="10728"/>
                  <a:pt x="12192" y="10744"/>
                  <a:pt x="12237" y="10749"/>
                </a:cubicBezTo>
                <a:cubicBezTo>
                  <a:pt x="12280" y="10753"/>
                  <a:pt x="12325" y="10746"/>
                  <a:pt x="12369" y="10749"/>
                </a:cubicBezTo>
                <a:cubicBezTo>
                  <a:pt x="12371" y="10750"/>
                  <a:pt x="12424" y="10777"/>
                  <a:pt x="12468" y="10782"/>
                </a:cubicBezTo>
                <a:cubicBezTo>
                  <a:pt x="12700" y="10806"/>
                  <a:pt x="12942" y="10767"/>
                  <a:pt x="13163" y="10749"/>
                </a:cubicBezTo>
                <a:cubicBezTo>
                  <a:pt x="13207" y="10745"/>
                  <a:pt x="13251" y="10752"/>
                  <a:pt x="13295" y="10749"/>
                </a:cubicBezTo>
                <a:cubicBezTo>
                  <a:pt x="13336" y="10733"/>
                  <a:pt x="13355" y="10734"/>
                  <a:pt x="13395" y="10716"/>
                </a:cubicBezTo>
                <a:cubicBezTo>
                  <a:pt x="13430" y="10700"/>
                  <a:pt x="13494" y="10660"/>
                  <a:pt x="13527" y="10649"/>
                </a:cubicBezTo>
                <a:cubicBezTo>
                  <a:pt x="13576" y="10633"/>
                  <a:pt x="13644" y="10636"/>
                  <a:pt x="13692" y="10616"/>
                </a:cubicBezTo>
                <a:cubicBezTo>
                  <a:pt x="13746" y="10593"/>
                  <a:pt x="13798" y="10557"/>
                  <a:pt x="13858" y="10550"/>
                </a:cubicBezTo>
                <a:cubicBezTo>
                  <a:pt x="14026" y="10531"/>
                  <a:pt x="14207" y="10571"/>
                  <a:pt x="14354" y="10583"/>
                </a:cubicBezTo>
                <a:cubicBezTo>
                  <a:pt x="14398" y="10587"/>
                  <a:pt x="14442" y="10580"/>
                  <a:pt x="14486" y="10583"/>
                </a:cubicBezTo>
                <a:cubicBezTo>
                  <a:pt x="14488" y="10584"/>
                  <a:pt x="14541" y="10611"/>
                  <a:pt x="14585" y="10616"/>
                </a:cubicBezTo>
                <a:cubicBezTo>
                  <a:pt x="14918" y="10650"/>
                  <a:pt x="15275" y="10616"/>
                  <a:pt x="15610" y="10616"/>
                </a:cubicBezTo>
                <a:cubicBezTo>
                  <a:pt x="15614" y="10617"/>
                  <a:pt x="15667" y="10642"/>
                  <a:pt x="15710" y="10649"/>
                </a:cubicBezTo>
                <a:cubicBezTo>
                  <a:pt x="15732" y="10649"/>
                  <a:pt x="15754" y="10649"/>
                  <a:pt x="15776" y="10649"/>
                </a:cubicBezTo>
                <a:cubicBezTo>
                  <a:pt x="15779" y="10650"/>
                  <a:pt x="15829" y="10678"/>
                  <a:pt x="15875" y="10683"/>
                </a:cubicBezTo>
                <a:cubicBezTo>
                  <a:pt x="16354" y="10734"/>
                  <a:pt x="17055" y="10683"/>
                  <a:pt x="17429" y="10683"/>
                </a:cubicBezTo>
              </a:path>
              <a:path w="17265" h="14354">
                <a:moveTo>
                  <a:pt x="1918" y="16636"/>
                </a:moveTo>
                <a:cubicBezTo>
                  <a:pt x="2628" y="16636"/>
                  <a:pt x="3330" y="16648"/>
                  <a:pt x="4002" y="16735"/>
                </a:cubicBezTo>
                <a:cubicBezTo>
                  <a:pt x="4073" y="16744"/>
                  <a:pt x="4131" y="16757"/>
                  <a:pt x="4200" y="16768"/>
                </a:cubicBezTo>
                <a:cubicBezTo>
                  <a:pt x="4281" y="16781"/>
                  <a:pt x="4348" y="16795"/>
                  <a:pt x="4432" y="16801"/>
                </a:cubicBezTo>
                <a:cubicBezTo>
                  <a:pt x="4778" y="16825"/>
                  <a:pt x="5119" y="16780"/>
                  <a:pt x="5457" y="16768"/>
                </a:cubicBezTo>
                <a:cubicBezTo>
                  <a:pt x="5739" y="16758"/>
                  <a:pt x="5986" y="16713"/>
                  <a:pt x="6251" y="16669"/>
                </a:cubicBezTo>
                <a:cubicBezTo>
                  <a:pt x="6314" y="16659"/>
                  <a:pt x="6360" y="16645"/>
                  <a:pt x="6416" y="16636"/>
                </a:cubicBezTo>
                <a:cubicBezTo>
                  <a:pt x="6502" y="16622"/>
                  <a:pt x="6607" y="16617"/>
                  <a:pt x="6681" y="16603"/>
                </a:cubicBezTo>
                <a:cubicBezTo>
                  <a:pt x="6813" y="16579"/>
                  <a:pt x="6945" y="16556"/>
                  <a:pt x="7078" y="16536"/>
                </a:cubicBezTo>
                <a:cubicBezTo>
                  <a:pt x="7267" y="16508"/>
                  <a:pt x="7454" y="16466"/>
                  <a:pt x="7640" y="16437"/>
                </a:cubicBezTo>
                <a:cubicBezTo>
                  <a:pt x="8318" y="16333"/>
                  <a:pt x="9046" y="16411"/>
                  <a:pt x="9723" y="16437"/>
                </a:cubicBezTo>
                <a:cubicBezTo>
                  <a:pt x="10652" y="16473"/>
                  <a:pt x="11589" y="16374"/>
                  <a:pt x="12502" y="16536"/>
                </a:cubicBezTo>
                <a:cubicBezTo>
                  <a:pt x="12715" y="16574"/>
                  <a:pt x="12944" y="16622"/>
                  <a:pt x="13163" y="16636"/>
                </a:cubicBezTo>
                <a:cubicBezTo>
                  <a:pt x="14909" y="16748"/>
                  <a:pt x="17703" y="16636"/>
                  <a:pt x="18852" y="16636"/>
                </a:cubicBezTo>
              </a:path>
              <a:path w="17265" h="14354">
                <a:moveTo>
                  <a:pt x="13064" y="8169"/>
                </a:moveTo>
                <a:cubicBezTo>
                  <a:pt x="13074" y="8217"/>
                  <a:pt x="13086" y="8250"/>
                  <a:pt x="13097" y="8301"/>
                </a:cubicBezTo>
                <a:cubicBezTo>
                  <a:pt x="13110" y="8361"/>
                  <a:pt x="13126" y="8357"/>
                  <a:pt x="13130" y="8401"/>
                </a:cubicBezTo>
                <a:cubicBezTo>
                  <a:pt x="13136" y="8472"/>
                  <a:pt x="13158" y="8574"/>
                  <a:pt x="13163" y="8599"/>
                </a:cubicBezTo>
                <a:cubicBezTo>
                  <a:pt x="13176" y="8666"/>
                  <a:pt x="13194" y="8728"/>
                  <a:pt x="13196" y="8764"/>
                </a:cubicBezTo>
                <a:cubicBezTo>
                  <a:pt x="13203" y="8862"/>
                  <a:pt x="13223" y="8983"/>
                  <a:pt x="13229" y="9062"/>
                </a:cubicBezTo>
                <a:cubicBezTo>
                  <a:pt x="13235" y="9136"/>
                  <a:pt x="13258" y="9237"/>
                  <a:pt x="13262" y="9293"/>
                </a:cubicBezTo>
                <a:cubicBezTo>
                  <a:pt x="13288" y="9645"/>
                  <a:pt x="13268" y="9977"/>
                  <a:pt x="13328" y="10319"/>
                </a:cubicBezTo>
                <a:cubicBezTo>
                  <a:pt x="13343" y="10402"/>
                  <a:pt x="13354" y="10458"/>
                  <a:pt x="13361" y="10550"/>
                </a:cubicBezTo>
                <a:cubicBezTo>
                  <a:pt x="13382" y="10821"/>
                  <a:pt x="13382" y="11117"/>
                  <a:pt x="13395" y="11377"/>
                </a:cubicBezTo>
                <a:cubicBezTo>
                  <a:pt x="13403" y="11528"/>
                  <a:pt x="13402" y="11660"/>
                  <a:pt x="13428" y="11807"/>
                </a:cubicBezTo>
                <a:cubicBezTo>
                  <a:pt x="13455" y="11964"/>
                  <a:pt x="13458" y="12108"/>
                  <a:pt x="13461" y="12270"/>
                </a:cubicBezTo>
                <a:cubicBezTo>
                  <a:pt x="13475" y="13182"/>
                  <a:pt x="13494" y="14124"/>
                  <a:pt x="13395" y="15015"/>
                </a:cubicBezTo>
                <a:cubicBezTo>
                  <a:pt x="13380" y="15154"/>
                  <a:pt x="13357" y="15244"/>
                  <a:pt x="13328" y="15379"/>
                </a:cubicBezTo>
                <a:cubicBezTo>
                  <a:pt x="13297" y="15521"/>
                  <a:pt x="13285" y="15664"/>
                  <a:pt x="13262" y="15809"/>
                </a:cubicBezTo>
                <a:cubicBezTo>
                  <a:pt x="13248" y="15900"/>
                  <a:pt x="13251" y="15985"/>
                  <a:pt x="13229" y="16073"/>
                </a:cubicBezTo>
                <a:cubicBezTo>
                  <a:pt x="13204" y="16177"/>
                  <a:pt x="13180" y="16263"/>
                  <a:pt x="13163" y="16371"/>
                </a:cubicBezTo>
                <a:cubicBezTo>
                  <a:pt x="13147" y="16472"/>
                  <a:pt x="13144" y="16570"/>
                  <a:pt x="13130" y="16669"/>
                </a:cubicBezTo>
                <a:cubicBezTo>
                  <a:pt x="13121" y="16735"/>
                  <a:pt x="13109" y="16832"/>
                  <a:pt x="13097" y="16900"/>
                </a:cubicBezTo>
                <a:cubicBezTo>
                  <a:pt x="13084" y="16978"/>
                  <a:pt x="13076" y="17051"/>
                  <a:pt x="13064" y="17132"/>
                </a:cubicBezTo>
                <a:cubicBezTo>
                  <a:pt x="13056" y="17187"/>
                  <a:pt x="13036" y="17259"/>
                  <a:pt x="13031" y="17330"/>
                </a:cubicBezTo>
                <a:cubicBezTo>
                  <a:pt x="13000" y="17784"/>
                  <a:pt x="13144" y="18435"/>
                  <a:pt x="12998" y="18818"/>
                </a:cubicBezTo>
                <a:cubicBezTo>
                  <a:pt x="12987" y="18818"/>
                  <a:pt x="12976" y="18818"/>
                  <a:pt x="12965" y="18818"/>
                </a:cubicBezTo>
              </a:path>
              <a:path w="17265" h="14354">
                <a:moveTo>
                  <a:pt x="9227" y="16669"/>
                </a:moveTo>
                <a:cubicBezTo>
                  <a:pt x="9223" y="16620"/>
                  <a:pt x="9198" y="16571"/>
                  <a:pt x="9194" y="16536"/>
                </a:cubicBezTo>
                <a:cubicBezTo>
                  <a:pt x="9184" y="16450"/>
                  <a:pt x="9169" y="16342"/>
                  <a:pt x="9161" y="16272"/>
                </a:cubicBezTo>
                <a:cubicBezTo>
                  <a:pt x="9153" y="16196"/>
                  <a:pt x="9135" y="16100"/>
                  <a:pt x="9128" y="16040"/>
                </a:cubicBezTo>
                <a:cubicBezTo>
                  <a:pt x="9124" y="16007"/>
                  <a:pt x="9131" y="15974"/>
                  <a:pt x="9128" y="15941"/>
                </a:cubicBezTo>
                <a:cubicBezTo>
                  <a:pt x="9122" y="15924"/>
                  <a:pt x="9097" y="15900"/>
                  <a:pt x="9095" y="15842"/>
                </a:cubicBezTo>
                <a:cubicBezTo>
                  <a:pt x="9063" y="15072"/>
                  <a:pt x="9133" y="14285"/>
                  <a:pt x="9062" y="13527"/>
                </a:cubicBezTo>
                <a:cubicBezTo>
                  <a:pt x="9057" y="13472"/>
                  <a:pt x="9066" y="13416"/>
                  <a:pt x="9062" y="13361"/>
                </a:cubicBezTo>
                <a:cubicBezTo>
                  <a:pt x="9057" y="13350"/>
                  <a:pt x="9002" y="13245"/>
                  <a:pt x="8996" y="13196"/>
                </a:cubicBezTo>
                <a:cubicBezTo>
                  <a:pt x="8979" y="13067"/>
                  <a:pt x="8977" y="12922"/>
                  <a:pt x="8963" y="12799"/>
                </a:cubicBezTo>
                <a:cubicBezTo>
                  <a:pt x="8922" y="12427"/>
                  <a:pt x="8957" y="11993"/>
                  <a:pt x="8996" y="11642"/>
                </a:cubicBezTo>
                <a:cubicBezTo>
                  <a:pt x="8996" y="11598"/>
                  <a:pt x="8996" y="11575"/>
                  <a:pt x="8996" y="11542"/>
                </a:cubicBezTo>
                <a:cubicBezTo>
                  <a:pt x="8997" y="11540"/>
                  <a:pt x="9018" y="11498"/>
                  <a:pt x="9029" y="11476"/>
                </a:cubicBezTo>
                <a:cubicBezTo>
                  <a:pt x="9036" y="11456"/>
                  <a:pt x="9058" y="11436"/>
                  <a:pt x="9062" y="11377"/>
                </a:cubicBezTo>
                <a:cubicBezTo>
                  <a:pt x="9062" y="11366"/>
                  <a:pt x="9062" y="11355"/>
                  <a:pt x="9062" y="11344"/>
                </a:cubicBezTo>
                <a:cubicBezTo>
                  <a:pt x="9073" y="11325"/>
                  <a:pt x="9138" y="11259"/>
                  <a:pt x="9161" y="11212"/>
                </a:cubicBezTo>
                <a:cubicBezTo>
                  <a:pt x="9179" y="11174"/>
                  <a:pt x="9177" y="11118"/>
                  <a:pt x="9194" y="11079"/>
                </a:cubicBezTo>
                <a:cubicBezTo>
                  <a:pt x="9194" y="11041"/>
                  <a:pt x="9197" y="11027"/>
                  <a:pt x="9227" y="11013"/>
                </a:cubicBezTo>
              </a:path>
              <a:path w="17265" h="14354">
                <a:moveTo>
                  <a:pt x="9095" y="10451"/>
                </a:moveTo>
                <a:cubicBezTo>
                  <a:pt x="9095" y="10602"/>
                  <a:pt x="9107" y="10735"/>
                  <a:pt x="9128" y="10881"/>
                </a:cubicBezTo>
                <a:cubicBezTo>
                  <a:pt x="9142" y="10981"/>
                  <a:pt x="9184" y="11077"/>
                  <a:pt x="9194" y="11179"/>
                </a:cubicBezTo>
                <a:cubicBezTo>
                  <a:pt x="9203" y="11273"/>
                  <a:pt x="9215" y="11352"/>
                  <a:pt x="9227" y="11443"/>
                </a:cubicBezTo>
                <a:cubicBezTo>
                  <a:pt x="9235" y="11502"/>
                  <a:pt x="9253" y="11551"/>
                  <a:pt x="9260" y="11609"/>
                </a:cubicBezTo>
                <a:cubicBezTo>
                  <a:pt x="9268" y="11676"/>
                  <a:pt x="9283" y="11716"/>
                  <a:pt x="9293" y="11774"/>
                </a:cubicBezTo>
                <a:cubicBezTo>
                  <a:pt x="9304" y="11841"/>
                  <a:pt x="9316" y="11909"/>
                  <a:pt x="9327" y="11972"/>
                </a:cubicBezTo>
                <a:cubicBezTo>
                  <a:pt x="9338" y="12037"/>
                  <a:pt x="9352" y="12072"/>
                  <a:pt x="9360" y="12138"/>
                </a:cubicBezTo>
                <a:cubicBezTo>
                  <a:pt x="9373" y="12242"/>
                  <a:pt x="9359" y="12349"/>
                  <a:pt x="9327" y="12402"/>
                </a:cubicBezTo>
              </a:path>
              <a:path w="17265" h="14354">
                <a:moveTo>
                  <a:pt x="9128" y="10749"/>
                </a:moveTo>
                <a:cubicBezTo>
                  <a:pt x="9466" y="10749"/>
                  <a:pt x="9829" y="10717"/>
                  <a:pt x="10153" y="10782"/>
                </a:cubicBezTo>
                <a:cubicBezTo>
                  <a:pt x="10242" y="10800"/>
                  <a:pt x="10336" y="10840"/>
                  <a:pt x="10418" y="10848"/>
                </a:cubicBezTo>
                <a:cubicBezTo>
                  <a:pt x="10714" y="10877"/>
                  <a:pt x="11036" y="10835"/>
                  <a:pt x="11311" y="10815"/>
                </a:cubicBezTo>
                <a:cubicBezTo>
                  <a:pt x="11411" y="10808"/>
                  <a:pt x="11486" y="10790"/>
                  <a:pt x="11576" y="10782"/>
                </a:cubicBezTo>
                <a:cubicBezTo>
                  <a:pt x="11682" y="10773"/>
                  <a:pt x="11745" y="10768"/>
                  <a:pt x="11840" y="10749"/>
                </a:cubicBezTo>
                <a:cubicBezTo>
                  <a:pt x="11906" y="10736"/>
                  <a:pt x="12014" y="10688"/>
                  <a:pt x="12072" y="10683"/>
                </a:cubicBezTo>
                <a:cubicBezTo>
                  <a:pt x="12138" y="10677"/>
                  <a:pt x="12222" y="10654"/>
                  <a:pt x="12270" y="10649"/>
                </a:cubicBezTo>
                <a:cubicBezTo>
                  <a:pt x="12340" y="10642"/>
                  <a:pt x="12480" y="10618"/>
                  <a:pt x="12502" y="10616"/>
                </a:cubicBezTo>
                <a:cubicBezTo>
                  <a:pt x="12646" y="10602"/>
                  <a:pt x="12838" y="10628"/>
                  <a:pt x="12932" y="10649"/>
                </a:cubicBezTo>
                <a:cubicBezTo>
                  <a:pt x="13019" y="10668"/>
                  <a:pt x="13018" y="10673"/>
                  <a:pt x="13097" y="10716"/>
                </a:cubicBezTo>
                <a:cubicBezTo>
                  <a:pt x="13128" y="10733"/>
                  <a:pt x="13185" y="10776"/>
                  <a:pt x="13196" y="10782"/>
                </a:cubicBezTo>
                <a:cubicBezTo>
                  <a:pt x="13230" y="10800"/>
                  <a:pt x="13344" y="10840"/>
                  <a:pt x="13361" y="10881"/>
                </a:cubicBezTo>
                <a:cubicBezTo>
                  <a:pt x="13513" y="11246"/>
                  <a:pt x="13400" y="12249"/>
                  <a:pt x="13328" y="12634"/>
                </a:cubicBezTo>
                <a:cubicBezTo>
                  <a:pt x="13315" y="12703"/>
                  <a:pt x="13302" y="12759"/>
                  <a:pt x="13295" y="12832"/>
                </a:cubicBezTo>
                <a:cubicBezTo>
                  <a:pt x="13275" y="13048"/>
                  <a:pt x="13276" y="13286"/>
                  <a:pt x="13262" y="13494"/>
                </a:cubicBezTo>
                <a:cubicBezTo>
                  <a:pt x="13235" y="13897"/>
                  <a:pt x="13255" y="14333"/>
                  <a:pt x="13229" y="14717"/>
                </a:cubicBezTo>
                <a:cubicBezTo>
                  <a:pt x="13219" y="14863"/>
                  <a:pt x="13204" y="15086"/>
                  <a:pt x="13196" y="15180"/>
                </a:cubicBezTo>
                <a:cubicBezTo>
                  <a:pt x="13193" y="15223"/>
                  <a:pt x="13203" y="15270"/>
                  <a:pt x="13196" y="15313"/>
                </a:cubicBezTo>
                <a:cubicBezTo>
                  <a:pt x="13149" y="15298"/>
                  <a:pt x="13109" y="15298"/>
                  <a:pt x="13064" y="15280"/>
                </a:cubicBezTo>
                <a:cubicBezTo>
                  <a:pt x="12977" y="15245"/>
                  <a:pt x="12923" y="15234"/>
                  <a:pt x="12832" y="15214"/>
                </a:cubicBezTo>
                <a:cubicBezTo>
                  <a:pt x="12761" y="15198"/>
                  <a:pt x="12708" y="15196"/>
                  <a:pt x="12634" y="15180"/>
                </a:cubicBezTo>
                <a:cubicBezTo>
                  <a:pt x="12580" y="15168"/>
                  <a:pt x="12535" y="15153"/>
                  <a:pt x="12468" y="15147"/>
                </a:cubicBezTo>
                <a:cubicBezTo>
                  <a:pt x="12375" y="15138"/>
                  <a:pt x="12283" y="15127"/>
                  <a:pt x="12204" y="15114"/>
                </a:cubicBezTo>
                <a:cubicBezTo>
                  <a:pt x="12076" y="15092"/>
                  <a:pt x="11936" y="15074"/>
                  <a:pt x="11807" y="15048"/>
                </a:cubicBezTo>
                <a:cubicBezTo>
                  <a:pt x="11581" y="15002"/>
                  <a:pt x="11319" y="15036"/>
                  <a:pt x="11146" y="15048"/>
                </a:cubicBezTo>
                <a:cubicBezTo>
                  <a:pt x="11064" y="15054"/>
                  <a:pt x="11012" y="15065"/>
                  <a:pt x="10947" y="15081"/>
                </a:cubicBezTo>
                <a:cubicBezTo>
                  <a:pt x="10889" y="15095"/>
                  <a:pt x="10874" y="15137"/>
                  <a:pt x="10815" y="15147"/>
                </a:cubicBezTo>
                <a:cubicBezTo>
                  <a:pt x="10721" y="15163"/>
                  <a:pt x="10632" y="15159"/>
                  <a:pt x="10550" y="15180"/>
                </a:cubicBezTo>
                <a:cubicBezTo>
                  <a:pt x="10481" y="15197"/>
                  <a:pt x="10421" y="15226"/>
                  <a:pt x="10352" y="15247"/>
                </a:cubicBezTo>
                <a:cubicBezTo>
                  <a:pt x="10333" y="15253"/>
                  <a:pt x="10250" y="15268"/>
                  <a:pt x="10186" y="15280"/>
                </a:cubicBezTo>
                <a:cubicBezTo>
                  <a:pt x="10112" y="15294"/>
                  <a:pt x="10050" y="15330"/>
                  <a:pt x="9988" y="15346"/>
                </a:cubicBezTo>
                <a:cubicBezTo>
                  <a:pt x="9930" y="15361"/>
                  <a:pt x="9846" y="15374"/>
                  <a:pt x="9790" y="15379"/>
                </a:cubicBezTo>
                <a:cubicBezTo>
                  <a:pt x="9606" y="15397"/>
                  <a:pt x="9412" y="15379"/>
                  <a:pt x="9227" y="15379"/>
                </a:cubicBezTo>
                <a:cubicBezTo>
                  <a:pt x="9219" y="15336"/>
                  <a:pt x="9198" y="15324"/>
                  <a:pt x="9194" y="15280"/>
                </a:cubicBezTo>
                <a:cubicBezTo>
                  <a:pt x="9110" y="14435"/>
                  <a:pt x="8816" y="11365"/>
                  <a:pt x="9293" y="10782"/>
                </a:cubicBezTo>
              </a:path>
              <a:path w="17265" h="14354">
                <a:moveTo>
                  <a:pt x="17231" y="10120"/>
                </a:moveTo>
                <a:cubicBezTo>
                  <a:pt x="17110" y="10111"/>
                  <a:pt x="16987" y="10103"/>
                  <a:pt x="16867" y="10087"/>
                </a:cubicBezTo>
                <a:cubicBezTo>
                  <a:pt x="16663" y="10060"/>
                  <a:pt x="16478" y="10054"/>
                  <a:pt x="16272" y="10054"/>
                </a:cubicBezTo>
                <a:cubicBezTo>
                  <a:pt x="16166" y="10054"/>
                  <a:pt x="16095" y="10060"/>
                  <a:pt x="16007" y="10087"/>
                </a:cubicBezTo>
                <a:cubicBezTo>
                  <a:pt x="15912" y="10116"/>
                  <a:pt x="15864" y="10161"/>
                  <a:pt x="15776" y="10220"/>
                </a:cubicBezTo>
                <a:cubicBezTo>
                  <a:pt x="15714" y="10261"/>
                  <a:pt x="15678" y="10293"/>
                  <a:pt x="15643" y="10352"/>
                </a:cubicBezTo>
                <a:cubicBezTo>
                  <a:pt x="15589" y="10442"/>
                  <a:pt x="15614" y="10498"/>
                  <a:pt x="15577" y="10583"/>
                </a:cubicBezTo>
                <a:cubicBezTo>
                  <a:pt x="15547" y="10652"/>
                  <a:pt x="15493" y="10702"/>
                  <a:pt x="15478" y="10782"/>
                </a:cubicBezTo>
                <a:cubicBezTo>
                  <a:pt x="15461" y="10873"/>
                  <a:pt x="15449" y="10950"/>
                  <a:pt x="15445" y="11046"/>
                </a:cubicBezTo>
                <a:cubicBezTo>
                  <a:pt x="15441" y="11140"/>
                  <a:pt x="15460" y="11234"/>
                  <a:pt x="15478" y="11278"/>
                </a:cubicBezTo>
                <a:cubicBezTo>
                  <a:pt x="15509" y="11355"/>
                  <a:pt x="15521" y="11357"/>
                  <a:pt x="15577" y="11410"/>
                </a:cubicBezTo>
                <a:cubicBezTo>
                  <a:pt x="15625" y="11455"/>
                  <a:pt x="15661" y="11482"/>
                  <a:pt x="15710" y="11509"/>
                </a:cubicBezTo>
                <a:cubicBezTo>
                  <a:pt x="15749" y="11530"/>
                  <a:pt x="15801" y="11596"/>
                  <a:pt x="15842" y="11609"/>
                </a:cubicBezTo>
                <a:cubicBezTo>
                  <a:pt x="15937" y="11638"/>
                  <a:pt x="16074" y="11640"/>
                  <a:pt x="16173" y="11642"/>
                </a:cubicBezTo>
                <a:cubicBezTo>
                  <a:pt x="16362" y="11647"/>
                  <a:pt x="16634" y="11634"/>
                  <a:pt x="16768" y="11609"/>
                </a:cubicBezTo>
                <a:cubicBezTo>
                  <a:pt x="16852" y="11593"/>
                  <a:pt x="16856" y="11562"/>
                  <a:pt x="16933" y="11509"/>
                </a:cubicBezTo>
                <a:cubicBezTo>
                  <a:pt x="17025" y="11447"/>
                  <a:pt x="17114" y="11382"/>
                  <a:pt x="17198" y="11311"/>
                </a:cubicBezTo>
                <a:cubicBezTo>
                  <a:pt x="17286" y="11237"/>
                  <a:pt x="17303" y="11149"/>
                  <a:pt x="17363" y="11079"/>
                </a:cubicBezTo>
                <a:cubicBezTo>
                  <a:pt x="17412" y="11022"/>
                  <a:pt x="17563" y="10913"/>
                  <a:pt x="17595" y="10848"/>
                </a:cubicBezTo>
                <a:cubicBezTo>
                  <a:pt x="17622" y="10795"/>
                  <a:pt x="17632" y="10751"/>
                  <a:pt x="17661" y="10683"/>
                </a:cubicBezTo>
                <a:cubicBezTo>
                  <a:pt x="17683" y="10632"/>
                  <a:pt x="17717" y="10607"/>
                  <a:pt x="17727" y="10550"/>
                </a:cubicBezTo>
                <a:cubicBezTo>
                  <a:pt x="17736" y="10495"/>
                  <a:pt x="17722" y="10424"/>
                  <a:pt x="17694" y="10385"/>
                </a:cubicBezTo>
                <a:cubicBezTo>
                  <a:pt x="17631" y="10297"/>
                  <a:pt x="17571" y="10231"/>
                  <a:pt x="17463" y="10186"/>
                </a:cubicBezTo>
                <a:cubicBezTo>
                  <a:pt x="17313" y="10123"/>
                  <a:pt x="17194" y="10092"/>
                  <a:pt x="17033" y="10087"/>
                </a:cubicBezTo>
                <a:cubicBezTo>
                  <a:pt x="16885" y="10082"/>
                  <a:pt x="16744" y="10078"/>
                  <a:pt x="16603" y="10120"/>
                </a:cubicBezTo>
                <a:cubicBezTo>
                  <a:pt x="16455" y="10164"/>
                  <a:pt x="16313" y="10225"/>
                  <a:pt x="16173" y="10286"/>
                </a:cubicBezTo>
                <a:cubicBezTo>
                  <a:pt x="16094" y="10321"/>
                  <a:pt x="16108" y="10325"/>
                  <a:pt x="16073" y="10352"/>
                </a:cubicBezTo>
              </a:path>
              <a:path w="17265" h="14354">
                <a:moveTo>
                  <a:pt x="16107" y="5192"/>
                </a:moveTo>
                <a:cubicBezTo>
                  <a:pt x="16234" y="5178"/>
                  <a:pt x="16334" y="5161"/>
                  <a:pt x="16470" y="5159"/>
                </a:cubicBezTo>
                <a:cubicBezTo>
                  <a:pt x="16847" y="5153"/>
                  <a:pt x="17193" y="5081"/>
                  <a:pt x="17562" y="5027"/>
                </a:cubicBezTo>
                <a:cubicBezTo>
                  <a:pt x="17804" y="4992"/>
                  <a:pt x="18046" y="4968"/>
                  <a:pt x="18289" y="4961"/>
                </a:cubicBezTo>
                <a:cubicBezTo>
                  <a:pt x="18586" y="4952"/>
                  <a:pt x="18885" y="4961"/>
                  <a:pt x="19182" y="4961"/>
                </a:cubicBezTo>
                <a:cubicBezTo>
                  <a:pt x="19107" y="4984"/>
                  <a:pt x="19003" y="5021"/>
                  <a:pt x="18918" y="5027"/>
                </a:cubicBezTo>
                <a:cubicBezTo>
                  <a:pt x="18531" y="5056"/>
                  <a:pt x="18148" y="5009"/>
                  <a:pt x="17760" y="5060"/>
                </a:cubicBezTo>
                <a:cubicBezTo>
                  <a:pt x="17389" y="5109"/>
                  <a:pt x="17043" y="5260"/>
                  <a:pt x="16669" y="5292"/>
                </a:cubicBezTo>
                <a:cubicBezTo>
                  <a:pt x="16571" y="5300"/>
                  <a:pt x="16469" y="5292"/>
                  <a:pt x="16371" y="5292"/>
                </a:cubicBezTo>
                <a:cubicBezTo>
                  <a:pt x="16692" y="5292"/>
                  <a:pt x="16978" y="5263"/>
                  <a:pt x="17297" y="5226"/>
                </a:cubicBezTo>
                <a:cubicBezTo>
                  <a:pt x="17793" y="5169"/>
                  <a:pt x="18288" y="5121"/>
                  <a:pt x="18785" y="5093"/>
                </a:cubicBezTo>
                <a:cubicBezTo>
                  <a:pt x="18818" y="5093"/>
                  <a:pt x="18852" y="5093"/>
                  <a:pt x="18885" y="5093"/>
                </a:cubicBezTo>
                <a:cubicBezTo>
                  <a:pt x="18481" y="5037"/>
                  <a:pt x="18065" y="4930"/>
                  <a:pt x="17661" y="4895"/>
                </a:cubicBezTo>
                <a:cubicBezTo>
                  <a:pt x="17184" y="4854"/>
                  <a:pt x="16686" y="4895"/>
                  <a:pt x="16206" y="4895"/>
                </a:cubicBezTo>
                <a:cubicBezTo>
                  <a:pt x="16331" y="4911"/>
                  <a:pt x="16436" y="4928"/>
                  <a:pt x="16570" y="4928"/>
                </a:cubicBezTo>
                <a:cubicBezTo>
                  <a:pt x="16912" y="4928"/>
                  <a:pt x="17422" y="4825"/>
                  <a:pt x="17727" y="4961"/>
                </a:cubicBezTo>
                <a:cubicBezTo>
                  <a:pt x="17749" y="4972"/>
                  <a:pt x="17771" y="4983"/>
                  <a:pt x="17793" y="4994"/>
                </a:cubicBezTo>
                <a:cubicBezTo>
                  <a:pt x="17496" y="4994"/>
                  <a:pt x="16491" y="4853"/>
                  <a:pt x="16338" y="5027"/>
                </a:cubicBezTo>
                <a:cubicBezTo>
                  <a:pt x="16295" y="5076"/>
                  <a:pt x="16395" y="5057"/>
                  <a:pt x="16404" y="5060"/>
                </a:cubicBezTo>
                <a:cubicBezTo>
                  <a:pt x="16795" y="5084"/>
                  <a:pt x="17166" y="5123"/>
                  <a:pt x="17562" y="5126"/>
                </a:cubicBezTo>
                <a:cubicBezTo>
                  <a:pt x="17970" y="5129"/>
                  <a:pt x="19127" y="5126"/>
                  <a:pt x="18719" y="5126"/>
                </a:cubicBezTo>
                <a:cubicBezTo>
                  <a:pt x="18686" y="5126"/>
                  <a:pt x="18675" y="5126"/>
                  <a:pt x="18653" y="5126"/>
                </a:cubicBezTo>
              </a:path>
              <a:path w="17265" h="14354">
                <a:moveTo>
                  <a:pt x="9393" y="4465"/>
                </a:moveTo>
                <a:cubicBezTo>
                  <a:pt x="9701" y="4465"/>
                  <a:pt x="10014" y="4489"/>
                  <a:pt x="10319" y="4531"/>
                </a:cubicBezTo>
                <a:cubicBezTo>
                  <a:pt x="10911" y="4612"/>
                  <a:pt x="11509" y="4789"/>
                  <a:pt x="12105" y="4829"/>
                </a:cubicBezTo>
                <a:cubicBezTo>
                  <a:pt x="12259" y="4839"/>
                  <a:pt x="12348" y="4829"/>
                  <a:pt x="12502" y="4829"/>
                </a:cubicBezTo>
                <a:cubicBezTo>
                  <a:pt x="11620" y="4829"/>
                  <a:pt x="10738" y="4829"/>
                  <a:pt x="9856" y="4829"/>
                </a:cubicBezTo>
                <a:cubicBezTo>
                  <a:pt x="9496" y="4829"/>
                  <a:pt x="9556" y="4829"/>
                  <a:pt x="9889" y="4829"/>
                </a:cubicBezTo>
                <a:cubicBezTo>
                  <a:pt x="10724" y="4829"/>
                  <a:pt x="11573" y="4871"/>
                  <a:pt x="12402" y="4796"/>
                </a:cubicBezTo>
                <a:cubicBezTo>
                  <a:pt x="12413" y="4796"/>
                  <a:pt x="12424" y="4796"/>
                  <a:pt x="12435" y="4796"/>
                </a:cubicBezTo>
                <a:cubicBezTo>
                  <a:pt x="11807" y="4796"/>
                  <a:pt x="9980" y="4938"/>
                  <a:pt x="10583" y="4763"/>
                </a:cubicBezTo>
                <a:cubicBezTo>
                  <a:pt x="10847" y="4686"/>
                  <a:pt x="11211" y="4674"/>
                  <a:pt x="11476" y="4663"/>
                </a:cubicBezTo>
                <a:cubicBezTo>
                  <a:pt x="11808" y="4663"/>
                  <a:pt x="11918" y="4663"/>
                  <a:pt x="12138" y="4630"/>
                </a:cubicBezTo>
                <a:cubicBezTo>
                  <a:pt x="12297" y="4550"/>
                  <a:pt x="12122" y="4616"/>
                  <a:pt x="12105" y="4630"/>
                </a:cubicBezTo>
                <a:cubicBezTo>
                  <a:pt x="11984" y="4727"/>
                  <a:pt x="11867" y="4696"/>
                  <a:pt x="11708" y="4696"/>
                </a:cubicBezTo>
                <a:cubicBezTo>
                  <a:pt x="11303" y="4696"/>
                  <a:pt x="10892" y="4687"/>
                  <a:pt x="10517" y="4763"/>
                </a:cubicBezTo>
                <a:cubicBezTo>
                  <a:pt x="10495" y="4763"/>
                  <a:pt x="10473" y="4763"/>
                  <a:pt x="10451" y="476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Ink 9"/>
          <p:cNvSpPr/>
          <p:nvPr/>
        </p:nvSpPr>
        <p:spPr>
          <a:xfrm>
            <a:off x="4119480" y="3429000"/>
            <a:ext cx="488880" cy="452520"/>
          </a:xfrm>
          <a:custGeom>
            <a:avLst/>
            <a:gdLst/>
            <a:ahLst/>
            <a:rect l="l" t="t" r="r" b="b"/>
            <a:pathLst>
              <a:path w="1357" h="1258">
                <a:moveTo>
                  <a:pt x="11443" y="10286"/>
                </a:moveTo>
                <a:cubicBezTo>
                  <a:pt x="11443" y="10424"/>
                  <a:pt x="11424" y="10629"/>
                  <a:pt x="11476" y="10716"/>
                </a:cubicBezTo>
                <a:cubicBezTo>
                  <a:pt x="11476" y="10626"/>
                  <a:pt x="11457" y="10556"/>
                  <a:pt x="11443" y="10484"/>
                </a:cubicBezTo>
                <a:cubicBezTo>
                  <a:pt x="11392" y="10231"/>
                  <a:pt x="11433" y="9856"/>
                  <a:pt x="11476" y="9624"/>
                </a:cubicBezTo>
                <a:cubicBezTo>
                  <a:pt x="11489" y="9557"/>
                  <a:pt x="11481" y="9593"/>
                  <a:pt x="11509" y="9558"/>
                </a:cubicBezTo>
                <a:cubicBezTo>
                  <a:pt x="11540" y="9593"/>
                  <a:pt x="11568" y="9649"/>
                  <a:pt x="11609" y="9690"/>
                </a:cubicBezTo>
                <a:cubicBezTo>
                  <a:pt x="11674" y="9754"/>
                  <a:pt x="11716" y="9823"/>
                  <a:pt x="11774" y="9889"/>
                </a:cubicBezTo>
                <a:cubicBezTo>
                  <a:pt x="11845" y="9969"/>
                  <a:pt x="11931" y="10032"/>
                  <a:pt x="12005" y="10087"/>
                </a:cubicBezTo>
                <a:cubicBezTo>
                  <a:pt x="12055" y="10124"/>
                  <a:pt x="12026" y="10173"/>
                  <a:pt x="12105" y="10153"/>
                </a:cubicBezTo>
                <a:cubicBezTo>
                  <a:pt x="12186" y="10133"/>
                  <a:pt x="12296" y="9925"/>
                  <a:pt x="12336" y="9889"/>
                </a:cubicBezTo>
                <a:cubicBezTo>
                  <a:pt x="12433" y="9802"/>
                  <a:pt x="12394" y="9801"/>
                  <a:pt x="12435" y="9690"/>
                </a:cubicBezTo>
                <a:cubicBezTo>
                  <a:pt x="12447" y="9659"/>
                  <a:pt x="12485" y="9583"/>
                  <a:pt x="12502" y="9558"/>
                </a:cubicBezTo>
                <a:cubicBezTo>
                  <a:pt x="12502" y="9525"/>
                  <a:pt x="12502" y="9514"/>
                  <a:pt x="12535" y="9525"/>
                </a:cubicBezTo>
                <a:cubicBezTo>
                  <a:pt x="12544" y="9588"/>
                  <a:pt x="12551" y="9628"/>
                  <a:pt x="12568" y="9690"/>
                </a:cubicBezTo>
                <a:cubicBezTo>
                  <a:pt x="12608" y="9837"/>
                  <a:pt x="12651" y="10000"/>
                  <a:pt x="12667" y="10153"/>
                </a:cubicBezTo>
                <a:cubicBezTo>
                  <a:pt x="12682" y="10301"/>
                  <a:pt x="12667" y="10379"/>
                  <a:pt x="12733" y="10517"/>
                </a:cubicBezTo>
                <a:cubicBezTo>
                  <a:pt x="12762" y="10579"/>
                  <a:pt x="12743" y="10629"/>
                  <a:pt x="12766" y="10683"/>
                </a:cubicBezTo>
                <a:cubicBezTo>
                  <a:pt x="12788" y="10735"/>
                  <a:pt x="12791" y="10724"/>
                  <a:pt x="12799" y="1078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Ink 10"/>
          <p:cNvSpPr/>
          <p:nvPr/>
        </p:nvSpPr>
        <p:spPr>
          <a:xfrm>
            <a:off x="5607000" y="5940360"/>
            <a:ext cx="12600" cy="12600"/>
          </a:xfrm>
          <a:custGeom>
            <a:avLst/>
            <a:gdLst/>
            <a:ahLst/>
            <a:rect l="l" t="t" r="r" b="b"/>
            <a:pathLst>
              <a:path w="34" h="34">
                <a:moveTo>
                  <a:pt x="15577" y="16503"/>
                </a:moveTo>
                <a:cubicBezTo>
                  <a:pt x="15610" y="16503"/>
                  <a:pt x="15621" y="16503"/>
                  <a:pt x="15610" y="1653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Ink 11"/>
          <p:cNvSpPr/>
          <p:nvPr/>
        </p:nvSpPr>
        <p:spPr>
          <a:xfrm>
            <a:off x="3227400" y="5452920"/>
            <a:ext cx="1582560" cy="631800"/>
          </a:xfrm>
          <a:custGeom>
            <a:avLst/>
            <a:gdLst/>
            <a:ahLst/>
            <a:rect l="l" t="t" r="r" b="b"/>
            <a:pathLst>
              <a:path w="4399" h="1754">
                <a:moveTo>
                  <a:pt x="9227" y="15346"/>
                </a:moveTo>
                <a:cubicBezTo>
                  <a:pt x="9277" y="15329"/>
                  <a:pt x="9288" y="15318"/>
                  <a:pt x="9327" y="15313"/>
                </a:cubicBezTo>
                <a:cubicBezTo>
                  <a:pt x="9375" y="15306"/>
                  <a:pt x="9489" y="15280"/>
                  <a:pt x="9492" y="15280"/>
                </a:cubicBezTo>
                <a:cubicBezTo>
                  <a:pt x="9670" y="15258"/>
                  <a:pt x="9898" y="15271"/>
                  <a:pt x="10054" y="15313"/>
                </a:cubicBezTo>
                <a:cubicBezTo>
                  <a:pt x="10106" y="15327"/>
                  <a:pt x="10167" y="15338"/>
                  <a:pt x="10220" y="15346"/>
                </a:cubicBezTo>
                <a:cubicBezTo>
                  <a:pt x="10280" y="15355"/>
                  <a:pt x="10301" y="15362"/>
                  <a:pt x="10352" y="15379"/>
                </a:cubicBezTo>
                <a:cubicBezTo>
                  <a:pt x="10419" y="15401"/>
                  <a:pt x="10477" y="15410"/>
                  <a:pt x="10550" y="15412"/>
                </a:cubicBezTo>
                <a:cubicBezTo>
                  <a:pt x="10632" y="15415"/>
                  <a:pt x="10681" y="15437"/>
                  <a:pt x="10749" y="15445"/>
                </a:cubicBezTo>
                <a:cubicBezTo>
                  <a:pt x="10839" y="15456"/>
                  <a:pt x="10902" y="15452"/>
                  <a:pt x="10980" y="15478"/>
                </a:cubicBezTo>
                <a:cubicBezTo>
                  <a:pt x="11035" y="15496"/>
                  <a:pt x="11087" y="15502"/>
                  <a:pt x="11146" y="15511"/>
                </a:cubicBezTo>
                <a:cubicBezTo>
                  <a:pt x="11246" y="15526"/>
                  <a:pt x="11313" y="15509"/>
                  <a:pt x="11410" y="15544"/>
                </a:cubicBezTo>
                <a:cubicBezTo>
                  <a:pt x="11465" y="15564"/>
                  <a:pt x="11476" y="15573"/>
                  <a:pt x="11542" y="15577"/>
                </a:cubicBezTo>
                <a:cubicBezTo>
                  <a:pt x="11599" y="15581"/>
                  <a:pt x="11668" y="15606"/>
                  <a:pt x="11708" y="15610"/>
                </a:cubicBezTo>
                <a:cubicBezTo>
                  <a:pt x="11776" y="15616"/>
                  <a:pt x="11855" y="15637"/>
                  <a:pt x="11906" y="15643"/>
                </a:cubicBezTo>
                <a:cubicBezTo>
                  <a:pt x="12016" y="15656"/>
                  <a:pt x="12133" y="15664"/>
                  <a:pt x="12237" y="15677"/>
                </a:cubicBezTo>
                <a:cubicBezTo>
                  <a:pt x="12347" y="15691"/>
                  <a:pt x="12475" y="15668"/>
                  <a:pt x="12535" y="15643"/>
                </a:cubicBezTo>
                <a:cubicBezTo>
                  <a:pt x="12594" y="15618"/>
                  <a:pt x="12643" y="15576"/>
                  <a:pt x="12700" y="15544"/>
                </a:cubicBezTo>
                <a:cubicBezTo>
                  <a:pt x="12722" y="15532"/>
                  <a:pt x="12808" y="15482"/>
                  <a:pt x="12832" y="15478"/>
                </a:cubicBezTo>
                <a:cubicBezTo>
                  <a:pt x="12936" y="15460"/>
                  <a:pt x="13027" y="15442"/>
                  <a:pt x="13130" y="15412"/>
                </a:cubicBezTo>
                <a:cubicBezTo>
                  <a:pt x="13171" y="15400"/>
                  <a:pt x="13175" y="15355"/>
                  <a:pt x="13229" y="15346"/>
                </a:cubicBezTo>
                <a:cubicBezTo>
                  <a:pt x="13313" y="15331"/>
                  <a:pt x="13345" y="15371"/>
                  <a:pt x="13328" y="15346"/>
                </a:cubicBezTo>
                <a:cubicBezTo>
                  <a:pt x="13305" y="15311"/>
                  <a:pt x="13206" y="15315"/>
                  <a:pt x="13163" y="15313"/>
                </a:cubicBezTo>
                <a:cubicBezTo>
                  <a:pt x="13056" y="15309"/>
                  <a:pt x="12957" y="15300"/>
                  <a:pt x="12865" y="15280"/>
                </a:cubicBezTo>
                <a:cubicBezTo>
                  <a:pt x="12795" y="15265"/>
                  <a:pt x="12693" y="15222"/>
                  <a:pt x="12634" y="15214"/>
                </a:cubicBezTo>
                <a:cubicBezTo>
                  <a:pt x="12537" y="15201"/>
                  <a:pt x="12451" y="15202"/>
                  <a:pt x="12369" y="15180"/>
                </a:cubicBezTo>
                <a:cubicBezTo>
                  <a:pt x="12306" y="15163"/>
                  <a:pt x="12237" y="15156"/>
                  <a:pt x="12171" y="15147"/>
                </a:cubicBezTo>
                <a:cubicBezTo>
                  <a:pt x="11892" y="15110"/>
                  <a:pt x="11582" y="15155"/>
                  <a:pt x="11311" y="15180"/>
                </a:cubicBezTo>
                <a:cubicBezTo>
                  <a:pt x="10861" y="15222"/>
                  <a:pt x="10400" y="15167"/>
                  <a:pt x="9955" y="15214"/>
                </a:cubicBezTo>
                <a:cubicBezTo>
                  <a:pt x="9849" y="15225"/>
                  <a:pt x="9765" y="15244"/>
                  <a:pt x="9657" y="15247"/>
                </a:cubicBezTo>
                <a:cubicBezTo>
                  <a:pt x="9541" y="15251"/>
                  <a:pt x="9434" y="15268"/>
                  <a:pt x="9327" y="15280"/>
                </a:cubicBezTo>
                <a:cubicBezTo>
                  <a:pt x="9211" y="15293"/>
                  <a:pt x="9104" y="15272"/>
                  <a:pt x="8996" y="15313"/>
                </a:cubicBezTo>
                <a:cubicBezTo>
                  <a:pt x="8930" y="15338"/>
                  <a:pt x="9029" y="15312"/>
                  <a:pt x="9062" y="15313"/>
                </a:cubicBezTo>
                <a:cubicBezTo>
                  <a:pt x="9130" y="15316"/>
                  <a:pt x="9172" y="15330"/>
                  <a:pt x="9227" y="15346"/>
                </a:cubicBezTo>
                <a:cubicBezTo>
                  <a:pt x="9344" y="15380"/>
                  <a:pt x="9436" y="15376"/>
                  <a:pt x="9558" y="15379"/>
                </a:cubicBezTo>
                <a:cubicBezTo>
                  <a:pt x="10388" y="15397"/>
                  <a:pt x="11256" y="15310"/>
                  <a:pt x="12072" y="15412"/>
                </a:cubicBezTo>
                <a:cubicBezTo>
                  <a:pt x="12127" y="15419"/>
                  <a:pt x="12149" y="15438"/>
                  <a:pt x="12204" y="15445"/>
                </a:cubicBezTo>
                <a:cubicBezTo>
                  <a:pt x="12300" y="15458"/>
                  <a:pt x="12420" y="15468"/>
                  <a:pt x="12502" y="15478"/>
                </a:cubicBezTo>
                <a:cubicBezTo>
                  <a:pt x="12716" y="15505"/>
                  <a:pt x="12994" y="15477"/>
                  <a:pt x="13163" y="15511"/>
                </a:cubicBezTo>
              </a:path>
              <a:path w="4399" h="1754">
                <a:moveTo>
                  <a:pt x="9194" y="15346"/>
                </a:moveTo>
                <a:cubicBezTo>
                  <a:pt x="9177" y="15397"/>
                  <a:pt x="9170" y="15376"/>
                  <a:pt x="9161" y="15445"/>
                </a:cubicBezTo>
                <a:cubicBezTo>
                  <a:pt x="9139" y="15604"/>
                  <a:pt x="9153" y="15802"/>
                  <a:pt x="9194" y="15941"/>
                </a:cubicBezTo>
                <a:cubicBezTo>
                  <a:pt x="9212" y="16002"/>
                  <a:pt x="9218" y="16044"/>
                  <a:pt x="9227" y="16107"/>
                </a:cubicBezTo>
                <a:cubicBezTo>
                  <a:pt x="9235" y="16161"/>
                  <a:pt x="9253" y="16184"/>
                  <a:pt x="9260" y="16239"/>
                </a:cubicBezTo>
                <a:cubicBezTo>
                  <a:pt x="9273" y="16347"/>
                  <a:pt x="9303" y="16309"/>
                  <a:pt x="9327" y="16404"/>
                </a:cubicBezTo>
                <a:cubicBezTo>
                  <a:pt x="9327" y="16459"/>
                  <a:pt x="9327" y="16470"/>
                  <a:pt x="9327" y="16503"/>
                </a:cubicBezTo>
                <a:cubicBezTo>
                  <a:pt x="9908" y="16503"/>
                  <a:pt x="10511" y="16475"/>
                  <a:pt x="11079" y="16536"/>
                </a:cubicBezTo>
                <a:cubicBezTo>
                  <a:pt x="11165" y="16545"/>
                  <a:pt x="11275" y="16562"/>
                  <a:pt x="11344" y="16570"/>
                </a:cubicBezTo>
                <a:cubicBezTo>
                  <a:pt x="11394" y="16575"/>
                  <a:pt x="11440" y="16597"/>
                  <a:pt x="11476" y="16603"/>
                </a:cubicBezTo>
                <a:cubicBezTo>
                  <a:pt x="11633" y="16627"/>
                  <a:pt x="11796" y="16600"/>
                  <a:pt x="11939" y="16636"/>
                </a:cubicBezTo>
                <a:cubicBezTo>
                  <a:pt x="12005" y="16652"/>
                  <a:pt x="12070" y="16661"/>
                  <a:pt x="12138" y="16669"/>
                </a:cubicBezTo>
                <a:cubicBezTo>
                  <a:pt x="12314" y="16689"/>
                  <a:pt x="13018" y="16756"/>
                  <a:pt x="13097" y="16636"/>
                </a:cubicBezTo>
                <a:cubicBezTo>
                  <a:pt x="13148" y="16559"/>
                  <a:pt x="13067" y="16332"/>
                  <a:pt x="13064" y="16305"/>
                </a:cubicBezTo>
                <a:cubicBezTo>
                  <a:pt x="13058" y="16247"/>
                  <a:pt x="13032" y="16118"/>
                  <a:pt x="13031" y="16107"/>
                </a:cubicBezTo>
                <a:cubicBezTo>
                  <a:pt x="13021" y="16021"/>
                  <a:pt x="13006" y="15912"/>
                  <a:pt x="12998" y="15842"/>
                </a:cubicBezTo>
                <a:cubicBezTo>
                  <a:pt x="12993" y="15793"/>
                  <a:pt x="12970" y="15745"/>
                  <a:pt x="12965" y="15710"/>
                </a:cubicBezTo>
                <a:cubicBezTo>
                  <a:pt x="12955" y="15640"/>
                  <a:pt x="12938" y="15534"/>
                  <a:pt x="12932" y="15478"/>
                </a:cubicBezTo>
                <a:cubicBezTo>
                  <a:pt x="12925" y="15414"/>
                  <a:pt x="12932" y="15345"/>
                  <a:pt x="12932" y="15280"/>
                </a:cubicBezTo>
              </a:path>
              <a:path w="4399" h="1754">
                <a:moveTo>
                  <a:pt x="12799" y="16570"/>
                </a:moveTo>
                <a:cubicBezTo>
                  <a:pt x="12799" y="16680"/>
                  <a:pt x="12799" y="16790"/>
                  <a:pt x="12799" y="16900"/>
                </a:cubicBezTo>
              </a:path>
            </a:pathLst>
          </a:cu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Ink 12"/>
          <p:cNvSpPr/>
          <p:nvPr/>
        </p:nvSpPr>
        <p:spPr>
          <a:xfrm>
            <a:off x="5762520" y="5786280"/>
            <a:ext cx="571680" cy="309600"/>
          </a:xfrm>
          <a:custGeom>
            <a:avLst/>
            <a:gdLst/>
            <a:ahLst/>
            <a:rect l="l" t="t" r="r" b="b"/>
            <a:pathLst>
              <a:path w="1589" h="861">
                <a:moveTo>
                  <a:pt x="16107" y="16073"/>
                </a:moveTo>
                <a:cubicBezTo>
                  <a:pt x="16047" y="16073"/>
                  <a:pt x="16012" y="16070"/>
                  <a:pt x="16007" y="16140"/>
                </a:cubicBezTo>
                <a:cubicBezTo>
                  <a:pt x="16004" y="16183"/>
                  <a:pt x="16007" y="16229"/>
                  <a:pt x="16007" y="16272"/>
                </a:cubicBezTo>
                <a:cubicBezTo>
                  <a:pt x="16042" y="16272"/>
                  <a:pt x="16124" y="16262"/>
                  <a:pt x="16140" y="16239"/>
                </a:cubicBezTo>
                <a:cubicBezTo>
                  <a:pt x="16170" y="16194"/>
                  <a:pt x="16182" y="16203"/>
                  <a:pt x="16206" y="16173"/>
                </a:cubicBezTo>
                <a:cubicBezTo>
                  <a:pt x="16206" y="16162"/>
                  <a:pt x="16206" y="16151"/>
                  <a:pt x="16206" y="16140"/>
                </a:cubicBezTo>
                <a:cubicBezTo>
                  <a:pt x="16206" y="16223"/>
                  <a:pt x="16203" y="16271"/>
                  <a:pt x="16239" y="16338"/>
                </a:cubicBezTo>
                <a:cubicBezTo>
                  <a:pt x="16281" y="16417"/>
                  <a:pt x="16272" y="16483"/>
                  <a:pt x="16272" y="16570"/>
                </a:cubicBezTo>
                <a:cubicBezTo>
                  <a:pt x="16272" y="16656"/>
                  <a:pt x="16329" y="16571"/>
                  <a:pt x="16338" y="16536"/>
                </a:cubicBezTo>
              </a:path>
              <a:path w="1589" h="861">
                <a:moveTo>
                  <a:pt x="16536" y="16140"/>
                </a:moveTo>
                <a:cubicBezTo>
                  <a:pt x="16599" y="16140"/>
                  <a:pt x="16641" y="16113"/>
                  <a:pt x="16702" y="16107"/>
                </a:cubicBezTo>
                <a:cubicBezTo>
                  <a:pt x="16738" y="16103"/>
                  <a:pt x="16812" y="16063"/>
                  <a:pt x="16834" y="16073"/>
                </a:cubicBezTo>
                <a:cubicBezTo>
                  <a:pt x="16859" y="16085"/>
                  <a:pt x="16927" y="16217"/>
                  <a:pt x="16933" y="16239"/>
                </a:cubicBezTo>
                <a:cubicBezTo>
                  <a:pt x="16950" y="16301"/>
                  <a:pt x="16966" y="16370"/>
                  <a:pt x="16966" y="16437"/>
                </a:cubicBezTo>
                <a:cubicBezTo>
                  <a:pt x="16966" y="16489"/>
                  <a:pt x="16999" y="16510"/>
                  <a:pt x="16999" y="16570"/>
                </a:cubicBezTo>
                <a:cubicBezTo>
                  <a:pt x="16999" y="16614"/>
                  <a:pt x="16999" y="16680"/>
                  <a:pt x="16999" y="16636"/>
                </a:cubicBezTo>
              </a:path>
              <a:path w="1589" h="861">
                <a:moveTo>
                  <a:pt x="16900" y="16371"/>
                </a:moveTo>
                <a:cubicBezTo>
                  <a:pt x="16969" y="16371"/>
                  <a:pt x="17129" y="16410"/>
                  <a:pt x="17165" y="16338"/>
                </a:cubicBezTo>
                <a:cubicBezTo>
                  <a:pt x="17165" y="16327"/>
                  <a:pt x="17165" y="16316"/>
                  <a:pt x="17165" y="16305"/>
                </a:cubicBezTo>
              </a:path>
              <a:path w="1589" h="861">
                <a:moveTo>
                  <a:pt x="17231" y="16140"/>
                </a:moveTo>
                <a:cubicBezTo>
                  <a:pt x="17315" y="16140"/>
                  <a:pt x="17387" y="16116"/>
                  <a:pt x="17463" y="16107"/>
                </a:cubicBezTo>
                <a:cubicBezTo>
                  <a:pt x="17540" y="16107"/>
                  <a:pt x="17551" y="16107"/>
                  <a:pt x="17595" y="16107"/>
                </a:cubicBezTo>
                <a:cubicBezTo>
                  <a:pt x="17575" y="16206"/>
                  <a:pt x="17486" y="16289"/>
                  <a:pt x="17396" y="16338"/>
                </a:cubicBezTo>
                <a:cubicBezTo>
                  <a:pt x="17303" y="16388"/>
                  <a:pt x="17286" y="16339"/>
                  <a:pt x="17264" y="16404"/>
                </a:cubicBezTo>
                <a:cubicBezTo>
                  <a:pt x="17333" y="16404"/>
                  <a:pt x="17363" y="16400"/>
                  <a:pt x="17396" y="16437"/>
                </a:cubicBezTo>
                <a:cubicBezTo>
                  <a:pt x="17440" y="16488"/>
                  <a:pt x="17514" y="16501"/>
                  <a:pt x="17529" y="16570"/>
                </a:cubicBezTo>
                <a:cubicBezTo>
                  <a:pt x="17541" y="16628"/>
                  <a:pt x="17529" y="16708"/>
                  <a:pt x="17529" y="16768"/>
                </a:cubicBezTo>
                <a:cubicBezTo>
                  <a:pt x="17401" y="16768"/>
                  <a:pt x="17401" y="16811"/>
                  <a:pt x="17297" y="16867"/>
                </a:cubicBezTo>
                <a:cubicBezTo>
                  <a:pt x="17257" y="16889"/>
                  <a:pt x="17209" y="16915"/>
                  <a:pt x="17165" y="1693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Ink 13"/>
          <p:cNvSpPr/>
          <p:nvPr/>
        </p:nvSpPr>
        <p:spPr>
          <a:xfrm>
            <a:off x="3333600" y="5989680"/>
            <a:ext cx="1822680" cy="642960"/>
          </a:xfrm>
          <a:custGeom>
            <a:avLst/>
            <a:gdLst/>
            <a:ahLst/>
            <a:rect l="l" t="t" r="r" b="b"/>
            <a:pathLst>
              <a:path w="5062" h="1787">
                <a:moveTo>
                  <a:pt x="9260" y="16636"/>
                </a:moveTo>
                <a:lnTo>
                  <a:pt x="9260" y="16636"/>
                </a:lnTo>
              </a:path>
              <a:path w="5062" h="1787">
                <a:moveTo>
                  <a:pt x="14321" y="18422"/>
                </a:moveTo>
                <a:lnTo>
                  <a:pt x="14321" y="18422"/>
                </a:ln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Ink 14"/>
          <p:cNvSpPr/>
          <p:nvPr/>
        </p:nvSpPr>
        <p:spPr>
          <a:xfrm>
            <a:off x="3106800" y="6107040"/>
            <a:ext cx="691920" cy="311400"/>
          </a:xfrm>
          <a:custGeom>
            <a:avLst/>
            <a:gdLst/>
            <a:ahLst/>
            <a:rect l="l" t="t" r="r" b="b"/>
            <a:pathLst>
              <a:path w="1919" h="861">
                <a:moveTo>
                  <a:pt x="9029" y="17264"/>
                </a:moveTo>
                <a:cubicBezTo>
                  <a:pt x="8960" y="17264"/>
                  <a:pt x="8732" y="17228"/>
                  <a:pt x="8698" y="17297"/>
                </a:cubicBezTo>
                <a:cubicBezTo>
                  <a:pt x="8682" y="17330"/>
                  <a:pt x="8642" y="17343"/>
                  <a:pt x="8632" y="17363"/>
                </a:cubicBezTo>
                <a:cubicBezTo>
                  <a:pt x="8618" y="17391"/>
                  <a:pt x="8632" y="17464"/>
                  <a:pt x="8632" y="17496"/>
                </a:cubicBezTo>
                <a:cubicBezTo>
                  <a:pt x="8698" y="17496"/>
                  <a:pt x="8764" y="17496"/>
                  <a:pt x="8830" y="17496"/>
                </a:cubicBezTo>
                <a:cubicBezTo>
                  <a:pt x="8830" y="17428"/>
                  <a:pt x="8843" y="17441"/>
                  <a:pt x="8864" y="17396"/>
                </a:cubicBezTo>
                <a:cubicBezTo>
                  <a:pt x="8907" y="17304"/>
                  <a:pt x="8924" y="17295"/>
                  <a:pt x="8930" y="17297"/>
                </a:cubicBezTo>
                <a:cubicBezTo>
                  <a:pt x="8960" y="17309"/>
                  <a:pt x="8992" y="17363"/>
                  <a:pt x="8996" y="17396"/>
                </a:cubicBezTo>
                <a:cubicBezTo>
                  <a:pt x="9005" y="17472"/>
                  <a:pt x="9033" y="17464"/>
                  <a:pt x="9062" y="17529"/>
                </a:cubicBezTo>
                <a:cubicBezTo>
                  <a:pt x="9071" y="17550"/>
                  <a:pt x="9062" y="17604"/>
                  <a:pt x="9062" y="17628"/>
                </a:cubicBezTo>
                <a:cubicBezTo>
                  <a:pt x="9128" y="17628"/>
                  <a:pt x="9194" y="17628"/>
                  <a:pt x="9260" y="17628"/>
                </a:cubicBezTo>
              </a:path>
              <a:path w="1919" h="861">
                <a:moveTo>
                  <a:pt x="9393" y="17496"/>
                </a:moveTo>
                <a:cubicBezTo>
                  <a:pt x="9393" y="17485"/>
                  <a:pt x="9393" y="17474"/>
                  <a:pt x="9393" y="17463"/>
                </a:cubicBezTo>
                <a:cubicBezTo>
                  <a:pt x="9450" y="17463"/>
                  <a:pt x="9444" y="17477"/>
                  <a:pt x="9459" y="17429"/>
                </a:cubicBezTo>
                <a:cubicBezTo>
                  <a:pt x="9536" y="17429"/>
                  <a:pt x="9613" y="17429"/>
                  <a:pt x="9690" y="17429"/>
                </a:cubicBezTo>
              </a:path>
              <a:path w="1919" h="861">
                <a:moveTo>
                  <a:pt x="9426" y="17198"/>
                </a:moveTo>
                <a:cubicBezTo>
                  <a:pt x="9492" y="17198"/>
                  <a:pt x="9558" y="17198"/>
                  <a:pt x="9624" y="17198"/>
                </a:cubicBezTo>
              </a:path>
              <a:path w="1919" h="861">
                <a:moveTo>
                  <a:pt x="9988" y="16966"/>
                </a:moveTo>
                <a:cubicBezTo>
                  <a:pt x="9988" y="17116"/>
                  <a:pt x="9991" y="17254"/>
                  <a:pt x="10021" y="17396"/>
                </a:cubicBezTo>
                <a:cubicBezTo>
                  <a:pt x="10033" y="17451"/>
                  <a:pt x="10044" y="17517"/>
                  <a:pt x="10054" y="17562"/>
                </a:cubicBezTo>
                <a:cubicBezTo>
                  <a:pt x="10054" y="17584"/>
                  <a:pt x="10054" y="17606"/>
                  <a:pt x="10054" y="17628"/>
                </a:cubicBezTo>
                <a:cubicBezTo>
                  <a:pt x="10104" y="17645"/>
                  <a:pt x="10087" y="17668"/>
                  <a:pt x="10087" y="17727"/>
                </a:cubicBezTo>
                <a:cubicBezTo>
                  <a:pt x="10087" y="17742"/>
                  <a:pt x="10087" y="17881"/>
                  <a:pt x="10087" y="17793"/>
                </a:cubicBezTo>
              </a:path>
              <a:path w="1919" h="861">
                <a:moveTo>
                  <a:pt x="9955" y="16999"/>
                </a:moveTo>
                <a:cubicBezTo>
                  <a:pt x="9955" y="17147"/>
                  <a:pt x="9946" y="17300"/>
                  <a:pt x="9988" y="17429"/>
                </a:cubicBezTo>
                <a:cubicBezTo>
                  <a:pt x="9992" y="17441"/>
                  <a:pt x="10016" y="17558"/>
                  <a:pt x="10021" y="17562"/>
                </a:cubicBezTo>
                <a:cubicBezTo>
                  <a:pt x="10034" y="17573"/>
                  <a:pt x="10080" y="17625"/>
                  <a:pt x="10087" y="17628"/>
                </a:cubicBezTo>
                <a:cubicBezTo>
                  <a:pt x="10128" y="17649"/>
                  <a:pt x="10124" y="17673"/>
                  <a:pt x="10153" y="17694"/>
                </a:cubicBezTo>
                <a:cubicBezTo>
                  <a:pt x="10189" y="17720"/>
                  <a:pt x="10278" y="17755"/>
                  <a:pt x="10319" y="17760"/>
                </a:cubicBezTo>
                <a:cubicBezTo>
                  <a:pt x="10393" y="17768"/>
                  <a:pt x="10421" y="17742"/>
                  <a:pt x="10451" y="17727"/>
                </a:cubicBezTo>
                <a:cubicBezTo>
                  <a:pt x="10486" y="17709"/>
                  <a:pt x="10511" y="17686"/>
                  <a:pt x="10517" y="17628"/>
                </a:cubicBezTo>
                <a:cubicBezTo>
                  <a:pt x="10523" y="17574"/>
                  <a:pt x="10550" y="17557"/>
                  <a:pt x="10550" y="17496"/>
                </a:cubicBezTo>
                <a:cubicBezTo>
                  <a:pt x="10550" y="17434"/>
                  <a:pt x="10580" y="17263"/>
                  <a:pt x="10517" y="17231"/>
                </a:cubicBezTo>
                <a:cubicBezTo>
                  <a:pt x="10455" y="17200"/>
                  <a:pt x="10465" y="17185"/>
                  <a:pt x="10418" y="17132"/>
                </a:cubicBezTo>
                <a:cubicBezTo>
                  <a:pt x="10388" y="17099"/>
                  <a:pt x="10329" y="17086"/>
                  <a:pt x="10319" y="17066"/>
                </a:cubicBezTo>
                <a:cubicBezTo>
                  <a:pt x="10301" y="17031"/>
                  <a:pt x="10277" y="17005"/>
                  <a:pt x="10220" y="16999"/>
                </a:cubicBezTo>
                <a:cubicBezTo>
                  <a:pt x="10166" y="16993"/>
                  <a:pt x="10108" y="16999"/>
                  <a:pt x="10054" y="169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Ink 15"/>
          <p:cNvSpPr/>
          <p:nvPr/>
        </p:nvSpPr>
        <p:spPr>
          <a:xfrm>
            <a:off x="4762440" y="6203880"/>
            <a:ext cx="441360" cy="297000"/>
          </a:xfrm>
          <a:custGeom>
            <a:avLst/>
            <a:gdLst/>
            <a:ahLst/>
            <a:rect l="l" t="t" r="r" b="b"/>
            <a:pathLst>
              <a:path w="1225" h="828">
                <a:moveTo>
                  <a:pt x="13295" y="17231"/>
                </a:moveTo>
                <a:cubicBezTo>
                  <a:pt x="13295" y="17407"/>
                  <a:pt x="13295" y="17584"/>
                  <a:pt x="13295" y="17760"/>
                </a:cubicBezTo>
                <a:cubicBezTo>
                  <a:pt x="13295" y="17694"/>
                  <a:pt x="13295" y="17628"/>
                  <a:pt x="13295" y="17562"/>
                </a:cubicBezTo>
                <a:cubicBezTo>
                  <a:pt x="13356" y="17562"/>
                  <a:pt x="13381" y="17554"/>
                  <a:pt x="13428" y="17595"/>
                </a:cubicBezTo>
                <a:cubicBezTo>
                  <a:pt x="13454" y="17618"/>
                  <a:pt x="13524" y="17687"/>
                  <a:pt x="13527" y="17694"/>
                </a:cubicBezTo>
                <a:cubicBezTo>
                  <a:pt x="13546" y="17731"/>
                  <a:pt x="13527" y="17777"/>
                  <a:pt x="13560" y="17793"/>
                </a:cubicBezTo>
                <a:cubicBezTo>
                  <a:pt x="13585" y="17805"/>
                  <a:pt x="13621" y="17842"/>
                  <a:pt x="13593" y="17892"/>
                </a:cubicBezTo>
                <a:cubicBezTo>
                  <a:pt x="13561" y="17950"/>
                  <a:pt x="13519" y="17959"/>
                  <a:pt x="13461" y="17959"/>
                </a:cubicBezTo>
                <a:cubicBezTo>
                  <a:pt x="13401" y="17959"/>
                  <a:pt x="13236" y="17986"/>
                  <a:pt x="13229" y="17926"/>
                </a:cubicBezTo>
                <a:cubicBezTo>
                  <a:pt x="13229" y="17892"/>
                  <a:pt x="13229" y="17881"/>
                  <a:pt x="13229" y="17859"/>
                </a:cubicBezTo>
              </a:path>
              <a:path w="1225" h="828">
                <a:moveTo>
                  <a:pt x="13791" y="17396"/>
                </a:moveTo>
                <a:cubicBezTo>
                  <a:pt x="13875" y="17396"/>
                  <a:pt x="13921" y="17406"/>
                  <a:pt x="13990" y="17429"/>
                </a:cubicBezTo>
                <a:cubicBezTo>
                  <a:pt x="14001" y="17429"/>
                  <a:pt x="14012" y="17429"/>
                  <a:pt x="14023" y="17429"/>
                </a:cubicBezTo>
              </a:path>
              <a:path w="1225" h="828">
                <a:moveTo>
                  <a:pt x="13791" y="17760"/>
                </a:moveTo>
                <a:cubicBezTo>
                  <a:pt x="13881" y="17760"/>
                  <a:pt x="13919" y="17751"/>
                  <a:pt x="13990" y="17727"/>
                </a:cubicBezTo>
                <a:cubicBezTo>
                  <a:pt x="14001" y="17727"/>
                  <a:pt x="14012" y="17727"/>
                  <a:pt x="14023" y="17727"/>
                </a:cubicBezTo>
              </a:path>
              <a:path w="1225" h="828">
                <a:moveTo>
                  <a:pt x="14453" y="17264"/>
                </a:moveTo>
                <a:cubicBezTo>
                  <a:pt x="14453" y="17499"/>
                  <a:pt x="14463" y="17731"/>
                  <a:pt x="14420" y="17959"/>
                </a:cubicBezTo>
                <a:cubicBezTo>
                  <a:pt x="14414" y="17989"/>
                  <a:pt x="14420" y="18027"/>
                  <a:pt x="14420" y="18058"/>
                </a:cubicBezTo>
                <a:cubicBezTo>
                  <a:pt x="14404" y="17994"/>
                  <a:pt x="14375" y="17980"/>
                  <a:pt x="14321" y="179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Ink 16"/>
          <p:cNvSpPr/>
          <p:nvPr/>
        </p:nvSpPr>
        <p:spPr>
          <a:xfrm>
            <a:off x="3917880" y="5810400"/>
            <a:ext cx="392040" cy="131760"/>
          </a:xfrm>
          <a:custGeom>
            <a:avLst/>
            <a:gdLst/>
            <a:ahLst/>
            <a:rect l="l" t="t" r="r" b="b"/>
            <a:pathLst>
              <a:path w="1092" h="364">
                <a:moveTo>
                  <a:pt x="10881" y="16305"/>
                </a:moveTo>
                <a:cubicBezTo>
                  <a:pt x="10881" y="16349"/>
                  <a:pt x="10881" y="16393"/>
                  <a:pt x="10881" y="16437"/>
                </a:cubicBezTo>
                <a:cubicBezTo>
                  <a:pt x="10881" y="16402"/>
                  <a:pt x="10891" y="16321"/>
                  <a:pt x="10914" y="16305"/>
                </a:cubicBezTo>
                <a:cubicBezTo>
                  <a:pt x="10938" y="16289"/>
                  <a:pt x="11016" y="16249"/>
                  <a:pt x="11046" y="16239"/>
                </a:cubicBezTo>
                <a:cubicBezTo>
                  <a:pt x="11101" y="16239"/>
                  <a:pt x="11135" y="16239"/>
                  <a:pt x="11179" y="16239"/>
                </a:cubicBezTo>
                <a:cubicBezTo>
                  <a:pt x="11179" y="16198"/>
                  <a:pt x="11190" y="16151"/>
                  <a:pt x="11212" y="16140"/>
                </a:cubicBezTo>
                <a:cubicBezTo>
                  <a:pt x="11231" y="16130"/>
                  <a:pt x="11289" y="16140"/>
                  <a:pt x="11311" y="16140"/>
                </a:cubicBezTo>
                <a:cubicBezTo>
                  <a:pt x="11311" y="16203"/>
                  <a:pt x="11338" y="16245"/>
                  <a:pt x="11344" y="16305"/>
                </a:cubicBezTo>
                <a:cubicBezTo>
                  <a:pt x="11349" y="16353"/>
                  <a:pt x="11377" y="16486"/>
                  <a:pt x="11377" y="16437"/>
                </a:cubicBezTo>
                <a:cubicBezTo>
                  <a:pt x="11377" y="16356"/>
                  <a:pt x="11427" y="16303"/>
                  <a:pt x="11476" y="16239"/>
                </a:cubicBezTo>
                <a:cubicBezTo>
                  <a:pt x="11512" y="16192"/>
                  <a:pt x="11555" y="16206"/>
                  <a:pt x="11609" y="16206"/>
                </a:cubicBezTo>
                <a:cubicBezTo>
                  <a:pt x="11675" y="16206"/>
                  <a:pt x="11741" y="16206"/>
                  <a:pt x="11807" y="16206"/>
                </a:cubicBezTo>
                <a:cubicBezTo>
                  <a:pt x="11818" y="16284"/>
                  <a:pt x="11837" y="16328"/>
                  <a:pt x="11873" y="16404"/>
                </a:cubicBezTo>
                <a:cubicBezTo>
                  <a:pt x="11912" y="16486"/>
                  <a:pt x="11888" y="16503"/>
                  <a:pt x="11972" y="1650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Ink 17"/>
          <p:cNvSpPr/>
          <p:nvPr/>
        </p:nvSpPr>
        <p:spPr>
          <a:xfrm>
            <a:off x="4964040" y="5834160"/>
            <a:ext cx="536760" cy="214200"/>
          </a:xfrm>
          <a:custGeom>
            <a:avLst/>
            <a:gdLst/>
            <a:ahLst/>
            <a:rect l="l" t="t" r="r" b="b"/>
            <a:pathLst>
              <a:path w="1490" h="596">
                <a:moveTo>
                  <a:pt x="13791" y="16503"/>
                </a:moveTo>
                <a:cubicBezTo>
                  <a:pt x="13875" y="16503"/>
                  <a:pt x="13943" y="16477"/>
                  <a:pt x="14023" y="16470"/>
                </a:cubicBezTo>
                <a:cubicBezTo>
                  <a:pt x="14158" y="16459"/>
                  <a:pt x="14257" y="16459"/>
                  <a:pt x="14387" y="16437"/>
                </a:cubicBezTo>
              </a:path>
              <a:path w="1490" h="596">
                <a:moveTo>
                  <a:pt x="14387" y="16305"/>
                </a:moveTo>
                <a:cubicBezTo>
                  <a:pt x="14399" y="16268"/>
                  <a:pt x="14432" y="16243"/>
                  <a:pt x="14486" y="16239"/>
                </a:cubicBezTo>
                <a:cubicBezTo>
                  <a:pt x="14591" y="16231"/>
                  <a:pt x="14672" y="16206"/>
                  <a:pt x="14784" y="16206"/>
                </a:cubicBezTo>
                <a:cubicBezTo>
                  <a:pt x="14839" y="16206"/>
                  <a:pt x="14894" y="16206"/>
                  <a:pt x="14949" y="16206"/>
                </a:cubicBezTo>
                <a:cubicBezTo>
                  <a:pt x="14949" y="16362"/>
                  <a:pt x="14991" y="16541"/>
                  <a:pt x="14883" y="16636"/>
                </a:cubicBezTo>
                <a:cubicBezTo>
                  <a:pt x="14825" y="16687"/>
                  <a:pt x="14801" y="16735"/>
                  <a:pt x="14784" y="16801"/>
                </a:cubicBezTo>
                <a:cubicBezTo>
                  <a:pt x="14914" y="16736"/>
                  <a:pt x="14999" y="16707"/>
                  <a:pt x="15147" y="16702"/>
                </a:cubicBezTo>
                <a:cubicBezTo>
                  <a:pt x="15239" y="16699"/>
                  <a:pt x="15260" y="16729"/>
                  <a:pt x="15280" y="166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Ink 18"/>
          <p:cNvSpPr/>
          <p:nvPr/>
        </p:nvSpPr>
        <p:spPr>
          <a:xfrm>
            <a:off x="4940280" y="77389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13725" y="21497"/>
                </a:moveTo>
                <a:lnTo>
                  <a:pt x="13725" y="21497"/>
                </a:lnTo>
              </a:path>
            </a:pathLst>
          </a:custGeom>
          <a:noFill/>
          <a:ln cap="rnd" w="19080">
            <a:solidFill>
              <a:srgbClr val="ffc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Ink 19"/>
          <p:cNvSpPr/>
          <p:nvPr/>
        </p:nvSpPr>
        <p:spPr>
          <a:xfrm>
            <a:off x="2320920" y="7299360"/>
            <a:ext cx="3263760" cy="642960"/>
          </a:xfrm>
          <a:custGeom>
            <a:avLst/>
            <a:gdLst/>
            <a:ahLst/>
            <a:rect l="l" t="t" r="r" b="b"/>
            <a:pathLst>
              <a:path w="9063" h="1787">
                <a:moveTo>
                  <a:pt x="6449" y="20968"/>
                </a:moveTo>
                <a:cubicBezTo>
                  <a:pt x="6510" y="20968"/>
                  <a:pt x="6528" y="20941"/>
                  <a:pt x="6582" y="20935"/>
                </a:cubicBezTo>
                <a:cubicBezTo>
                  <a:pt x="6721" y="20920"/>
                  <a:pt x="6871" y="20935"/>
                  <a:pt x="7011" y="20935"/>
                </a:cubicBezTo>
              </a:path>
              <a:path w="9063" h="1787">
                <a:moveTo>
                  <a:pt x="7011" y="20803"/>
                </a:moveTo>
                <a:cubicBezTo>
                  <a:pt x="7011" y="20733"/>
                  <a:pt x="7030" y="20733"/>
                  <a:pt x="7045" y="20704"/>
                </a:cubicBezTo>
                <a:cubicBezTo>
                  <a:pt x="7050" y="20694"/>
                  <a:pt x="7110" y="20629"/>
                  <a:pt x="7144" y="20671"/>
                </a:cubicBezTo>
                <a:cubicBezTo>
                  <a:pt x="7155" y="20685"/>
                  <a:pt x="7164" y="20760"/>
                  <a:pt x="7177" y="20770"/>
                </a:cubicBezTo>
                <a:cubicBezTo>
                  <a:pt x="7211" y="20797"/>
                  <a:pt x="7236" y="20829"/>
                  <a:pt x="7243" y="20902"/>
                </a:cubicBezTo>
                <a:cubicBezTo>
                  <a:pt x="7255" y="21018"/>
                  <a:pt x="7279" y="21312"/>
                  <a:pt x="7210" y="21398"/>
                </a:cubicBezTo>
                <a:cubicBezTo>
                  <a:pt x="7172" y="21446"/>
                  <a:pt x="7098" y="21509"/>
                  <a:pt x="7045" y="21530"/>
                </a:cubicBezTo>
                <a:cubicBezTo>
                  <a:pt x="6986" y="21553"/>
                  <a:pt x="6963" y="21521"/>
                  <a:pt x="6945" y="21497"/>
                </a:cubicBezTo>
                <a:cubicBezTo>
                  <a:pt x="6933" y="21481"/>
                  <a:pt x="6878" y="21392"/>
                  <a:pt x="6912" y="21365"/>
                </a:cubicBezTo>
                <a:cubicBezTo>
                  <a:pt x="6943" y="21340"/>
                  <a:pt x="6954" y="21332"/>
                  <a:pt x="7011" y="21332"/>
                </a:cubicBezTo>
                <a:cubicBezTo>
                  <a:pt x="7077" y="21332"/>
                  <a:pt x="7118" y="21325"/>
                  <a:pt x="7177" y="21365"/>
                </a:cubicBezTo>
                <a:cubicBezTo>
                  <a:pt x="7224" y="21396"/>
                  <a:pt x="7256" y="21438"/>
                  <a:pt x="7276" y="21464"/>
                </a:cubicBezTo>
                <a:cubicBezTo>
                  <a:pt x="7298" y="21494"/>
                  <a:pt x="7371" y="21516"/>
                  <a:pt x="7375" y="21530"/>
                </a:cubicBezTo>
                <a:cubicBezTo>
                  <a:pt x="7393" y="21596"/>
                  <a:pt x="7344" y="21673"/>
                  <a:pt x="7408" y="21729"/>
                </a:cubicBezTo>
                <a:cubicBezTo>
                  <a:pt x="7485" y="21796"/>
                  <a:pt x="7408" y="21709"/>
                  <a:pt x="7441" y="21696"/>
                </a:cubicBezTo>
                <a:cubicBezTo>
                  <a:pt x="7537" y="21658"/>
                  <a:pt x="7480" y="21711"/>
                  <a:pt x="7541" y="21630"/>
                </a:cubicBezTo>
              </a:path>
              <a:path w="9063" h="1787">
                <a:moveTo>
                  <a:pt x="7640" y="21398"/>
                </a:moveTo>
                <a:cubicBezTo>
                  <a:pt x="7640" y="21431"/>
                  <a:pt x="7640" y="21442"/>
                  <a:pt x="7640" y="21464"/>
                </a:cubicBezTo>
                <a:cubicBezTo>
                  <a:pt x="7673" y="21453"/>
                  <a:pt x="7697" y="21386"/>
                  <a:pt x="7706" y="21332"/>
                </a:cubicBezTo>
                <a:cubicBezTo>
                  <a:pt x="7706" y="21310"/>
                  <a:pt x="7706" y="21288"/>
                  <a:pt x="7706" y="21266"/>
                </a:cubicBezTo>
              </a:path>
              <a:path w="9063" h="1787">
                <a:moveTo>
                  <a:pt x="8004" y="20704"/>
                </a:moveTo>
                <a:cubicBezTo>
                  <a:pt x="8015" y="20671"/>
                  <a:pt x="8082" y="20647"/>
                  <a:pt x="8136" y="20638"/>
                </a:cubicBezTo>
                <a:cubicBezTo>
                  <a:pt x="8211" y="20625"/>
                  <a:pt x="8253" y="20604"/>
                  <a:pt x="8334" y="20604"/>
                </a:cubicBezTo>
                <a:cubicBezTo>
                  <a:pt x="8334" y="20839"/>
                  <a:pt x="8331" y="21074"/>
                  <a:pt x="8367" y="21299"/>
                </a:cubicBezTo>
                <a:cubicBezTo>
                  <a:pt x="8379" y="21373"/>
                  <a:pt x="8332" y="21475"/>
                  <a:pt x="8401" y="21497"/>
                </a:cubicBezTo>
              </a:path>
              <a:path w="9063" h="1787">
                <a:moveTo>
                  <a:pt x="8334" y="20737"/>
                </a:moveTo>
                <a:cubicBezTo>
                  <a:pt x="8333" y="20733"/>
                  <a:pt x="8306" y="20642"/>
                  <a:pt x="8301" y="20638"/>
                </a:cubicBezTo>
                <a:cubicBezTo>
                  <a:pt x="8259" y="20604"/>
                  <a:pt x="8197" y="20571"/>
                  <a:pt x="8136" y="20571"/>
                </a:cubicBezTo>
                <a:cubicBezTo>
                  <a:pt x="8081" y="20571"/>
                  <a:pt x="8026" y="20571"/>
                  <a:pt x="7971" y="20571"/>
                </a:cubicBezTo>
                <a:cubicBezTo>
                  <a:pt x="7971" y="20649"/>
                  <a:pt x="7944" y="20658"/>
                  <a:pt x="7938" y="20704"/>
                </a:cubicBezTo>
                <a:cubicBezTo>
                  <a:pt x="7929" y="20778"/>
                  <a:pt x="7956" y="20806"/>
                  <a:pt x="7971" y="20836"/>
                </a:cubicBezTo>
                <a:cubicBezTo>
                  <a:pt x="7994" y="20882"/>
                  <a:pt x="8006" y="20869"/>
                  <a:pt x="8070" y="20869"/>
                </a:cubicBezTo>
                <a:cubicBezTo>
                  <a:pt x="8111" y="20869"/>
                  <a:pt x="8158" y="20858"/>
                  <a:pt x="8169" y="20836"/>
                </a:cubicBezTo>
                <a:cubicBezTo>
                  <a:pt x="8188" y="20799"/>
                  <a:pt x="8224" y="20781"/>
                  <a:pt x="8268" y="20737"/>
                </a:cubicBezTo>
                <a:cubicBezTo>
                  <a:pt x="8305" y="20700"/>
                  <a:pt x="8322" y="20652"/>
                  <a:pt x="8334" y="20604"/>
                </a:cubicBezTo>
                <a:cubicBezTo>
                  <a:pt x="8334" y="20754"/>
                  <a:pt x="8332" y="20893"/>
                  <a:pt x="8367" y="21034"/>
                </a:cubicBezTo>
                <a:cubicBezTo>
                  <a:pt x="8388" y="21120"/>
                  <a:pt x="8386" y="21244"/>
                  <a:pt x="8401" y="21332"/>
                </a:cubicBezTo>
                <a:cubicBezTo>
                  <a:pt x="8416" y="21417"/>
                  <a:pt x="8398" y="21519"/>
                  <a:pt x="8434" y="21597"/>
                </a:cubicBezTo>
                <a:cubicBezTo>
                  <a:pt x="8464" y="21663"/>
                  <a:pt x="8454" y="21682"/>
                  <a:pt x="8467" y="21663"/>
                </a:cubicBezTo>
                <a:cubicBezTo>
                  <a:pt x="8478" y="21652"/>
                  <a:pt x="8489" y="21641"/>
                  <a:pt x="8500" y="21630"/>
                </a:cubicBezTo>
              </a:path>
              <a:path w="9063" h="1787">
                <a:moveTo>
                  <a:pt x="8698" y="20869"/>
                </a:moveTo>
                <a:cubicBezTo>
                  <a:pt x="8820" y="20841"/>
                  <a:pt x="8939" y="20823"/>
                  <a:pt x="9062" y="20803"/>
                </a:cubicBezTo>
                <a:cubicBezTo>
                  <a:pt x="9062" y="21123"/>
                  <a:pt x="9062" y="21442"/>
                  <a:pt x="9062" y="21762"/>
                </a:cubicBezTo>
              </a:path>
              <a:path w="9063" h="1787">
                <a:moveTo>
                  <a:pt x="8897" y="21299"/>
                </a:moveTo>
                <a:cubicBezTo>
                  <a:pt x="8958" y="21299"/>
                  <a:pt x="8975" y="21272"/>
                  <a:pt x="9029" y="21266"/>
                </a:cubicBezTo>
                <a:cubicBezTo>
                  <a:pt x="9104" y="21258"/>
                  <a:pt x="9135" y="21279"/>
                  <a:pt x="9194" y="21299"/>
                </a:cubicBezTo>
                <a:cubicBezTo>
                  <a:pt x="9273" y="21325"/>
                  <a:pt x="9408" y="21327"/>
                  <a:pt x="9492" y="21332"/>
                </a:cubicBezTo>
                <a:cubicBezTo>
                  <a:pt x="9503" y="21332"/>
                  <a:pt x="9514" y="21332"/>
                  <a:pt x="9525" y="21332"/>
                </a:cubicBezTo>
              </a:path>
              <a:path w="9063" h="1787">
                <a:moveTo>
                  <a:pt x="9492" y="20968"/>
                </a:moveTo>
                <a:cubicBezTo>
                  <a:pt x="9492" y="20852"/>
                  <a:pt x="9519" y="20894"/>
                  <a:pt x="9624" y="20869"/>
                </a:cubicBezTo>
                <a:cubicBezTo>
                  <a:pt x="9718" y="20846"/>
                  <a:pt x="9797" y="20788"/>
                  <a:pt x="9889" y="20770"/>
                </a:cubicBezTo>
                <a:cubicBezTo>
                  <a:pt x="9889" y="20843"/>
                  <a:pt x="9899" y="20903"/>
                  <a:pt x="9856" y="20968"/>
                </a:cubicBezTo>
                <a:cubicBezTo>
                  <a:pt x="9805" y="21044"/>
                  <a:pt x="9661" y="21112"/>
                  <a:pt x="9624" y="21167"/>
                </a:cubicBezTo>
                <a:cubicBezTo>
                  <a:pt x="9624" y="21178"/>
                  <a:pt x="9624" y="21189"/>
                  <a:pt x="9624" y="21200"/>
                </a:cubicBezTo>
                <a:cubicBezTo>
                  <a:pt x="9695" y="21200"/>
                  <a:pt x="9756" y="21230"/>
                  <a:pt x="9790" y="21299"/>
                </a:cubicBezTo>
                <a:cubicBezTo>
                  <a:pt x="9823" y="21364"/>
                  <a:pt x="9825" y="21473"/>
                  <a:pt x="9856" y="21530"/>
                </a:cubicBezTo>
                <a:cubicBezTo>
                  <a:pt x="9880" y="21573"/>
                  <a:pt x="9868" y="21625"/>
                  <a:pt x="9889" y="21663"/>
                </a:cubicBezTo>
                <a:cubicBezTo>
                  <a:pt x="9919" y="21718"/>
                  <a:pt x="9922" y="21728"/>
                  <a:pt x="9922" y="21795"/>
                </a:cubicBezTo>
                <a:cubicBezTo>
                  <a:pt x="9922" y="21836"/>
                  <a:pt x="9911" y="21883"/>
                  <a:pt x="9889" y="21894"/>
                </a:cubicBezTo>
                <a:cubicBezTo>
                  <a:pt x="9878" y="21894"/>
                  <a:pt x="9867" y="21894"/>
                  <a:pt x="9856" y="21894"/>
                </a:cubicBezTo>
                <a:cubicBezTo>
                  <a:pt x="9813" y="21830"/>
                  <a:pt x="9810" y="21813"/>
                  <a:pt x="9757" y="21795"/>
                </a:cubicBezTo>
              </a:path>
              <a:path w="9063" h="1787">
                <a:moveTo>
                  <a:pt x="10649" y="20968"/>
                </a:moveTo>
                <a:cubicBezTo>
                  <a:pt x="10649" y="20935"/>
                  <a:pt x="10649" y="20924"/>
                  <a:pt x="10649" y="20902"/>
                </a:cubicBezTo>
                <a:cubicBezTo>
                  <a:pt x="10577" y="20920"/>
                  <a:pt x="10523" y="20955"/>
                  <a:pt x="10451" y="21001"/>
                </a:cubicBezTo>
                <a:cubicBezTo>
                  <a:pt x="10339" y="21072"/>
                  <a:pt x="10245" y="21160"/>
                  <a:pt x="10153" y="21233"/>
                </a:cubicBezTo>
                <a:cubicBezTo>
                  <a:pt x="10131" y="21244"/>
                  <a:pt x="10109" y="21255"/>
                  <a:pt x="10087" y="21266"/>
                </a:cubicBezTo>
                <a:cubicBezTo>
                  <a:pt x="10158" y="21266"/>
                  <a:pt x="10194" y="21268"/>
                  <a:pt x="10253" y="21299"/>
                </a:cubicBezTo>
                <a:cubicBezTo>
                  <a:pt x="10348" y="21349"/>
                  <a:pt x="10428" y="21371"/>
                  <a:pt x="10484" y="21431"/>
                </a:cubicBezTo>
                <a:cubicBezTo>
                  <a:pt x="10542" y="21494"/>
                  <a:pt x="10577" y="21523"/>
                  <a:pt x="10649" y="21564"/>
                </a:cubicBezTo>
                <a:cubicBezTo>
                  <a:pt x="10685" y="21585"/>
                  <a:pt x="10811" y="21689"/>
                  <a:pt x="10749" y="21597"/>
                </a:cubicBezTo>
              </a:path>
              <a:path w="9063" h="1787">
                <a:moveTo>
                  <a:pt x="11377" y="20869"/>
                </a:moveTo>
                <a:cubicBezTo>
                  <a:pt x="11377" y="20687"/>
                  <a:pt x="11398" y="20434"/>
                  <a:pt x="11344" y="20307"/>
                </a:cubicBezTo>
                <a:cubicBezTo>
                  <a:pt x="11324" y="20259"/>
                  <a:pt x="11307" y="20274"/>
                  <a:pt x="11245" y="20274"/>
                </a:cubicBezTo>
                <a:cubicBezTo>
                  <a:pt x="11196" y="20274"/>
                  <a:pt x="11180" y="20361"/>
                  <a:pt x="11146" y="20406"/>
                </a:cubicBezTo>
                <a:cubicBezTo>
                  <a:pt x="11104" y="20462"/>
                  <a:pt x="11113" y="20496"/>
                  <a:pt x="11113" y="20571"/>
                </a:cubicBezTo>
                <a:cubicBezTo>
                  <a:pt x="11113" y="20701"/>
                  <a:pt x="11109" y="20823"/>
                  <a:pt x="11146" y="20935"/>
                </a:cubicBezTo>
                <a:cubicBezTo>
                  <a:pt x="11167" y="20998"/>
                  <a:pt x="11173" y="21070"/>
                  <a:pt x="11212" y="21134"/>
                </a:cubicBezTo>
                <a:cubicBezTo>
                  <a:pt x="11244" y="21187"/>
                  <a:pt x="11254" y="21240"/>
                  <a:pt x="11278" y="21299"/>
                </a:cubicBezTo>
                <a:cubicBezTo>
                  <a:pt x="11302" y="21359"/>
                  <a:pt x="11304" y="21419"/>
                  <a:pt x="11344" y="21464"/>
                </a:cubicBezTo>
                <a:cubicBezTo>
                  <a:pt x="11377" y="21502"/>
                  <a:pt x="11405" y="21582"/>
                  <a:pt x="11410" y="21630"/>
                </a:cubicBezTo>
                <a:cubicBezTo>
                  <a:pt x="11418" y="21705"/>
                  <a:pt x="11410" y="21786"/>
                  <a:pt x="11410" y="21861"/>
                </a:cubicBezTo>
                <a:cubicBezTo>
                  <a:pt x="11267" y="21861"/>
                  <a:pt x="11123" y="21861"/>
                  <a:pt x="10980" y="21861"/>
                </a:cubicBezTo>
                <a:cubicBezTo>
                  <a:pt x="10965" y="21774"/>
                  <a:pt x="10931" y="21808"/>
                  <a:pt x="10914" y="21729"/>
                </a:cubicBezTo>
                <a:cubicBezTo>
                  <a:pt x="10914" y="21669"/>
                  <a:pt x="10919" y="21652"/>
                  <a:pt x="10881" y="21630"/>
                </a:cubicBezTo>
              </a:path>
              <a:path w="9063" h="1787">
                <a:moveTo>
                  <a:pt x="12336" y="20836"/>
                </a:moveTo>
                <a:cubicBezTo>
                  <a:pt x="12327" y="20872"/>
                  <a:pt x="12268" y="20977"/>
                  <a:pt x="12237" y="21001"/>
                </a:cubicBezTo>
                <a:cubicBezTo>
                  <a:pt x="12192" y="21036"/>
                  <a:pt x="12143" y="21103"/>
                  <a:pt x="12105" y="21167"/>
                </a:cubicBezTo>
                <a:cubicBezTo>
                  <a:pt x="12046" y="21266"/>
                  <a:pt x="12056" y="21196"/>
                  <a:pt x="12039" y="21299"/>
                </a:cubicBezTo>
                <a:cubicBezTo>
                  <a:pt x="11935" y="21316"/>
                  <a:pt x="11990" y="21322"/>
                  <a:pt x="11939" y="21398"/>
                </a:cubicBezTo>
                <a:cubicBezTo>
                  <a:pt x="11900" y="21457"/>
                  <a:pt x="11867" y="21497"/>
                  <a:pt x="11906" y="21497"/>
                </a:cubicBezTo>
                <a:cubicBezTo>
                  <a:pt x="12055" y="21497"/>
                  <a:pt x="12188" y="21503"/>
                  <a:pt x="12336" y="21530"/>
                </a:cubicBezTo>
                <a:cubicBezTo>
                  <a:pt x="12464" y="21554"/>
                  <a:pt x="12572" y="21564"/>
                  <a:pt x="12700" y="21564"/>
                </a:cubicBezTo>
              </a:path>
              <a:path w="9063" h="1787">
                <a:moveTo>
                  <a:pt x="13262" y="20737"/>
                </a:moveTo>
                <a:cubicBezTo>
                  <a:pt x="13262" y="20842"/>
                  <a:pt x="13239" y="20938"/>
                  <a:pt x="13229" y="21034"/>
                </a:cubicBezTo>
                <a:cubicBezTo>
                  <a:pt x="13217" y="21150"/>
                  <a:pt x="13196" y="21248"/>
                  <a:pt x="13196" y="21365"/>
                </a:cubicBezTo>
                <a:cubicBezTo>
                  <a:pt x="13196" y="21431"/>
                  <a:pt x="13196" y="21498"/>
                  <a:pt x="13196" y="21564"/>
                </a:cubicBezTo>
              </a:path>
              <a:path w="9063" h="1787">
                <a:moveTo>
                  <a:pt x="13527" y="20704"/>
                </a:moveTo>
                <a:cubicBezTo>
                  <a:pt x="13527" y="20980"/>
                  <a:pt x="13542" y="21258"/>
                  <a:pt x="13494" y="21530"/>
                </a:cubicBezTo>
                <a:cubicBezTo>
                  <a:pt x="13464" y="21697"/>
                  <a:pt x="13428" y="21856"/>
                  <a:pt x="13428" y="22027"/>
                </a:cubicBezTo>
                <a:cubicBezTo>
                  <a:pt x="13428" y="22115"/>
                  <a:pt x="13428" y="21975"/>
                  <a:pt x="13428" y="21960"/>
                </a:cubicBezTo>
              </a:path>
              <a:path w="9063" h="1787">
                <a:moveTo>
                  <a:pt x="13924" y="21001"/>
                </a:moveTo>
                <a:cubicBezTo>
                  <a:pt x="13972" y="21001"/>
                  <a:pt x="14021" y="20992"/>
                  <a:pt x="14056" y="20968"/>
                </a:cubicBezTo>
                <a:cubicBezTo>
                  <a:pt x="14117" y="20927"/>
                  <a:pt x="14145" y="20902"/>
                  <a:pt x="14221" y="20902"/>
                </a:cubicBezTo>
                <a:cubicBezTo>
                  <a:pt x="14254" y="20902"/>
                  <a:pt x="14266" y="20902"/>
                  <a:pt x="14288" y="20902"/>
                </a:cubicBezTo>
                <a:cubicBezTo>
                  <a:pt x="14288" y="20963"/>
                  <a:pt x="14315" y="20980"/>
                  <a:pt x="14321" y="21034"/>
                </a:cubicBezTo>
                <a:cubicBezTo>
                  <a:pt x="14330" y="21115"/>
                  <a:pt x="14354" y="21130"/>
                  <a:pt x="14354" y="21233"/>
                </a:cubicBezTo>
                <a:cubicBezTo>
                  <a:pt x="14354" y="21395"/>
                  <a:pt x="14349" y="21545"/>
                  <a:pt x="14387" y="21696"/>
                </a:cubicBezTo>
                <a:cubicBezTo>
                  <a:pt x="14397" y="21734"/>
                  <a:pt x="14387" y="21788"/>
                  <a:pt x="14387" y="21828"/>
                </a:cubicBezTo>
              </a:path>
              <a:path w="9063" h="1787">
                <a:moveTo>
                  <a:pt x="14188" y="21464"/>
                </a:moveTo>
                <a:cubicBezTo>
                  <a:pt x="14217" y="21377"/>
                  <a:pt x="14361" y="21453"/>
                  <a:pt x="14453" y="21431"/>
                </a:cubicBezTo>
                <a:cubicBezTo>
                  <a:pt x="14537" y="21411"/>
                  <a:pt x="14560" y="21398"/>
                  <a:pt x="14651" y="21398"/>
                </a:cubicBezTo>
                <a:cubicBezTo>
                  <a:pt x="14695" y="21398"/>
                  <a:pt x="14740" y="21398"/>
                  <a:pt x="14784" y="21398"/>
                </a:cubicBezTo>
              </a:path>
              <a:path w="9063" h="1787">
                <a:moveTo>
                  <a:pt x="13692" y="21530"/>
                </a:moveTo>
                <a:cubicBezTo>
                  <a:pt x="13676" y="21536"/>
                  <a:pt x="13620" y="21599"/>
                  <a:pt x="13659" y="21630"/>
                </a:cubicBezTo>
                <a:cubicBezTo>
                  <a:pt x="13682" y="21649"/>
                  <a:pt x="13720" y="21693"/>
                  <a:pt x="13725" y="21630"/>
                </a:cubicBezTo>
                <a:cubicBezTo>
                  <a:pt x="13725" y="21608"/>
                  <a:pt x="13725" y="21586"/>
                  <a:pt x="13725" y="21564"/>
                </a:cubicBezTo>
                <a:cubicBezTo>
                  <a:pt x="13725" y="21467"/>
                  <a:pt x="13725" y="21607"/>
                  <a:pt x="13725" y="21630"/>
                </a:cubicBezTo>
                <a:cubicBezTo>
                  <a:pt x="13725" y="21534"/>
                  <a:pt x="13702" y="21589"/>
                  <a:pt x="13725" y="21630"/>
                </a:cubicBezTo>
                <a:cubicBezTo>
                  <a:pt x="13788" y="21743"/>
                  <a:pt x="13730" y="21653"/>
                  <a:pt x="13758" y="21630"/>
                </a:cubicBezTo>
                <a:cubicBezTo>
                  <a:pt x="13791" y="21630"/>
                  <a:pt x="13802" y="21630"/>
                  <a:pt x="13791" y="21597"/>
                </a:cubicBezTo>
              </a:path>
              <a:path w="9063" h="1787">
                <a:moveTo>
                  <a:pt x="15214" y="21001"/>
                </a:moveTo>
                <a:cubicBezTo>
                  <a:pt x="15195" y="20973"/>
                  <a:pt x="15151" y="20938"/>
                  <a:pt x="15114" y="20935"/>
                </a:cubicBezTo>
                <a:cubicBezTo>
                  <a:pt x="15008" y="20927"/>
                  <a:pt x="14936" y="20939"/>
                  <a:pt x="14850" y="20968"/>
                </a:cubicBezTo>
                <a:cubicBezTo>
                  <a:pt x="14783" y="20990"/>
                  <a:pt x="14784" y="21033"/>
                  <a:pt x="14784" y="21101"/>
                </a:cubicBezTo>
                <a:cubicBezTo>
                  <a:pt x="14784" y="21153"/>
                  <a:pt x="14817" y="21173"/>
                  <a:pt x="14817" y="21233"/>
                </a:cubicBezTo>
                <a:cubicBezTo>
                  <a:pt x="14817" y="21271"/>
                  <a:pt x="14864" y="21367"/>
                  <a:pt x="14883" y="21398"/>
                </a:cubicBezTo>
                <a:cubicBezTo>
                  <a:pt x="14906" y="21437"/>
                  <a:pt x="14953" y="21493"/>
                  <a:pt x="14982" y="21497"/>
                </a:cubicBezTo>
                <a:cubicBezTo>
                  <a:pt x="15078" y="21509"/>
                  <a:pt x="15201" y="21521"/>
                  <a:pt x="15280" y="21530"/>
                </a:cubicBezTo>
                <a:cubicBezTo>
                  <a:pt x="15401" y="21544"/>
                  <a:pt x="15411" y="21549"/>
                  <a:pt x="15511" y="21564"/>
                </a:cubicBezTo>
                <a:cubicBezTo>
                  <a:pt x="15511" y="21651"/>
                  <a:pt x="15529" y="21757"/>
                  <a:pt x="15478" y="21795"/>
                </a:cubicBezTo>
                <a:cubicBezTo>
                  <a:pt x="15429" y="21832"/>
                  <a:pt x="15413" y="21836"/>
                  <a:pt x="15379" y="21861"/>
                </a:cubicBezTo>
                <a:cubicBezTo>
                  <a:pt x="15329" y="21899"/>
                  <a:pt x="15311" y="21894"/>
                  <a:pt x="15247" y="21894"/>
                </a:cubicBezTo>
                <a:cubicBezTo>
                  <a:pt x="15214" y="21894"/>
                  <a:pt x="15202" y="21894"/>
                  <a:pt x="15180" y="21894"/>
                </a:cubicBezTo>
              </a:path>
            </a:pathLst>
          </a:custGeom>
          <a:noFill/>
          <a:ln cap="rnd" w="1908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Ink 20"/>
          <p:cNvSpPr/>
          <p:nvPr/>
        </p:nvSpPr>
        <p:spPr>
          <a:xfrm>
            <a:off x="3370320" y="5000760"/>
            <a:ext cx="1344600" cy="965160"/>
          </a:xfrm>
          <a:custGeom>
            <a:avLst/>
            <a:gdLst/>
            <a:ahLst/>
            <a:rect l="l" t="t" r="r" b="b"/>
            <a:pathLst>
              <a:path w="3738" h="2680">
                <a:moveTo>
                  <a:pt x="9360" y="16239"/>
                </a:moveTo>
                <a:cubicBezTo>
                  <a:pt x="9736" y="16239"/>
                  <a:pt x="10119" y="16236"/>
                  <a:pt x="10484" y="16272"/>
                </a:cubicBezTo>
                <a:cubicBezTo>
                  <a:pt x="10869" y="16310"/>
                  <a:pt x="11340" y="16263"/>
                  <a:pt x="11675" y="16305"/>
                </a:cubicBezTo>
                <a:cubicBezTo>
                  <a:pt x="11730" y="16312"/>
                  <a:pt x="11753" y="16330"/>
                  <a:pt x="11807" y="16338"/>
                </a:cubicBezTo>
                <a:cubicBezTo>
                  <a:pt x="12183" y="16396"/>
                  <a:pt x="12617" y="16338"/>
                  <a:pt x="12998" y="16338"/>
                </a:cubicBezTo>
                <a:cubicBezTo>
                  <a:pt x="12998" y="15673"/>
                  <a:pt x="12960" y="14963"/>
                  <a:pt x="13031" y="14321"/>
                </a:cubicBezTo>
                <a:cubicBezTo>
                  <a:pt x="13036" y="14277"/>
                  <a:pt x="13055" y="14264"/>
                  <a:pt x="13064" y="14221"/>
                </a:cubicBezTo>
                <a:cubicBezTo>
                  <a:pt x="13064" y="14188"/>
                  <a:pt x="13064" y="14177"/>
                  <a:pt x="13064" y="14155"/>
                </a:cubicBezTo>
                <a:cubicBezTo>
                  <a:pt x="13072" y="14147"/>
                  <a:pt x="13113" y="14051"/>
                  <a:pt x="13097" y="14122"/>
                </a:cubicBezTo>
                <a:cubicBezTo>
                  <a:pt x="13084" y="14181"/>
                  <a:pt x="13093" y="14183"/>
                  <a:pt x="13064" y="14221"/>
                </a:cubicBezTo>
                <a:cubicBezTo>
                  <a:pt x="13034" y="14260"/>
                  <a:pt x="13046" y="14331"/>
                  <a:pt x="12998" y="14321"/>
                </a:cubicBezTo>
                <a:cubicBezTo>
                  <a:pt x="12942" y="14309"/>
                  <a:pt x="12970" y="14277"/>
                  <a:pt x="12965" y="14221"/>
                </a:cubicBezTo>
                <a:cubicBezTo>
                  <a:pt x="12959" y="14147"/>
                  <a:pt x="12995" y="14046"/>
                  <a:pt x="12998" y="14023"/>
                </a:cubicBezTo>
                <a:cubicBezTo>
                  <a:pt x="13004" y="13975"/>
                  <a:pt x="13039" y="13939"/>
                  <a:pt x="13031" y="13891"/>
                </a:cubicBezTo>
                <a:cubicBezTo>
                  <a:pt x="13031" y="13924"/>
                  <a:pt x="13031" y="13935"/>
                  <a:pt x="12998" y="13924"/>
                </a:cubicBezTo>
                <a:cubicBezTo>
                  <a:pt x="12976" y="13955"/>
                  <a:pt x="12952" y="13965"/>
                  <a:pt x="12932" y="13990"/>
                </a:cubicBezTo>
                <a:cubicBezTo>
                  <a:pt x="12903" y="14027"/>
                  <a:pt x="12923" y="14040"/>
                  <a:pt x="12898" y="14089"/>
                </a:cubicBezTo>
                <a:cubicBezTo>
                  <a:pt x="12890" y="14106"/>
                  <a:pt x="12848" y="14167"/>
                  <a:pt x="12832" y="14188"/>
                </a:cubicBezTo>
                <a:cubicBezTo>
                  <a:pt x="12811" y="14214"/>
                  <a:pt x="12791" y="14251"/>
                  <a:pt x="12766" y="14288"/>
                </a:cubicBezTo>
                <a:cubicBezTo>
                  <a:pt x="12753" y="14307"/>
                  <a:pt x="12721" y="14344"/>
                  <a:pt x="12700" y="14387"/>
                </a:cubicBezTo>
                <a:cubicBezTo>
                  <a:pt x="12697" y="14394"/>
                  <a:pt x="12654" y="14458"/>
                  <a:pt x="12634" y="14486"/>
                </a:cubicBezTo>
                <a:cubicBezTo>
                  <a:pt x="12618" y="14508"/>
                  <a:pt x="12591" y="14559"/>
                  <a:pt x="12568" y="14585"/>
                </a:cubicBezTo>
                <a:cubicBezTo>
                  <a:pt x="12531" y="14626"/>
                  <a:pt x="12528" y="14660"/>
                  <a:pt x="12502" y="14684"/>
                </a:cubicBezTo>
                <a:cubicBezTo>
                  <a:pt x="12464" y="14719"/>
                  <a:pt x="12469" y="14740"/>
                  <a:pt x="12435" y="14784"/>
                </a:cubicBezTo>
                <a:cubicBezTo>
                  <a:pt x="12427" y="14794"/>
                  <a:pt x="12345" y="14837"/>
                  <a:pt x="12336" y="14850"/>
                </a:cubicBezTo>
                <a:cubicBezTo>
                  <a:pt x="12316" y="14881"/>
                  <a:pt x="12335" y="14936"/>
                  <a:pt x="12303" y="14949"/>
                </a:cubicBezTo>
                <a:cubicBezTo>
                  <a:pt x="12242" y="14973"/>
                  <a:pt x="12212" y="14954"/>
                  <a:pt x="12171" y="14982"/>
                </a:cubicBezTo>
                <a:cubicBezTo>
                  <a:pt x="12143" y="15001"/>
                  <a:pt x="12116" y="15026"/>
                  <a:pt x="12072" y="15048"/>
                </a:cubicBezTo>
                <a:cubicBezTo>
                  <a:pt x="12048" y="15060"/>
                  <a:pt x="12004" y="15098"/>
                  <a:pt x="11972" y="15114"/>
                </a:cubicBezTo>
                <a:cubicBezTo>
                  <a:pt x="11967" y="15117"/>
                  <a:pt x="11875" y="15174"/>
                  <a:pt x="11840" y="15180"/>
                </a:cubicBezTo>
                <a:cubicBezTo>
                  <a:pt x="11781" y="15191"/>
                  <a:pt x="11758" y="15197"/>
                  <a:pt x="11708" y="15214"/>
                </a:cubicBezTo>
                <a:cubicBezTo>
                  <a:pt x="11666" y="15228"/>
                  <a:pt x="11637" y="15227"/>
                  <a:pt x="11576" y="15247"/>
                </a:cubicBezTo>
                <a:cubicBezTo>
                  <a:pt x="11567" y="15250"/>
                  <a:pt x="11484" y="15268"/>
                  <a:pt x="11443" y="15280"/>
                </a:cubicBezTo>
                <a:cubicBezTo>
                  <a:pt x="11401" y="15292"/>
                  <a:pt x="11386" y="15301"/>
                  <a:pt x="11344" y="15313"/>
                </a:cubicBezTo>
                <a:cubicBezTo>
                  <a:pt x="11331" y="15317"/>
                  <a:pt x="11278" y="15374"/>
                  <a:pt x="11245" y="15379"/>
                </a:cubicBezTo>
                <a:cubicBezTo>
                  <a:pt x="11171" y="15390"/>
                  <a:pt x="11109" y="15396"/>
                  <a:pt x="11046" y="15412"/>
                </a:cubicBezTo>
                <a:cubicBezTo>
                  <a:pt x="10980" y="15428"/>
                  <a:pt x="10914" y="15463"/>
                  <a:pt x="10848" y="15478"/>
                </a:cubicBezTo>
                <a:cubicBezTo>
                  <a:pt x="10781" y="15494"/>
                  <a:pt x="10716" y="15487"/>
                  <a:pt x="10649" y="15511"/>
                </a:cubicBezTo>
                <a:cubicBezTo>
                  <a:pt x="10630" y="15518"/>
                  <a:pt x="10581" y="15565"/>
                  <a:pt x="10550" y="15577"/>
                </a:cubicBezTo>
                <a:cubicBezTo>
                  <a:pt x="10496" y="15598"/>
                  <a:pt x="10435" y="15622"/>
                  <a:pt x="10385" y="15643"/>
                </a:cubicBezTo>
                <a:cubicBezTo>
                  <a:pt x="10337" y="15663"/>
                  <a:pt x="10272" y="15699"/>
                  <a:pt x="10253" y="15710"/>
                </a:cubicBezTo>
                <a:cubicBezTo>
                  <a:pt x="10210" y="15734"/>
                  <a:pt x="10189" y="15725"/>
                  <a:pt x="10153" y="15743"/>
                </a:cubicBezTo>
                <a:cubicBezTo>
                  <a:pt x="10109" y="15765"/>
                  <a:pt x="10091" y="15762"/>
                  <a:pt x="10054" y="15776"/>
                </a:cubicBezTo>
                <a:cubicBezTo>
                  <a:pt x="10006" y="15795"/>
                  <a:pt x="9969" y="15820"/>
                  <a:pt x="9922" y="15842"/>
                </a:cubicBezTo>
                <a:cubicBezTo>
                  <a:pt x="9886" y="15858"/>
                  <a:pt x="9835" y="15902"/>
                  <a:pt x="9823" y="15908"/>
                </a:cubicBezTo>
                <a:cubicBezTo>
                  <a:pt x="9812" y="15908"/>
                  <a:pt x="9801" y="15908"/>
                  <a:pt x="9790" y="15908"/>
                </a:cubicBezTo>
                <a:cubicBezTo>
                  <a:pt x="9811" y="15970"/>
                  <a:pt x="9760" y="15983"/>
                  <a:pt x="9823" y="16007"/>
                </a:cubicBezTo>
                <a:cubicBezTo>
                  <a:pt x="9945" y="16054"/>
                  <a:pt x="10141" y="15986"/>
                  <a:pt x="10253" y="15974"/>
                </a:cubicBezTo>
                <a:cubicBezTo>
                  <a:pt x="10869" y="15908"/>
                  <a:pt x="11551" y="15974"/>
                  <a:pt x="12171" y="15974"/>
                </a:cubicBezTo>
                <a:cubicBezTo>
                  <a:pt x="12244" y="15974"/>
                  <a:pt x="12306" y="15974"/>
                  <a:pt x="12204" y="15974"/>
                </a:cubicBezTo>
                <a:cubicBezTo>
                  <a:pt x="12087" y="15974"/>
                  <a:pt x="11980" y="15995"/>
                  <a:pt x="11873" y="16007"/>
                </a:cubicBezTo>
                <a:cubicBezTo>
                  <a:pt x="11791" y="16016"/>
                  <a:pt x="11753" y="16031"/>
                  <a:pt x="11675" y="16040"/>
                </a:cubicBezTo>
                <a:cubicBezTo>
                  <a:pt x="11628" y="16045"/>
                  <a:pt x="11580" y="16072"/>
                  <a:pt x="11576" y="16073"/>
                </a:cubicBezTo>
                <a:cubicBezTo>
                  <a:pt x="11663" y="16103"/>
                  <a:pt x="11773" y="16140"/>
                  <a:pt x="11873" y="16173"/>
                </a:cubicBezTo>
                <a:cubicBezTo>
                  <a:pt x="12005" y="16217"/>
                  <a:pt x="12097" y="16280"/>
                  <a:pt x="12237" y="16305"/>
                </a:cubicBezTo>
                <a:cubicBezTo>
                  <a:pt x="12270" y="16305"/>
                  <a:pt x="12281" y="16305"/>
                  <a:pt x="12303" y="16305"/>
                </a:cubicBezTo>
                <a:cubicBezTo>
                  <a:pt x="12332" y="16222"/>
                  <a:pt x="12392" y="16129"/>
                  <a:pt x="12402" y="16040"/>
                </a:cubicBezTo>
                <a:cubicBezTo>
                  <a:pt x="12415" y="15915"/>
                  <a:pt x="12431" y="15801"/>
                  <a:pt x="12435" y="15677"/>
                </a:cubicBezTo>
                <a:cubicBezTo>
                  <a:pt x="12440" y="15518"/>
                  <a:pt x="12452" y="15363"/>
                  <a:pt x="12468" y="15214"/>
                </a:cubicBezTo>
                <a:cubicBezTo>
                  <a:pt x="12484" y="15068"/>
                  <a:pt x="12482" y="14927"/>
                  <a:pt x="12502" y="14784"/>
                </a:cubicBezTo>
                <a:cubicBezTo>
                  <a:pt x="12502" y="14762"/>
                  <a:pt x="12502" y="14739"/>
                  <a:pt x="12502" y="14717"/>
                </a:cubicBezTo>
                <a:cubicBezTo>
                  <a:pt x="12502" y="14888"/>
                  <a:pt x="12498" y="15048"/>
                  <a:pt x="12468" y="15214"/>
                </a:cubicBezTo>
                <a:cubicBezTo>
                  <a:pt x="12434" y="15403"/>
                  <a:pt x="12413" y="15593"/>
                  <a:pt x="12369" y="15776"/>
                </a:cubicBezTo>
                <a:cubicBezTo>
                  <a:pt x="12342" y="15888"/>
                  <a:pt x="12343" y="15963"/>
                  <a:pt x="12336" y="16073"/>
                </a:cubicBezTo>
                <a:cubicBezTo>
                  <a:pt x="12365" y="15955"/>
                  <a:pt x="12385" y="15833"/>
                  <a:pt x="12402" y="15710"/>
                </a:cubicBezTo>
                <a:cubicBezTo>
                  <a:pt x="12430" y="15509"/>
                  <a:pt x="12423" y="15275"/>
                  <a:pt x="12468" y="15081"/>
                </a:cubicBezTo>
                <a:cubicBezTo>
                  <a:pt x="12498" y="14952"/>
                  <a:pt x="12539" y="14800"/>
                  <a:pt x="12568" y="14684"/>
                </a:cubicBezTo>
                <a:cubicBezTo>
                  <a:pt x="12592" y="14897"/>
                  <a:pt x="12601" y="15097"/>
                  <a:pt x="12601" y="15313"/>
                </a:cubicBezTo>
                <a:cubicBezTo>
                  <a:pt x="12601" y="15611"/>
                  <a:pt x="12595" y="15943"/>
                  <a:pt x="12634" y="16239"/>
                </a:cubicBezTo>
                <a:cubicBezTo>
                  <a:pt x="12639" y="16273"/>
                  <a:pt x="12660" y="16331"/>
                  <a:pt x="12667" y="16371"/>
                </a:cubicBezTo>
                <a:cubicBezTo>
                  <a:pt x="12682" y="16273"/>
                  <a:pt x="12700" y="16162"/>
                  <a:pt x="12700" y="16040"/>
                </a:cubicBezTo>
                <a:cubicBezTo>
                  <a:pt x="12700" y="15712"/>
                  <a:pt x="12796" y="15379"/>
                  <a:pt x="12832" y="15048"/>
                </a:cubicBezTo>
                <a:cubicBezTo>
                  <a:pt x="12858" y="14808"/>
                  <a:pt x="12891" y="14592"/>
                  <a:pt x="12898" y="14354"/>
                </a:cubicBezTo>
                <a:cubicBezTo>
                  <a:pt x="12898" y="14321"/>
                  <a:pt x="12898" y="14310"/>
                  <a:pt x="12898" y="14288"/>
                </a:cubicBezTo>
                <a:cubicBezTo>
                  <a:pt x="12931" y="14449"/>
                  <a:pt x="12982" y="14620"/>
                  <a:pt x="12998" y="14784"/>
                </a:cubicBezTo>
                <a:cubicBezTo>
                  <a:pt x="13023" y="15038"/>
                  <a:pt x="12976" y="15375"/>
                  <a:pt x="13031" y="15577"/>
                </a:cubicBezTo>
                <a:cubicBezTo>
                  <a:pt x="13031" y="15387"/>
                  <a:pt x="13047" y="15199"/>
                  <a:pt x="12998" y="15015"/>
                </a:cubicBezTo>
                <a:cubicBezTo>
                  <a:pt x="12960" y="14872"/>
                  <a:pt x="12981" y="14724"/>
                  <a:pt x="12932" y="14585"/>
                </a:cubicBezTo>
                <a:cubicBezTo>
                  <a:pt x="12932" y="14552"/>
                  <a:pt x="12932" y="14541"/>
                  <a:pt x="12898" y="14552"/>
                </a:cubicBezTo>
                <a:cubicBezTo>
                  <a:pt x="12898" y="14917"/>
                  <a:pt x="12903" y="15289"/>
                  <a:pt x="12865" y="15643"/>
                </a:cubicBezTo>
                <a:cubicBezTo>
                  <a:pt x="12865" y="15798"/>
                  <a:pt x="12865" y="15798"/>
                  <a:pt x="12865" y="15643"/>
                </a:cubicBezTo>
                <a:cubicBezTo>
                  <a:pt x="12865" y="15445"/>
                  <a:pt x="12831" y="15210"/>
                  <a:pt x="12799" y="15015"/>
                </a:cubicBezTo>
                <a:cubicBezTo>
                  <a:pt x="12772" y="14852"/>
                  <a:pt x="12753" y="14671"/>
                  <a:pt x="12700" y="14519"/>
                </a:cubicBezTo>
                <a:cubicBezTo>
                  <a:pt x="12700" y="14486"/>
                  <a:pt x="12700" y="14475"/>
                  <a:pt x="12667" y="14486"/>
                </a:cubicBezTo>
                <a:cubicBezTo>
                  <a:pt x="12594" y="14623"/>
                  <a:pt x="12533" y="14792"/>
                  <a:pt x="12468" y="14949"/>
                </a:cubicBezTo>
                <a:cubicBezTo>
                  <a:pt x="12374" y="15177"/>
                  <a:pt x="12283" y="15419"/>
                  <a:pt x="12204" y="15643"/>
                </a:cubicBezTo>
                <a:cubicBezTo>
                  <a:pt x="12128" y="15857"/>
                  <a:pt x="12174" y="15596"/>
                  <a:pt x="12171" y="15511"/>
                </a:cubicBezTo>
                <a:cubicBezTo>
                  <a:pt x="12163" y="15288"/>
                  <a:pt x="12110" y="15070"/>
                  <a:pt x="12072" y="14850"/>
                </a:cubicBezTo>
                <a:cubicBezTo>
                  <a:pt x="12072" y="14839"/>
                  <a:pt x="12072" y="14828"/>
                  <a:pt x="12072" y="14817"/>
                </a:cubicBezTo>
                <a:cubicBezTo>
                  <a:pt x="12072" y="15009"/>
                  <a:pt x="12057" y="15197"/>
                  <a:pt x="12039" y="15379"/>
                </a:cubicBezTo>
                <a:cubicBezTo>
                  <a:pt x="12027" y="15497"/>
                  <a:pt x="12014" y="15634"/>
                  <a:pt x="12005" y="15743"/>
                </a:cubicBezTo>
                <a:cubicBezTo>
                  <a:pt x="11980" y="16053"/>
                  <a:pt x="12052" y="15660"/>
                  <a:pt x="12072" y="15610"/>
                </a:cubicBezTo>
                <a:cubicBezTo>
                  <a:pt x="12114" y="15505"/>
                  <a:pt x="12161" y="15440"/>
                  <a:pt x="12171" y="15313"/>
                </a:cubicBezTo>
                <a:cubicBezTo>
                  <a:pt x="12162" y="15379"/>
                  <a:pt x="12152" y="15423"/>
                  <a:pt x="12138" y="15478"/>
                </a:cubicBezTo>
                <a:cubicBezTo>
                  <a:pt x="12114" y="15571"/>
                  <a:pt x="12081" y="15692"/>
                  <a:pt x="12039" y="15776"/>
                </a:cubicBezTo>
                <a:cubicBezTo>
                  <a:pt x="12039" y="15765"/>
                  <a:pt x="12039" y="15754"/>
                  <a:pt x="12039" y="15743"/>
                </a:cubicBezTo>
                <a:cubicBezTo>
                  <a:pt x="12039" y="15617"/>
                  <a:pt x="12067" y="15233"/>
                  <a:pt x="12005" y="15247"/>
                </a:cubicBezTo>
                <a:cubicBezTo>
                  <a:pt x="11945" y="15261"/>
                  <a:pt x="11885" y="15525"/>
                  <a:pt x="11840" y="15577"/>
                </a:cubicBezTo>
                <a:cubicBezTo>
                  <a:pt x="11786" y="15638"/>
                  <a:pt x="11540" y="15874"/>
                  <a:pt x="11443" y="15842"/>
                </a:cubicBezTo>
                <a:cubicBezTo>
                  <a:pt x="11388" y="15824"/>
                  <a:pt x="11505" y="15714"/>
                  <a:pt x="11377" y="15743"/>
                </a:cubicBezTo>
                <a:cubicBezTo>
                  <a:pt x="11256" y="15770"/>
                  <a:pt x="11298" y="15855"/>
                  <a:pt x="11278" y="15710"/>
                </a:cubicBezTo>
                <a:cubicBezTo>
                  <a:pt x="11269" y="15647"/>
                  <a:pt x="11308" y="15558"/>
                  <a:pt x="11245" y="15544"/>
                </a:cubicBezTo>
                <a:cubicBezTo>
                  <a:pt x="11203" y="15535"/>
                  <a:pt x="11000" y="15663"/>
                  <a:pt x="10980" y="15677"/>
                </a:cubicBezTo>
                <a:cubicBezTo>
                  <a:pt x="10878" y="15753"/>
                  <a:pt x="10915" y="15784"/>
                  <a:pt x="10815" y="15809"/>
                </a:cubicBezTo>
                <a:cubicBezTo>
                  <a:pt x="10785" y="15817"/>
                  <a:pt x="10845" y="15802"/>
                  <a:pt x="10881" y="15743"/>
                </a:cubicBezTo>
                <a:cubicBezTo>
                  <a:pt x="10931" y="15660"/>
                  <a:pt x="10995" y="15591"/>
                  <a:pt x="11046" y="15511"/>
                </a:cubicBezTo>
                <a:cubicBezTo>
                  <a:pt x="11057" y="15489"/>
                  <a:pt x="11068" y="15467"/>
                  <a:pt x="11079" y="15445"/>
                </a:cubicBezTo>
                <a:cubicBezTo>
                  <a:pt x="11079" y="15412"/>
                  <a:pt x="11079" y="15401"/>
                  <a:pt x="11079" y="15445"/>
                </a:cubicBezTo>
                <a:cubicBezTo>
                  <a:pt x="11047" y="15492"/>
                  <a:pt x="10979" y="15555"/>
                  <a:pt x="10947" y="15610"/>
                </a:cubicBezTo>
                <a:cubicBezTo>
                  <a:pt x="10919" y="15659"/>
                  <a:pt x="10885" y="15719"/>
                  <a:pt x="10881" y="15776"/>
                </a:cubicBezTo>
                <a:cubicBezTo>
                  <a:pt x="10874" y="15867"/>
                  <a:pt x="10917" y="15852"/>
                  <a:pt x="11013" y="15842"/>
                </a:cubicBezTo>
                <a:cubicBezTo>
                  <a:pt x="11242" y="15819"/>
                  <a:pt x="11305" y="15616"/>
                  <a:pt x="11476" y="15511"/>
                </a:cubicBezTo>
                <a:cubicBezTo>
                  <a:pt x="11550" y="15466"/>
                  <a:pt x="11584" y="15426"/>
                  <a:pt x="11642" y="15412"/>
                </a:cubicBezTo>
                <a:cubicBezTo>
                  <a:pt x="11672" y="15405"/>
                  <a:pt x="11710" y="15415"/>
                  <a:pt x="11741" y="15412"/>
                </a:cubicBezTo>
                <a:cubicBezTo>
                  <a:pt x="11790" y="15521"/>
                  <a:pt x="11836" y="15615"/>
                  <a:pt x="11873" y="15743"/>
                </a:cubicBezTo>
                <a:cubicBezTo>
                  <a:pt x="11915" y="15887"/>
                  <a:pt x="11964" y="16039"/>
                  <a:pt x="12005" y="16173"/>
                </a:cubicBezTo>
                <a:cubicBezTo>
                  <a:pt x="12005" y="16184"/>
                  <a:pt x="12005" y="16195"/>
                  <a:pt x="12005" y="16206"/>
                </a:cubicBezTo>
                <a:cubicBezTo>
                  <a:pt x="12008" y="16198"/>
                  <a:pt x="12023" y="16108"/>
                  <a:pt x="12039" y="16073"/>
                </a:cubicBezTo>
                <a:cubicBezTo>
                  <a:pt x="12088" y="15962"/>
                  <a:pt x="12179" y="15874"/>
                  <a:pt x="12237" y="15776"/>
                </a:cubicBezTo>
                <a:cubicBezTo>
                  <a:pt x="12308" y="15657"/>
                  <a:pt x="12275" y="15673"/>
                  <a:pt x="12303" y="15776"/>
                </a:cubicBezTo>
                <a:cubicBezTo>
                  <a:pt x="12364" y="16003"/>
                  <a:pt x="12367" y="16244"/>
                  <a:pt x="12435" y="16470"/>
                </a:cubicBezTo>
                <a:cubicBezTo>
                  <a:pt x="12446" y="16492"/>
                  <a:pt x="12457" y="16514"/>
                  <a:pt x="12468" y="16536"/>
                </a:cubicBezTo>
                <a:cubicBezTo>
                  <a:pt x="12468" y="16547"/>
                  <a:pt x="12468" y="16559"/>
                  <a:pt x="12468" y="16570"/>
                </a:cubicBezTo>
                <a:cubicBezTo>
                  <a:pt x="12481" y="16539"/>
                  <a:pt x="12524" y="16480"/>
                  <a:pt x="12535" y="16404"/>
                </a:cubicBezTo>
                <a:cubicBezTo>
                  <a:pt x="12553" y="16282"/>
                  <a:pt x="12555" y="16196"/>
                  <a:pt x="12601" y="16073"/>
                </a:cubicBezTo>
                <a:cubicBezTo>
                  <a:pt x="12676" y="15874"/>
                  <a:pt x="12751" y="15717"/>
                  <a:pt x="12799" y="15511"/>
                </a:cubicBezTo>
                <a:cubicBezTo>
                  <a:pt x="12852" y="15285"/>
                  <a:pt x="12875" y="15489"/>
                  <a:pt x="12865" y="15577"/>
                </a:cubicBezTo>
                <a:cubicBezTo>
                  <a:pt x="12847" y="15727"/>
                  <a:pt x="12799" y="15851"/>
                  <a:pt x="12799" y="16007"/>
                </a:cubicBezTo>
                <a:cubicBezTo>
                  <a:pt x="12799" y="16040"/>
                  <a:pt x="12799" y="16074"/>
                  <a:pt x="12799" y="16107"/>
                </a:cubicBezTo>
                <a:cubicBezTo>
                  <a:pt x="12799" y="16118"/>
                  <a:pt x="12799" y="16129"/>
                  <a:pt x="12799" y="16140"/>
                </a:cubicBezTo>
                <a:cubicBezTo>
                  <a:pt x="12799" y="16167"/>
                  <a:pt x="12799" y="16322"/>
                  <a:pt x="12799" y="16239"/>
                </a:cubicBezTo>
                <a:cubicBezTo>
                  <a:pt x="12799" y="15965"/>
                  <a:pt x="12813" y="15664"/>
                  <a:pt x="12766" y="15412"/>
                </a:cubicBezTo>
                <a:cubicBezTo>
                  <a:pt x="12766" y="15533"/>
                  <a:pt x="12779" y="15589"/>
                  <a:pt x="12766" y="15710"/>
                </a:cubicBezTo>
                <a:cubicBezTo>
                  <a:pt x="12745" y="15902"/>
                  <a:pt x="12733" y="16078"/>
                  <a:pt x="12733" y="16272"/>
                </a:cubicBezTo>
                <a:cubicBezTo>
                  <a:pt x="12733" y="16429"/>
                  <a:pt x="12733" y="16244"/>
                  <a:pt x="12733" y="16206"/>
                </a:cubicBezTo>
                <a:cubicBezTo>
                  <a:pt x="12733" y="16151"/>
                  <a:pt x="12733" y="16095"/>
                  <a:pt x="12733" y="16040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Ink 21"/>
          <p:cNvSpPr/>
          <p:nvPr/>
        </p:nvSpPr>
        <p:spPr>
          <a:xfrm>
            <a:off x="4630680" y="1131840"/>
            <a:ext cx="988920" cy="500040"/>
          </a:xfrm>
          <a:custGeom>
            <a:avLst/>
            <a:gdLst/>
            <a:ahLst/>
            <a:rect l="l" t="t" r="r" b="b"/>
            <a:pathLst>
              <a:path w="2746" h="1390">
                <a:moveTo>
                  <a:pt x="13097" y="3142"/>
                </a:moveTo>
                <a:cubicBezTo>
                  <a:pt x="13547" y="3142"/>
                  <a:pt x="14083" y="3069"/>
                  <a:pt x="14519" y="3175"/>
                </a:cubicBezTo>
                <a:cubicBezTo>
                  <a:pt x="14576" y="3189"/>
                  <a:pt x="14732" y="3237"/>
                  <a:pt x="14751" y="3241"/>
                </a:cubicBezTo>
                <a:cubicBezTo>
                  <a:pt x="14812" y="3252"/>
                  <a:pt x="14905" y="3269"/>
                  <a:pt x="14949" y="3274"/>
                </a:cubicBezTo>
                <a:cubicBezTo>
                  <a:pt x="15112" y="3291"/>
                  <a:pt x="15017" y="3275"/>
                  <a:pt x="15081" y="3307"/>
                </a:cubicBezTo>
                <a:cubicBezTo>
                  <a:pt x="15014" y="3340"/>
                  <a:pt x="14937" y="3368"/>
                  <a:pt x="14817" y="3373"/>
                </a:cubicBezTo>
                <a:cubicBezTo>
                  <a:pt x="14678" y="3379"/>
                  <a:pt x="14523" y="3405"/>
                  <a:pt x="14387" y="3440"/>
                </a:cubicBezTo>
                <a:cubicBezTo>
                  <a:pt x="14333" y="3454"/>
                  <a:pt x="14289" y="3473"/>
                  <a:pt x="14221" y="3473"/>
                </a:cubicBezTo>
                <a:cubicBezTo>
                  <a:pt x="14129" y="3473"/>
                  <a:pt x="14045" y="3477"/>
                  <a:pt x="13957" y="3506"/>
                </a:cubicBezTo>
                <a:cubicBezTo>
                  <a:pt x="13870" y="3535"/>
                  <a:pt x="13785" y="3560"/>
                  <a:pt x="13692" y="3572"/>
                </a:cubicBezTo>
                <a:cubicBezTo>
                  <a:pt x="13601" y="3583"/>
                  <a:pt x="13548" y="3566"/>
                  <a:pt x="13461" y="3605"/>
                </a:cubicBezTo>
                <a:cubicBezTo>
                  <a:pt x="13415" y="3625"/>
                  <a:pt x="13383" y="3635"/>
                  <a:pt x="13328" y="3638"/>
                </a:cubicBezTo>
                <a:cubicBezTo>
                  <a:pt x="13253" y="3642"/>
                  <a:pt x="13190" y="3661"/>
                  <a:pt x="13130" y="3671"/>
                </a:cubicBezTo>
                <a:cubicBezTo>
                  <a:pt x="13042" y="3686"/>
                  <a:pt x="12981" y="3653"/>
                  <a:pt x="12898" y="3704"/>
                </a:cubicBezTo>
                <a:cubicBezTo>
                  <a:pt x="12865" y="3704"/>
                  <a:pt x="12854" y="3704"/>
                  <a:pt x="12865" y="3737"/>
                </a:cubicBezTo>
                <a:cubicBezTo>
                  <a:pt x="12944" y="3727"/>
                  <a:pt x="12989" y="3708"/>
                  <a:pt x="13064" y="3704"/>
                </a:cubicBezTo>
                <a:cubicBezTo>
                  <a:pt x="13384" y="3686"/>
                  <a:pt x="13775" y="3665"/>
                  <a:pt x="14089" y="3737"/>
                </a:cubicBezTo>
                <a:cubicBezTo>
                  <a:pt x="14200" y="3762"/>
                  <a:pt x="14355" y="3791"/>
                  <a:pt x="14453" y="3803"/>
                </a:cubicBezTo>
                <a:cubicBezTo>
                  <a:pt x="14538" y="3813"/>
                  <a:pt x="14495" y="3831"/>
                  <a:pt x="14585" y="3836"/>
                </a:cubicBezTo>
                <a:cubicBezTo>
                  <a:pt x="14688" y="3842"/>
                  <a:pt x="14754" y="3850"/>
                  <a:pt x="14850" y="3870"/>
                </a:cubicBezTo>
                <a:cubicBezTo>
                  <a:pt x="15051" y="3913"/>
                  <a:pt x="15273" y="3943"/>
                  <a:pt x="15478" y="3969"/>
                </a:cubicBezTo>
                <a:cubicBezTo>
                  <a:pt x="15548" y="3978"/>
                  <a:pt x="15526" y="3987"/>
                  <a:pt x="15577" y="4002"/>
                </a:cubicBezTo>
                <a:cubicBezTo>
                  <a:pt x="15588" y="4002"/>
                  <a:pt x="15599" y="4002"/>
                  <a:pt x="15610" y="4002"/>
                </a:cubicBezTo>
                <a:cubicBezTo>
                  <a:pt x="15585" y="4076"/>
                  <a:pt x="15595" y="4066"/>
                  <a:pt x="15511" y="4101"/>
                </a:cubicBezTo>
                <a:cubicBezTo>
                  <a:pt x="15438" y="4132"/>
                  <a:pt x="15327" y="4177"/>
                  <a:pt x="15247" y="4200"/>
                </a:cubicBezTo>
                <a:cubicBezTo>
                  <a:pt x="15153" y="4227"/>
                  <a:pt x="15048" y="4230"/>
                  <a:pt x="14949" y="4233"/>
                </a:cubicBezTo>
                <a:cubicBezTo>
                  <a:pt x="14557" y="4246"/>
                  <a:pt x="14095" y="4222"/>
                  <a:pt x="13758" y="4266"/>
                </a:cubicBezTo>
                <a:cubicBezTo>
                  <a:pt x="13639" y="4281"/>
                  <a:pt x="13514" y="4295"/>
                  <a:pt x="13395" y="4299"/>
                </a:cubicBezTo>
                <a:cubicBezTo>
                  <a:pt x="13362" y="4299"/>
                  <a:pt x="13328" y="4299"/>
                  <a:pt x="13295" y="4299"/>
                </a:cubicBezTo>
                <a:cubicBezTo>
                  <a:pt x="13344" y="4329"/>
                  <a:pt x="13390" y="4333"/>
                  <a:pt x="13494" y="4333"/>
                </a:cubicBezTo>
                <a:cubicBezTo>
                  <a:pt x="13779" y="4333"/>
                  <a:pt x="14093" y="4325"/>
                  <a:pt x="14354" y="4366"/>
                </a:cubicBezTo>
                <a:cubicBezTo>
                  <a:pt x="14462" y="4383"/>
                  <a:pt x="14542" y="4366"/>
                  <a:pt x="14651" y="4399"/>
                </a:cubicBezTo>
                <a:cubicBezTo>
                  <a:pt x="14789" y="4441"/>
                  <a:pt x="14904" y="4465"/>
                  <a:pt x="15048" y="4465"/>
                </a:cubicBezTo>
                <a:cubicBezTo>
                  <a:pt x="15115" y="4465"/>
                  <a:pt x="15184" y="4482"/>
                  <a:pt x="15247" y="4498"/>
                </a:cubicBezTo>
                <a:cubicBezTo>
                  <a:pt x="15323" y="4523"/>
                  <a:pt x="15333" y="4534"/>
                  <a:pt x="15379" y="4531"/>
                </a:cubicBezTo>
              </a:path>
            </a:pathLst>
          </a:custGeom>
          <a:noFill/>
          <a:ln cap="sq" w="127080">
            <a:solidFill>
              <a:srgbClr val="ffff00">
                <a:alpha val="33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Ink 22"/>
          <p:cNvSpPr/>
          <p:nvPr/>
        </p:nvSpPr>
        <p:spPr>
          <a:xfrm>
            <a:off x="1320840" y="214200"/>
            <a:ext cx="12600" cy="179640"/>
          </a:xfrm>
          <a:custGeom>
            <a:avLst/>
            <a:gdLst/>
            <a:ahLst/>
            <a:rect l="l" t="t" r="r" b="b"/>
            <a:pathLst>
              <a:path w="34" h="497">
                <a:moveTo>
                  <a:pt x="3671" y="595"/>
                </a:moveTo>
                <a:lnTo>
                  <a:pt x="3671" y="595"/>
                </a:lnTo>
              </a:path>
              <a:path w="34" h="497">
                <a:moveTo>
                  <a:pt x="3704" y="1091"/>
                </a:moveTo>
                <a:lnTo>
                  <a:pt x="3704" y="1091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Ink 23"/>
          <p:cNvSpPr/>
          <p:nvPr/>
        </p:nvSpPr>
        <p:spPr>
          <a:xfrm>
            <a:off x="298440" y="131760"/>
            <a:ext cx="857160" cy="333360"/>
          </a:xfrm>
          <a:custGeom>
            <a:avLst/>
            <a:gdLst/>
            <a:ahLst/>
            <a:rect l="l" t="t" r="r" b="b"/>
            <a:pathLst>
              <a:path w="2382" h="927">
                <a:moveTo>
                  <a:pt x="827" y="364"/>
                </a:moveTo>
                <a:cubicBezTo>
                  <a:pt x="827" y="573"/>
                  <a:pt x="804" y="806"/>
                  <a:pt x="860" y="992"/>
                </a:cubicBezTo>
                <a:cubicBezTo>
                  <a:pt x="868" y="1019"/>
                  <a:pt x="863" y="1297"/>
                  <a:pt x="893" y="1257"/>
                </a:cubicBezTo>
                <a:cubicBezTo>
                  <a:pt x="893" y="1224"/>
                  <a:pt x="893" y="1213"/>
                  <a:pt x="893" y="1191"/>
                </a:cubicBezTo>
              </a:path>
              <a:path w="2382" h="927">
                <a:moveTo>
                  <a:pt x="1621" y="430"/>
                </a:moveTo>
                <a:cubicBezTo>
                  <a:pt x="1621" y="513"/>
                  <a:pt x="1627" y="560"/>
                  <a:pt x="1654" y="628"/>
                </a:cubicBezTo>
                <a:cubicBezTo>
                  <a:pt x="1704" y="753"/>
                  <a:pt x="1656" y="868"/>
                  <a:pt x="1687" y="992"/>
                </a:cubicBezTo>
                <a:cubicBezTo>
                  <a:pt x="1691" y="1008"/>
                  <a:pt x="1711" y="1141"/>
                  <a:pt x="1720" y="1158"/>
                </a:cubicBezTo>
                <a:cubicBezTo>
                  <a:pt x="1750" y="1213"/>
                  <a:pt x="1753" y="1223"/>
                  <a:pt x="1753" y="1290"/>
                </a:cubicBezTo>
              </a:path>
              <a:path w="2382" h="927">
                <a:moveTo>
                  <a:pt x="959" y="860"/>
                </a:moveTo>
                <a:cubicBezTo>
                  <a:pt x="948" y="860"/>
                  <a:pt x="937" y="860"/>
                  <a:pt x="926" y="860"/>
                </a:cubicBezTo>
                <a:cubicBezTo>
                  <a:pt x="1191" y="860"/>
                  <a:pt x="1455" y="860"/>
                  <a:pt x="1720" y="860"/>
                </a:cubicBezTo>
              </a:path>
              <a:path w="2382" h="927">
                <a:moveTo>
                  <a:pt x="2051" y="595"/>
                </a:moveTo>
                <a:cubicBezTo>
                  <a:pt x="2091" y="608"/>
                  <a:pt x="2119" y="676"/>
                  <a:pt x="2150" y="728"/>
                </a:cubicBezTo>
                <a:cubicBezTo>
                  <a:pt x="2190" y="795"/>
                  <a:pt x="2189" y="916"/>
                  <a:pt x="2249" y="959"/>
                </a:cubicBezTo>
                <a:cubicBezTo>
                  <a:pt x="2286" y="986"/>
                  <a:pt x="2346" y="1035"/>
                  <a:pt x="2381" y="1058"/>
                </a:cubicBezTo>
                <a:cubicBezTo>
                  <a:pt x="2414" y="1080"/>
                  <a:pt x="2407" y="1078"/>
                  <a:pt x="2447" y="1091"/>
                </a:cubicBezTo>
                <a:cubicBezTo>
                  <a:pt x="2497" y="1074"/>
                  <a:pt x="2480" y="1051"/>
                  <a:pt x="2480" y="992"/>
                </a:cubicBezTo>
                <a:cubicBezTo>
                  <a:pt x="2480" y="924"/>
                  <a:pt x="2495" y="915"/>
                  <a:pt x="2514" y="860"/>
                </a:cubicBezTo>
                <a:cubicBezTo>
                  <a:pt x="2514" y="827"/>
                  <a:pt x="2514" y="816"/>
                  <a:pt x="2514" y="794"/>
                </a:cubicBezTo>
                <a:cubicBezTo>
                  <a:pt x="2559" y="809"/>
                  <a:pt x="2618" y="860"/>
                  <a:pt x="2646" y="926"/>
                </a:cubicBezTo>
                <a:cubicBezTo>
                  <a:pt x="2651" y="937"/>
                  <a:pt x="2705" y="1052"/>
                  <a:pt x="2712" y="1058"/>
                </a:cubicBezTo>
                <a:cubicBezTo>
                  <a:pt x="2731" y="1074"/>
                  <a:pt x="2772" y="1111"/>
                  <a:pt x="2811" y="1124"/>
                </a:cubicBezTo>
                <a:cubicBezTo>
                  <a:pt x="2830" y="1130"/>
                  <a:pt x="2918" y="1186"/>
                  <a:pt x="2943" y="1158"/>
                </a:cubicBezTo>
                <a:cubicBezTo>
                  <a:pt x="2998" y="1097"/>
                  <a:pt x="3007" y="968"/>
                  <a:pt x="3043" y="893"/>
                </a:cubicBezTo>
                <a:cubicBezTo>
                  <a:pt x="3081" y="813"/>
                  <a:pt x="3116" y="714"/>
                  <a:pt x="3142" y="628"/>
                </a:cubicBezTo>
                <a:cubicBezTo>
                  <a:pt x="3157" y="579"/>
                  <a:pt x="3170" y="510"/>
                  <a:pt x="3175" y="463"/>
                </a:cubicBezTo>
                <a:cubicBezTo>
                  <a:pt x="3182" y="403"/>
                  <a:pt x="3170" y="415"/>
                  <a:pt x="3208" y="3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Ink 24"/>
          <p:cNvSpPr/>
          <p:nvPr/>
        </p:nvSpPr>
        <p:spPr>
          <a:xfrm>
            <a:off x="1738440" y="177840"/>
            <a:ext cx="3333600" cy="477720"/>
          </a:xfrm>
          <a:custGeom>
            <a:avLst/>
            <a:gdLst/>
            <a:ahLst/>
            <a:rect l="l" t="t" r="r" b="b"/>
            <a:pathLst>
              <a:path w="9261" h="1324">
                <a:moveTo>
                  <a:pt x="4862" y="827"/>
                </a:moveTo>
                <a:cubicBezTo>
                  <a:pt x="4862" y="923"/>
                  <a:pt x="4872" y="997"/>
                  <a:pt x="4895" y="1091"/>
                </a:cubicBezTo>
                <a:cubicBezTo>
                  <a:pt x="4936" y="1258"/>
                  <a:pt x="4950" y="1424"/>
                  <a:pt x="4994" y="1588"/>
                </a:cubicBezTo>
                <a:cubicBezTo>
                  <a:pt x="5014" y="1664"/>
                  <a:pt x="5027" y="1898"/>
                  <a:pt x="5027" y="1819"/>
                </a:cubicBezTo>
                <a:cubicBezTo>
                  <a:pt x="5027" y="1808"/>
                  <a:pt x="5027" y="1797"/>
                  <a:pt x="5027" y="1786"/>
                </a:cubicBezTo>
                <a:cubicBezTo>
                  <a:pt x="5027" y="1569"/>
                  <a:pt x="4973" y="1489"/>
                  <a:pt x="4895" y="1290"/>
                </a:cubicBezTo>
                <a:cubicBezTo>
                  <a:pt x="4861" y="1204"/>
                  <a:pt x="4836" y="1109"/>
                  <a:pt x="4829" y="1025"/>
                </a:cubicBezTo>
                <a:cubicBezTo>
                  <a:pt x="4821" y="924"/>
                  <a:pt x="4821" y="810"/>
                  <a:pt x="4862" y="728"/>
                </a:cubicBezTo>
                <a:cubicBezTo>
                  <a:pt x="4895" y="661"/>
                  <a:pt x="4887" y="617"/>
                  <a:pt x="4928" y="562"/>
                </a:cubicBezTo>
                <a:cubicBezTo>
                  <a:pt x="4979" y="575"/>
                  <a:pt x="5049" y="586"/>
                  <a:pt x="5060" y="628"/>
                </a:cubicBezTo>
                <a:cubicBezTo>
                  <a:pt x="5073" y="680"/>
                  <a:pt x="5093" y="655"/>
                  <a:pt x="5093" y="728"/>
                </a:cubicBezTo>
                <a:cubicBezTo>
                  <a:pt x="5093" y="802"/>
                  <a:pt x="5076" y="827"/>
                  <a:pt x="5060" y="860"/>
                </a:cubicBezTo>
                <a:cubicBezTo>
                  <a:pt x="5033" y="914"/>
                  <a:pt x="5031" y="931"/>
                  <a:pt x="4994" y="959"/>
                </a:cubicBezTo>
                <a:cubicBezTo>
                  <a:pt x="4937" y="1002"/>
                  <a:pt x="4992" y="1050"/>
                  <a:pt x="4928" y="1058"/>
                </a:cubicBezTo>
                <a:cubicBezTo>
                  <a:pt x="4842" y="1069"/>
                  <a:pt x="4940" y="1121"/>
                  <a:pt x="4895" y="1158"/>
                </a:cubicBezTo>
                <a:cubicBezTo>
                  <a:pt x="4862" y="1158"/>
                  <a:pt x="4851" y="1158"/>
                  <a:pt x="4862" y="1191"/>
                </a:cubicBezTo>
              </a:path>
              <a:path w="9261" h="1324">
                <a:moveTo>
                  <a:pt x="5523" y="661"/>
                </a:moveTo>
                <a:cubicBezTo>
                  <a:pt x="5523" y="628"/>
                  <a:pt x="5523" y="617"/>
                  <a:pt x="5523" y="595"/>
                </a:cubicBezTo>
                <a:cubicBezTo>
                  <a:pt x="5601" y="595"/>
                  <a:pt x="5655" y="583"/>
                  <a:pt x="5689" y="628"/>
                </a:cubicBezTo>
                <a:cubicBezTo>
                  <a:pt x="5722" y="671"/>
                  <a:pt x="5750" y="689"/>
                  <a:pt x="5755" y="728"/>
                </a:cubicBezTo>
                <a:cubicBezTo>
                  <a:pt x="5764" y="802"/>
                  <a:pt x="5755" y="884"/>
                  <a:pt x="5755" y="959"/>
                </a:cubicBezTo>
                <a:cubicBezTo>
                  <a:pt x="5715" y="966"/>
                  <a:pt x="5628" y="981"/>
                  <a:pt x="5589" y="1025"/>
                </a:cubicBezTo>
                <a:cubicBezTo>
                  <a:pt x="5558" y="1061"/>
                  <a:pt x="5561" y="1058"/>
                  <a:pt x="5490" y="1058"/>
                </a:cubicBezTo>
                <a:cubicBezTo>
                  <a:pt x="5435" y="1058"/>
                  <a:pt x="5380" y="1058"/>
                  <a:pt x="5325" y="1058"/>
                </a:cubicBezTo>
                <a:cubicBezTo>
                  <a:pt x="5342" y="1008"/>
                  <a:pt x="5365" y="1025"/>
                  <a:pt x="5424" y="1025"/>
                </a:cubicBezTo>
                <a:cubicBezTo>
                  <a:pt x="5498" y="1025"/>
                  <a:pt x="5523" y="1042"/>
                  <a:pt x="5556" y="1058"/>
                </a:cubicBezTo>
                <a:cubicBezTo>
                  <a:pt x="5595" y="1078"/>
                  <a:pt x="5609" y="1083"/>
                  <a:pt x="5655" y="1124"/>
                </a:cubicBezTo>
                <a:cubicBezTo>
                  <a:pt x="5685" y="1154"/>
                  <a:pt x="5692" y="1166"/>
                  <a:pt x="5722" y="1158"/>
                </a:cubicBezTo>
              </a:path>
              <a:path w="9261" h="1324">
                <a:moveTo>
                  <a:pt x="6019" y="496"/>
                </a:moveTo>
                <a:cubicBezTo>
                  <a:pt x="6019" y="557"/>
                  <a:pt x="6016" y="587"/>
                  <a:pt x="6085" y="595"/>
                </a:cubicBezTo>
                <a:cubicBezTo>
                  <a:pt x="6128" y="600"/>
                  <a:pt x="6175" y="595"/>
                  <a:pt x="6218" y="595"/>
                </a:cubicBezTo>
                <a:cubicBezTo>
                  <a:pt x="6235" y="645"/>
                  <a:pt x="6251" y="623"/>
                  <a:pt x="6251" y="695"/>
                </a:cubicBezTo>
                <a:cubicBezTo>
                  <a:pt x="6251" y="777"/>
                  <a:pt x="6262" y="847"/>
                  <a:pt x="6284" y="926"/>
                </a:cubicBezTo>
                <a:cubicBezTo>
                  <a:pt x="6313" y="1030"/>
                  <a:pt x="6350" y="1030"/>
                  <a:pt x="6350" y="1158"/>
                </a:cubicBezTo>
                <a:cubicBezTo>
                  <a:pt x="6403" y="1176"/>
                  <a:pt x="6363" y="1173"/>
                  <a:pt x="6416" y="1191"/>
                </a:cubicBezTo>
                <a:cubicBezTo>
                  <a:pt x="6416" y="1246"/>
                  <a:pt x="6416" y="1301"/>
                  <a:pt x="6416" y="1356"/>
                </a:cubicBezTo>
              </a:path>
              <a:path w="9261" h="1324">
                <a:moveTo>
                  <a:pt x="6185" y="926"/>
                </a:moveTo>
                <a:cubicBezTo>
                  <a:pt x="6185" y="915"/>
                  <a:pt x="6185" y="904"/>
                  <a:pt x="6185" y="893"/>
                </a:cubicBezTo>
                <a:cubicBezTo>
                  <a:pt x="6292" y="893"/>
                  <a:pt x="6394" y="879"/>
                  <a:pt x="6482" y="860"/>
                </a:cubicBezTo>
                <a:cubicBezTo>
                  <a:pt x="6504" y="860"/>
                  <a:pt x="6526" y="860"/>
                  <a:pt x="6548" y="860"/>
                </a:cubicBezTo>
              </a:path>
              <a:path w="9261" h="1324">
                <a:moveTo>
                  <a:pt x="6945" y="628"/>
                </a:moveTo>
                <a:cubicBezTo>
                  <a:pt x="6872" y="628"/>
                  <a:pt x="6844" y="618"/>
                  <a:pt x="6813" y="661"/>
                </a:cubicBezTo>
                <a:cubicBezTo>
                  <a:pt x="6771" y="718"/>
                  <a:pt x="6780" y="752"/>
                  <a:pt x="6780" y="827"/>
                </a:cubicBezTo>
                <a:cubicBezTo>
                  <a:pt x="6780" y="868"/>
                  <a:pt x="6791" y="915"/>
                  <a:pt x="6813" y="926"/>
                </a:cubicBezTo>
                <a:cubicBezTo>
                  <a:pt x="6852" y="946"/>
                  <a:pt x="6870" y="947"/>
                  <a:pt x="6912" y="959"/>
                </a:cubicBezTo>
                <a:cubicBezTo>
                  <a:pt x="6992" y="981"/>
                  <a:pt x="7024" y="945"/>
                  <a:pt x="7078" y="1025"/>
                </a:cubicBezTo>
                <a:cubicBezTo>
                  <a:pt x="7102" y="1060"/>
                  <a:pt x="7111" y="1110"/>
                  <a:pt x="7111" y="1158"/>
                </a:cubicBezTo>
                <a:cubicBezTo>
                  <a:pt x="7111" y="1169"/>
                  <a:pt x="7111" y="1180"/>
                  <a:pt x="7111" y="1191"/>
                </a:cubicBezTo>
                <a:cubicBezTo>
                  <a:pt x="7034" y="1191"/>
                  <a:pt x="6956" y="1191"/>
                  <a:pt x="6879" y="1191"/>
                </a:cubicBezTo>
                <a:cubicBezTo>
                  <a:pt x="6879" y="1130"/>
                  <a:pt x="6852" y="1112"/>
                  <a:pt x="6846" y="1058"/>
                </a:cubicBezTo>
                <a:cubicBezTo>
                  <a:pt x="6838" y="990"/>
                  <a:pt x="6866" y="985"/>
                  <a:pt x="6879" y="959"/>
                </a:cubicBezTo>
                <a:cubicBezTo>
                  <a:pt x="6895" y="926"/>
                  <a:pt x="6935" y="913"/>
                  <a:pt x="6945" y="893"/>
                </a:cubicBezTo>
                <a:cubicBezTo>
                  <a:pt x="6966" y="851"/>
                  <a:pt x="6978" y="814"/>
                  <a:pt x="6978" y="761"/>
                </a:cubicBezTo>
                <a:cubicBezTo>
                  <a:pt x="6978" y="750"/>
                  <a:pt x="6978" y="739"/>
                  <a:pt x="6978" y="728"/>
                </a:cubicBezTo>
              </a:path>
              <a:path w="9261" h="1324">
                <a:moveTo>
                  <a:pt x="7408" y="992"/>
                </a:moveTo>
                <a:cubicBezTo>
                  <a:pt x="7492" y="992"/>
                  <a:pt x="7529" y="964"/>
                  <a:pt x="7607" y="959"/>
                </a:cubicBezTo>
                <a:cubicBezTo>
                  <a:pt x="7684" y="954"/>
                  <a:pt x="7761" y="959"/>
                  <a:pt x="7838" y="959"/>
                </a:cubicBezTo>
              </a:path>
              <a:path w="9261" h="1324">
                <a:moveTo>
                  <a:pt x="7904" y="761"/>
                </a:moveTo>
                <a:cubicBezTo>
                  <a:pt x="7937" y="713"/>
                  <a:pt x="7993" y="728"/>
                  <a:pt x="8070" y="728"/>
                </a:cubicBezTo>
                <a:cubicBezTo>
                  <a:pt x="8107" y="728"/>
                  <a:pt x="8184" y="743"/>
                  <a:pt x="8202" y="761"/>
                </a:cubicBezTo>
                <a:cubicBezTo>
                  <a:pt x="8233" y="792"/>
                  <a:pt x="8248" y="788"/>
                  <a:pt x="8268" y="827"/>
                </a:cubicBezTo>
                <a:cubicBezTo>
                  <a:pt x="8296" y="883"/>
                  <a:pt x="8268" y="1027"/>
                  <a:pt x="8268" y="1091"/>
                </a:cubicBezTo>
                <a:cubicBezTo>
                  <a:pt x="8194" y="1091"/>
                  <a:pt x="8223" y="1117"/>
                  <a:pt x="8169" y="1124"/>
                </a:cubicBezTo>
                <a:cubicBezTo>
                  <a:pt x="8136" y="1124"/>
                  <a:pt x="8125" y="1124"/>
                  <a:pt x="8103" y="1124"/>
                </a:cubicBezTo>
                <a:cubicBezTo>
                  <a:pt x="8133" y="1080"/>
                  <a:pt x="8168" y="1091"/>
                  <a:pt x="8235" y="1091"/>
                </a:cubicBezTo>
                <a:cubicBezTo>
                  <a:pt x="8283" y="1091"/>
                  <a:pt x="8332" y="1100"/>
                  <a:pt x="8367" y="1124"/>
                </a:cubicBezTo>
                <a:cubicBezTo>
                  <a:pt x="8388" y="1138"/>
                  <a:pt x="8468" y="1256"/>
                  <a:pt x="8500" y="1224"/>
                </a:cubicBezTo>
                <a:cubicBezTo>
                  <a:pt x="8500" y="1213"/>
                  <a:pt x="8500" y="1202"/>
                  <a:pt x="8500" y="1191"/>
                </a:cubicBezTo>
              </a:path>
              <a:path w="9261" h="1324">
                <a:moveTo>
                  <a:pt x="8566" y="628"/>
                </a:moveTo>
                <a:cubicBezTo>
                  <a:pt x="8674" y="628"/>
                  <a:pt x="8727" y="615"/>
                  <a:pt x="8830" y="595"/>
                </a:cubicBezTo>
                <a:cubicBezTo>
                  <a:pt x="8860" y="589"/>
                  <a:pt x="8899" y="595"/>
                  <a:pt x="8930" y="595"/>
                </a:cubicBezTo>
                <a:cubicBezTo>
                  <a:pt x="8930" y="677"/>
                  <a:pt x="8979" y="718"/>
                  <a:pt x="8996" y="794"/>
                </a:cubicBezTo>
                <a:cubicBezTo>
                  <a:pt x="9020" y="903"/>
                  <a:pt x="9002" y="1015"/>
                  <a:pt x="9029" y="1124"/>
                </a:cubicBezTo>
                <a:cubicBezTo>
                  <a:pt x="9041" y="1172"/>
                  <a:pt x="9029" y="1240"/>
                  <a:pt x="9029" y="1290"/>
                </a:cubicBezTo>
              </a:path>
              <a:path w="9261" h="1324">
                <a:moveTo>
                  <a:pt x="8864" y="1025"/>
                </a:moveTo>
                <a:cubicBezTo>
                  <a:pt x="8927" y="1025"/>
                  <a:pt x="8969" y="995"/>
                  <a:pt x="9029" y="992"/>
                </a:cubicBezTo>
                <a:cubicBezTo>
                  <a:pt x="9150" y="986"/>
                  <a:pt x="9272" y="992"/>
                  <a:pt x="9393" y="992"/>
                </a:cubicBezTo>
              </a:path>
              <a:path w="9261" h="1324">
                <a:moveTo>
                  <a:pt x="9823" y="628"/>
                </a:moveTo>
                <a:cubicBezTo>
                  <a:pt x="9813" y="597"/>
                  <a:pt x="9755" y="566"/>
                  <a:pt x="9723" y="562"/>
                </a:cubicBezTo>
                <a:cubicBezTo>
                  <a:pt x="9649" y="553"/>
                  <a:pt x="9616" y="576"/>
                  <a:pt x="9558" y="595"/>
                </a:cubicBezTo>
                <a:cubicBezTo>
                  <a:pt x="9508" y="612"/>
                  <a:pt x="9525" y="635"/>
                  <a:pt x="9525" y="695"/>
                </a:cubicBezTo>
                <a:cubicBezTo>
                  <a:pt x="9525" y="765"/>
                  <a:pt x="9541" y="777"/>
                  <a:pt x="9591" y="827"/>
                </a:cubicBezTo>
                <a:cubicBezTo>
                  <a:pt x="9630" y="866"/>
                  <a:pt x="9654" y="881"/>
                  <a:pt x="9690" y="893"/>
                </a:cubicBezTo>
                <a:cubicBezTo>
                  <a:pt x="9703" y="840"/>
                  <a:pt x="9746" y="815"/>
                  <a:pt x="9757" y="794"/>
                </a:cubicBezTo>
                <a:cubicBezTo>
                  <a:pt x="9785" y="740"/>
                  <a:pt x="9757" y="705"/>
                  <a:pt x="9757" y="827"/>
                </a:cubicBezTo>
                <a:cubicBezTo>
                  <a:pt x="9757" y="958"/>
                  <a:pt x="9754" y="1107"/>
                  <a:pt x="9790" y="1191"/>
                </a:cubicBezTo>
                <a:cubicBezTo>
                  <a:pt x="9799" y="1213"/>
                  <a:pt x="9790" y="1266"/>
                  <a:pt x="9790" y="1290"/>
                </a:cubicBezTo>
              </a:path>
              <a:path w="9261" h="1324">
                <a:moveTo>
                  <a:pt x="10451" y="661"/>
                </a:moveTo>
                <a:cubicBezTo>
                  <a:pt x="10451" y="791"/>
                  <a:pt x="10456" y="903"/>
                  <a:pt x="10484" y="1025"/>
                </a:cubicBezTo>
                <a:cubicBezTo>
                  <a:pt x="10493" y="1064"/>
                  <a:pt x="10484" y="1118"/>
                  <a:pt x="10484" y="1158"/>
                </a:cubicBezTo>
              </a:path>
              <a:path w="9261" h="1324">
                <a:moveTo>
                  <a:pt x="10649" y="728"/>
                </a:moveTo>
                <a:cubicBezTo>
                  <a:pt x="10649" y="981"/>
                  <a:pt x="10649" y="1675"/>
                  <a:pt x="10649" y="1422"/>
                </a:cubicBezTo>
                <a:cubicBezTo>
                  <a:pt x="10649" y="1389"/>
                  <a:pt x="10649" y="1378"/>
                  <a:pt x="10649" y="1356"/>
                </a:cubicBezTo>
              </a:path>
              <a:path w="9261" h="1324">
                <a:moveTo>
                  <a:pt x="10186" y="893"/>
                </a:moveTo>
                <a:cubicBezTo>
                  <a:pt x="10255" y="876"/>
                  <a:pt x="10273" y="827"/>
                  <a:pt x="10352" y="827"/>
                </a:cubicBezTo>
                <a:cubicBezTo>
                  <a:pt x="10433" y="827"/>
                  <a:pt x="10422" y="794"/>
                  <a:pt x="10517" y="794"/>
                </a:cubicBezTo>
                <a:cubicBezTo>
                  <a:pt x="10638" y="794"/>
                  <a:pt x="10760" y="794"/>
                  <a:pt x="10881" y="794"/>
                </a:cubicBezTo>
              </a:path>
              <a:path w="9261" h="1324">
                <a:moveTo>
                  <a:pt x="10286" y="1091"/>
                </a:moveTo>
                <a:cubicBezTo>
                  <a:pt x="10360" y="1091"/>
                  <a:pt x="10331" y="1120"/>
                  <a:pt x="10385" y="1124"/>
                </a:cubicBezTo>
                <a:cubicBezTo>
                  <a:pt x="10570" y="1138"/>
                  <a:pt x="10761" y="1124"/>
                  <a:pt x="10947" y="1124"/>
                </a:cubicBezTo>
              </a:path>
              <a:path w="9261" h="1324">
                <a:moveTo>
                  <a:pt x="11212" y="695"/>
                </a:moveTo>
                <a:cubicBezTo>
                  <a:pt x="11212" y="769"/>
                  <a:pt x="11236" y="836"/>
                  <a:pt x="11245" y="893"/>
                </a:cubicBezTo>
                <a:cubicBezTo>
                  <a:pt x="11258" y="977"/>
                  <a:pt x="11274" y="1047"/>
                  <a:pt x="11278" y="1124"/>
                </a:cubicBezTo>
                <a:cubicBezTo>
                  <a:pt x="11281" y="1168"/>
                  <a:pt x="11278" y="1213"/>
                  <a:pt x="11278" y="1257"/>
                </a:cubicBezTo>
              </a:path>
              <a:path w="9261" h="1324">
                <a:moveTo>
                  <a:pt x="11509" y="761"/>
                </a:moveTo>
                <a:cubicBezTo>
                  <a:pt x="11509" y="703"/>
                  <a:pt x="11510" y="651"/>
                  <a:pt x="11542" y="628"/>
                </a:cubicBezTo>
                <a:cubicBezTo>
                  <a:pt x="11578" y="602"/>
                  <a:pt x="11667" y="567"/>
                  <a:pt x="11708" y="562"/>
                </a:cubicBezTo>
                <a:cubicBezTo>
                  <a:pt x="11719" y="562"/>
                  <a:pt x="11730" y="562"/>
                  <a:pt x="11741" y="562"/>
                </a:cubicBezTo>
                <a:cubicBezTo>
                  <a:pt x="11741" y="629"/>
                  <a:pt x="11721" y="634"/>
                  <a:pt x="11708" y="661"/>
                </a:cubicBezTo>
                <a:cubicBezTo>
                  <a:pt x="11687" y="705"/>
                  <a:pt x="11675" y="695"/>
                  <a:pt x="11675" y="761"/>
                </a:cubicBezTo>
                <a:cubicBezTo>
                  <a:pt x="11675" y="882"/>
                  <a:pt x="11742" y="837"/>
                  <a:pt x="11840" y="860"/>
                </a:cubicBezTo>
                <a:cubicBezTo>
                  <a:pt x="11939" y="883"/>
                  <a:pt x="12040" y="916"/>
                  <a:pt x="12138" y="926"/>
                </a:cubicBezTo>
                <a:cubicBezTo>
                  <a:pt x="12149" y="926"/>
                  <a:pt x="12160" y="926"/>
                  <a:pt x="12171" y="926"/>
                </a:cubicBezTo>
                <a:cubicBezTo>
                  <a:pt x="12171" y="991"/>
                  <a:pt x="12177" y="1032"/>
                  <a:pt x="12138" y="1091"/>
                </a:cubicBezTo>
                <a:cubicBezTo>
                  <a:pt x="12064" y="1203"/>
                  <a:pt x="11857" y="1222"/>
                  <a:pt x="11741" y="1257"/>
                </a:cubicBezTo>
                <a:cubicBezTo>
                  <a:pt x="11656" y="1283"/>
                  <a:pt x="11595" y="1347"/>
                  <a:pt x="11509" y="1356"/>
                </a:cubicBezTo>
                <a:cubicBezTo>
                  <a:pt x="11477" y="1359"/>
                  <a:pt x="11442" y="1356"/>
                  <a:pt x="11410" y="1356"/>
                </a:cubicBezTo>
              </a:path>
              <a:path w="9261" h="1324">
                <a:moveTo>
                  <a:pt x="12502" y="926"/>
                </a:moveTo>
                <a:cubicBezTo>
                  <a:pt x="12568" y="926"/>
                  <a:pt x="12649" y="948"/>
                  <a:pt x="12667" y="893"/>
                </a:cubicBezTo>
              </a:path>
              <a:path w="9261" h="1324">
                <a:moveTo>
                  <a:pt x="12832" y="628"/>
                </a:moveTo>
                <a:cubicBezTo>
                  <a:pt x="12953" y="628"/>
                  <a:pt x="13075" y="628"/>
                  <a:pt x="13196" y="628"/>
                </a:cubicBezTo>
                <a:cubicBezTo>
                  <a:pt x="13196" y="708"/>
                  <a:pt x="13222" y="727"/>
                  <a:pt x="13229" y="794"/>
                </a:cubicBezTo>
                <a:cubicBezTo>
                  <a:pt x="13238" y="876"/>
                  <a:pt x="13212" y="954"/>
                  <a:pt x="13196" y="992"/>
                </a:cubicBezTo>
                <a:cubicBezTo>
                  <a:pt x="13179" y="1032"/>
                  <a:pt x="13148" y="1036"/>
                  <a:pt x="13130" y="1091"/>
                </a:cubicBezTo>
                <a:cubicBezTo>
                  <a:pt x="13130" y="1102"/>
                  <a:pt x="13130" y="1113"/>
                  <a:pt x="13130" y="1124"/>
                </a:cubicBezTo>
                <a:cubicBezTo>
                  <a:pt x="13270" y="1124"/>
                  <a:pt x="13395" y="1119"/>
                  <a:pt x="13527" y="1091"/>
                </a:cubicBezTo>
                <a:cubicBezTo>
                  <a:pt x="13538" y="1091"/>
                  <a:pt x="13549" y="1091"/>
                  <a:pt x="13560" y="1091"/>
                </a:cubicBezTo>
              </a:path>
              <a:path w="9261" h="1324">
                <a:moveTo>
                  <a:pt x="13527" y="728"/>
                </a:moveTo>
                <a:cubicBezTo>
                  <a:pt x="13527" y="695"/>
                  <a:pt x="13527" y="683"/>
                  <a:pt x="13527" y="661"/>
                </a:cubicBezTo>
                <a:cubicBezTo>
                  <a:pt x="13619" y="649"/>
                  <a:pt x="13671" y="602"/>
                  <a:pt x="13758" y="595"/>
                </a:cubicBezTo>
                <a:cubicBezTo>
                  <a:pt x="13812" y="590"/>
                  <a:pt x="13869" y="595"/>
                  <a:pt x="13924" y="595"/>
                </a:cubicBezTo>
                <a:cubicBezTo>
                  <a:pt x="13924" y="691"/>
                  <a:pt x="13927" y="777"/>
                  <a:pt x="13891" y="827"/>
                </a:cubicBezTo>
                <a:cubicBezTo>
                  <a:pt x="13854" y="877"/>
                  <a:pt x="13810" y="903"/>
                  <a:pt x="13791" y="959"/>
                </a:cubicBezTo>
                <a:cubicBezTo>
                  <a:pt x="13776" y="1003"/>
                  <a:pt x="13738" y="998"/>
                  <a:pt x="13725" y="1025"/>
                </a:cubicBezTo>
                <a:cubicBezTo>
                  <a:pt x="13703" y="1070"/>
                  <a:pt x="13667" y="1117"/>
                  <a:pt x="13725" y="1158"/>
                </a:cubicBezTo>
                <a:cubicBezTo>
                  <a:pt x="13813" y="1219"/>
                  <a:pt x="13954" y="1191"/>
                  <a:pt x="14056" y="1191"/>
                </a:cubicBezTo>
                <a:cubicBezTo>
                  <a:pt x="14067" y="1191"/>
                  <a:pt x="14078" y="1191"/>
                  <a:pt x="14089" y="1191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Ink 25"/>
          <p:cNvSpPr/>
          <p:nvPr/>
        </p:nvSpPr>
        <p:spPr>
          <a:xfrm>
            <a:off x="4037040" y="619200"/>
            <a:ext cx="1582560" cy="404640"/>
          </a:xfrm>
          <a:custGeom>
            <a:avLst/>
            <a:gdLst/>
            <a:ahLst/>
            <a:rect l="l" t="t" r="r" b="b"/>
            <a:pathLst>
              <a:path w="4399" h="1125">
                <a:moveTo>
                  <a:pt x="11212" y="1720"/>
                </a:moveTo>
                <a:cubicBezTo>
                  <a:pt x="11212" y="1863"/>
                  <a:pt x="11212" y="2007"/>
                  <a:pt x="11212" y="2150"/>
                </a:cubicBezTo>
                <a:cubicBezTo>
                  <a:pt x="11377" y="2150"/>
                  <a:pt x="11543" y="2150"/>
                  <a:pt x="11708" y="2150"/>
                </a:cubicBezTo>
              </a:path>
              <a:path w="4399" h="1125">
                <a:moveTo>
                  <a:pt x="11443" y="1786"/>
                </a:moveTo>
                <a:cubicBezTo>
                  <a:pt x="11443" y="2040"/>
                  <a:pt x="11443" y="2293"/>
                  <a:pt x="11443" y="2547"/>
                </a:cubicBezTo>
                <a:cubicBezTo>
                  <a:pt x="11443" y="2492"/>
                  <a:pt x="11443" y="2436"/>
                  <a:pt x="11443" y="2381"/>
                </a:cubicBezTo>
              </a:path>
              <a:path w="4399" h="1125">
                <a:moveTo>
                  <a:pt x="11939" y="1819"/>
                </a:moveTo>
                <a:cubicBezTo>
                  <a:pt x="11939" y="2051"/>
                  <a:pt x="11939" y="2282"/>
                  <a:pt x="11939" y="2514"/>
                </a:cubicBezTo>
              </a:path>
              <a:path w="4399" h="1125">
                <a:moveTo>
                  <a:pt x="12204" y="2348"/>
                </a:moveTo>
                <a:cubicBezTo>
                  <a:pt x="12204" y="2359"/>
                  <a:pt x="12204" y="2370"/>
                  <a:pt x="12204" y="2381"/>
                </a:cubicBezTo>
                <a:cubicBezTo>
                  <a:pt x="12254" y="2398"/>
                  <a:pt x="12237" y="2421"/>
                  <a:pt x="12237" y="2480"/>
                </a:cubicBezTo>
                <a:cubicBezTo>
                  <a:pt x="12237" y="2555"/>
                  <a:pt x="12254" y="2623"/>
                  <a:pt x="12204" y="2679"/>
                </a:cubicBezTo>
                <a:cubicBezTo>
                  <a:pt x="12159" y="2729"/>
                  <a:pt x="12175" y="2761"/>
                  <a:pt x="12105" y="2778"/>
                </a:cubicBezTo>
                <a:cubicBezTo>
                  <a:pt x="12092" y="2832"/>
                  <a:pt x="12093" y="2831"/>
                  <a:pt x="12039" y="2844"/>
                </a:cubicBezTo>
              </a:path>
              <a:path w="4399" h="1125">
                <a:moveTo>
                  <a:pt x="12601" y="1753"/>
                </a:moveTo>
                <a:cubicBezTo>
                  <a:pt x="12655" y="1753"/>
                  <a:pt x="12770" y="1728"/>
                  <a:pt x="12799" y="1786"/>
                </a:cubicBezTo>
                <a:cubicBezTo>
                  <a:pt x="12847" y="1882"/>
                  <a:pt x="12793" y="2101"/>
                  <a:pt x="12766" y="2183"/>
                </a:cubicBezTo>
                <a:cubicBezTo>
                  <a:pt x="12766" y="2216"/>
                  <a:pt x="12766" y="2227"/>
                  <a:pt x="12766" y="2249"/>
                </a:cubicBezTo>
                <a:cubicBezTo>
                  <a:pt x="12713" y="2267"/>
                  <a:pt x="12753" y="2264"/>
                  <a:pt x="12700" y="2282"/>
                </a:cubicBezTo>
                <a:cubicBezTo>
                  <a:pt x="12682" y="2335"/>
                  <a:pt x="12685" y="2295"/>
                  <a:pt x="12667" y="2348"/>
                </a:cubicBezTo>
                <a:cubicBezTo>
                  <a:pt x="12663" y="2349"/>
                  <a:pt x="12572" y="2376"/>
                  <a:pt x="12568" y="2381"/>
                </a:cubicBezTo>
                <a:cubicBezTo>
                  <a:pt x="12568" y="2392"/>
                  <a:pt x="12568" y="2403"/>
                  <a:pt x="12568" y="2414"/>
                </a:cubicBezTo>
              </a:path>
              <a:path w="4399" h="1125">
                <a:moveTo>
                  <a:pt x="12336" y="1852"/>
                </a:moveTo>
                <a:cubicBezTo>
                  <a:pt x="12336" y="1914"/>
                  <a:pt x="12343" y="1999"/>
                  <a:pt x="12369" y="2051"/>
                </a:cubicBezTo>
                <a:cubicBezTo>
                  <a:pt x="12393" y="2100"/>
                  <a:pt x="12429" y="2126"/>
                  <a:pt x="12435" y="2183"/>
                </a:cubicBezTo>
                <a:cubicBezTo>
                  <a:pt x="12435" y="2194"/>
                  <a:pt x="12435" y="2205"/>
                  <a:pt x="12435" y="2216"/>
                </a:cubicBezTo>
                <a:cubicBezTo>
                  <a:pt x="12532" y="2216"/>
                  <a:pt x="12578" y="2205"/>
                  <a:pt x="12667" y="2183"/>
                </a:cubicBezTo>
                <a:cubicBezTo>
                  <a:pt x="12685" y="2178"/>
                  <a:pt x="12823" y="2161"/>
                  <a:pt x="12832" y="2150"/>
                </a:cubicBezTo>
                <a:cubicBezTo>
                  <a:pt x="12832" y="2139"/>
                  <a:pt x="12832" y="2128"/>
                  <a:pt x="12832" y="2117"/>
                </a:cubicBezTo>
              </a:path>
              <a:path w="4399" h="1125">
                <a:moveTo>
                  <a:pt x="12832" y="1786"/>
                </a:moveTo>
                <a:cubicBezTo>
                  <a:pt x="12779" y="1804"/>
                  <a:pt x="12799" y="1851"/>
                  <a:pt x="12799" y="1918"/>
                </a:cubicBezTo>
                <a:cubicBezTo>
                  <a:pt x="12799" y="2183"/>
                  <a:pt x="12799" y="2447"/>
                  <a:pt x="12799" y="2712"/>
                </a:cubicBezTo>
              </a:path>
              <a:path w="4399" h="1125">
                <a:moveTo>
                  <a:pt x="13262" y="1885"/>
                </a:moveTo>
                <a:cubicBezTo>
                  <a:pt x="13312" y="1868"/>
                  <a:pt x="13290" y="1852"/>
                  <a:pt x="13361" y="1852"/>
                </a:cubicBezTo>
                <a:cubicBezTo>
                  <a:pt x="13406" y="1852"/>
                  <a:pt x="13469" y="1835"/>
                  <a:pt x="13494" y="1885"/>
                </a:cubicBezTo>
                <a:cubicBezTo>
                  <a:pt x="13530" y="1957"/>
                  <a:pt x="13480" y="2061"/>
                  <a:pt x="13461" y="2117"/>
                </a:cubicBezTo>
                <a:cubicBezTo>
                  <a:pt x="13440" y="2181"/>
                  <a:pt x="13459" y="2208"/>
                  <a:pt x="13428" y="2249"/>
                </a:cubicBezTo>
                <a:cubicBezTo>
                  <a:pt x="13406" y="2278"/>
                  <a:pt x="13355" y="2357"/>
                  <a:pt x="13328" y="2381"/>
                </a:cubicBezTo>
                <a:cubicBezTo>
                  <a:pt x="13313" y="2394"/>
                  <a:pt x="13240" y="2400"/>
                  <a:pt x="13229" y="2414"/>
                </a:cubicBezTo>
                <a:cubicBezTo>
                  <a:pt x="13204" y="2445"/>
                  <a:pt x="13214" y="2474"/>
                  <a:pt x="13163" y="2480"/>
                </a:cubicBezTo>
                <a:cubicBezTo>
                  <a:pt x="13131" y="2484"/>
                  <a:pt x="13096" y="2480"/>
                  <a:pt x="13064" y="2480"/>
                </a:cubicBezTo>
                <a:cubicBezTo>
                  <a:pt x="13064" y="2428"/>
                  <a:pt x="13043" y="2388"/>
                  <a:pt x="13097" y="2381"/>
                </a:cubicBezTo>
                <a:cubicBezTo>
                  <a:pt x="13143" y="2375"/>
                  <a:pt x="13197" y="2393"/>
                  <a:pt x="13229" y="2414"/>
                </a:cubicBezTo>
                <a:cubicBezTo>
                  <a:pt x="13273" y="2444"/>
                  <a:pt x="13318" y="2482"/>
                  <a:pt x="13328" y="2514"/>
                </a:cubicBezTo>
              </a:path>
              <a:path w="4399" h="1125">
                <a:moveTo>
                  <a:pt x="13659" y="2447"/>
                </a:moveTo>
                <a:cubicBezTo>
                  <a:pt x="13670" y="2447"/>
                  <a:pt x="13681" y="2447"/>
                  <a:pt x="13692" y="2447"/>
                </a:cubicBezTo>
                <a:cubicBezTo>
                  <a:pt x="13692" y="2531"/>
                  <a:pt x="13724" y="2756"/>
                  <a:pt x="13659" y="2778"/>
                </a:cubicBezTo>
              </a:path>
              <a:path w="4399" h="1125">
                <a:moveTo>
                  <a:pt x="14023" y="1918"/>
                </a:moveTo>
                <a:cubicBezTo>
                  <a:pt x="14023" y="2017"/>
                  <a:pt x="14023" y="2117"/>
                  <a:pt x="14023" y="2216"/>
                </a:cubicBezTo>
                <a:cubicBezTo>
                  <a:pt x="14100" y="2216"/>
                  <a:pt x="14177" y="2216"/>
                  <a:pt x="14254" y="2216"/>
                </a:cubicBezTo>
              </a:path>
              <a:path w="4399" h="1125">
                <a:moveTo>
                  <a:pt x="14254" y="2017"/>
                </a:moveTo>
                <a:cubicBezTo>
                  <a:pt x="14254" y="2214"/>
                  <a:pt x="14226" y="2430"/>
                  <a:pt x="14288" y="2613"/>
                </a:cubicBezTo>
                <a:cubicBezTo>
                  <a:pt x="14317" y="2699"/>
                  <a:pt x="14309" y="2826"/>
                  <a:pt x="14321" y="2811"/>
                </a:cubicBezTo>
                <a:cubicBezTo>
                  <a:pt x="14332" y="2800"/>
                  <a:pt x="14343" y="2789"/>
                  <a:pt x="14354" y="2778"/>
                </a:cubicBezTo>
              </a:path>
              <a:path w="4399" h="1125">
                <a:moveTo>
                  <a:pt x="14585" y="2017"/>
                </a:moveTo>
                <a:cubicBezTo>
                  <a:pt x="14596" y="2017"/>
                  <a:pt x="14607" y="2017"/>
                  <a:pt x="14618" y="2017"/>
                </a:cubicBezTo>
                <a:cubicBezTo>
                  <a:pt x="14628" y="1987"/>
                  <a:pt x="14675" y="1965"/>
                  <a:pt x="14717" y="1951"/>
                </a:cubicBezTo>
                <a:cubicBezTo>
                  <a:pt x="14761" y="1937"/>
                  <a:pt x="14836" y="1951"/>
                  <a:pt x="14883" y="1951"/>
                </a:cubicBezTo>
                <a:cubicBezTo>
                  <a:pt x="14883" y="2013"/>
                  <a:pt x="14906" y="2036"/>
                  <a:pt x="14916" y="2084"/>
                </a:cubicBezTo>
                <a:cubicBezTo>
                  <a:pt x="14955" y="2266"/>
                  <a:pt x="14916" y="2492"/>
                  <a:pt x="14916" y="2679"/>
                </a:cubicBezTo>
              </a:path>
              <a:path w="4399" h="1125">
                <a:moveTo>
                  <a:pt x="14684" y="2381"/>
                </a:moveTo>
                <a:cubicBezTo>
                  <a:pt x="14851" y="2381"/>
                  <a:pt x="15570" y="2455"/>
                  <a:pt x="15610" y="2348"/>
                </a:cubicBezTo>
                <a:cubicBezTo>
                  <a:pt x="15610" y="2337"/>
                  <a:pt x="15610" y="2326"/>
                  <a:pt x="15610" y="231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Ink 2"/>
          <p:cNvSpPr/>
          <p:nvPr/>
        </p:nvSpPr>
        <p:spPr>
          <a:xfrm>
            <a:off x="404640" y="558720"/>
            <a:ext cx="619200" cy="358920"/>
          </a:xfrm>
          <a:custGeom>
            <a:avLst/>
            <a:gdLst/>
            <a:ahLst/>
            <a:rect l="l" t="t" r="r" b="b"/>
            <a:pathLst>
              <a:path w="1721" h="994">
                <a:moveTo>
                  <a:pt x="1455" y="1852"/>
                </a:moveTo>
                <a:cubicBezTo>
                  <a:pt x="1455" y="1779"/>
                  <a:pt x="1440" y="1758"/>
                  <a:pt x="1422" y="1687"/>
                </a:cubicBezTo>
                <a:cubicBezTo>
                  <a:pt x="1408" y="1633"/>
                  <a:pt x="1347" y="1658"/>
                  <a:pt x="1323" y="1621"/>
                </a:cubicBezTo>
                <a:cubicBezTo>
                  <a:pt x="1299" y="1585"/>
                  <a:pt x="1284" y="1569"/>
                  <a:pt x="1224" y="1554"/>
                </a:cubicBezTo>
                <a:cubicBezTo>
                  <a:pt x="1224" y="1615"/>
                  <a:pt x="1195" y="1633"/>
                  <a:pt x="1191" y="1687"/>
                </a:cubicBezTo>
                <a:cubicBezTo>
                  <a:pt x="1184" y="1779"/>
                  <a:pt x="1202" y="1843"/>
                  <a:pt x="1224" y="1918"/>
                </a:cubicBezTo>
                <a:cubicBezTo>
                  <a:pt x="1250" y="2006"/>
                  <a:pt x="1261" y="2069"/>
                  <a:pt x="1290" y="2150"/>
                </a:cubicBezTo>
                <a:cubicBezTo>
                  <a:pt x="1325" y="2250"/>
                  <a:pt x="1378" y="2355"/>
                  <a:pt x="1455" y="2447"/>
                </a:cubicBezTo>
                <a:cubicBezTo>
                  <a:pt x="1506" y="2508"/>
                  <a:pt x="1559" y="2547"/>
                  <a:pt x="1455" y="2547"/>
                </a:cubicBezTo>
              </a:path>
              <a:path w="1721" h="994">
                <a:moveTo>
                  <a:pt x="1124" y="2183"/>
                </a:moveTo>
                <a:cubicBezTo>
                  <a:pt x="1135" y="2183"/>
                  <a:pt x="1147" y="2183"/>
                  <a:pt x="1158" y="2183"/>
                </a:cubicBezTo>
                <a:cubicBezTo>
                  <a:pt x="1177" y="2211"/>
                  <a:pt x="1235" y="2245"/>
                  <a:pt x="1290" y="2249"/>
                </a:cubicBezTo>
                <a:cubicBezTo>
                  <a:pt x="1362" y="2254"/>
                  <a:pt x="1568" y="2274"/>
                  <a:pt x="1588" y="2216"/>
                </a:cubicBezTo>
              </a:path>
              <a:path w="1721" h="994">
                <a:moveTo>
                  <a:pt x="1786" y="1852"/>
                </a:moveTo>
                <a:cubicBezTo>
                  <a:pt x="1786" y="1946"/>
                  <a:pt x="1728" y="2335"/>
                  <a:pt x="1819" y="2381"/>
                </a:cubicBezTo>
                <a:cubicBezTo>
                  <a:pt x="1866" y="2405"/>
                  <a:pt x="1870" y="2388"/>
                  <a:pt x="1885" y="2447"/>
                </a:cubicBezTo>
                <a:cubicBezTo>
                  <a:pt x="1948" y="2447"/>
                  <a:pt x="2000" y="2466"/>
                  <a:pt x="2017" y="2414"/>
                </a:cubicBezTo>
              </a:path>
              <a:path w="1721" h="994">
                <a:moveTo>
                  <a:pt x="1951" y="2017"/>
                </a:moveTo>
                <a:cubicBezTo>
                  <a:pt x="2015" y="2082"/>
                  <a:pt x="2069" y="2135"/>
                  <a:pt x="2150" y="2183"/>
                </a:cubicBezTo>
                <a:cubicBezTo>
                  <a:pt x="2275" y="2258"/>
                  <a:pt x="2377" y="2371"/>
                  <a:pt x="2480" y="2447"/>
                </a:cubicBezTo>
                <a:cubicBezTo>
                  <a:pt x="2535" y="2474"/>
                  <a:pt x="2557" y="2499"/>
                  <a:pt x="2547" y="2447"/>
                </a:cubicBezTo>
              </a:path>
              <a:path w="1721" h="994">
                <a:moveTo>
                  <a:pt x="2414" y="2117"/>
                </a:moveTo>
                <a:cubicBezTo>
                  <a:pt x="2384" y="2147"/>
                  <a:pt x="2373" y="2153"/>
                  <a:pt x="2381" y="2183"/>
                </a:cubicBezTo>
                <a:cubicBezTo>
                  <a:pt x="2327" y="2196"/>
                  <a:pt x="2328" y="2195"/>
                  <a:pt x="2315" y="2249"/>
                </a:cubicBezTo>
                <a:cubicBezTo>
                  <a:pt x="2268" y="2265"/>
                  <a:pt x="2282" y="2259"/>
                  <a:pt x="2282" y="2315"/>
                </a:cubicBezTo>
                <a:cubicBezTo>
                  <a:pt x="2232" y="2332"/>
                  <a:pt x="2249" y="2355"/>
                  <a:pt x="2249" y="2414"/>
                </a:cubicBezTo>
              </a:path>
              <a:path w="1721" h="994">
                <a:moveTo>
                  <a:pt x="2580" y="1819"/>
                </a:moveTo>
                <a:cubicBezTo>
                  <a:pt x="2594" y="1919"/>
                  <a:pt x="2642" y="1956"/>
                  <a:pt x="2712" y="2017"/>
                </a:cubicBezTo>
                <a:cubicBezTo>
                  <a:pt x="2767" y="2065"/>
                  <a:pt x="2796" y="2090"/>
                  <a:pt x="2811" y="2150"/>
                </a:cubicBezTo>
                <a:cubicBezTo>
                  <a:pt x="2861" y="2167"/>
                  <a:pt x="2844" y="2190"/>
                  <a:pt x="2844" y="2249"/>
                </a:cubicBezTo>
                <a:cubicBezTo>
                  <a:pt x="2844" y="2293"/>
                  <a:pt x="2844" y="2337"/>
                  <a:pt x="2844" y="2381"/>
                </a:cubicBezTo>
                <a:cubicBezTo>
                  <a:pt x="2794" y="2398"/>
                  <a:pt x="2811" y="2421"/>
                  <a:pt x="2811" y="2480"/>
                </a:cubicBezTo>
                <a:cubicBezTo>
                  <a:pt x="2811" y="2491"/>
                  <a:pt x="2811" y="2503"/>
                  <a:pt x="2811" y="25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Ink 3"/>
          <p:cNvSpPr/>
          <p:nvPr/>
        </p:nvSpPr>
        <p:spPr>
          <a:xfrm>
            <a:off x="1274760" y="725400"/>
            <a:ext cx="666720" cy="298440"/>
          </a:xfrm>
          <a:custGeom>
            <a:avLst/>
            <a:gdLst/>
            <a:ahLst/>
            <a:rect l="l" t="t" r="r" b="b"/>
            <a:pathLst>
              <a:path w="1853" h="828">
                <a:moveTo>
                  <a:pt x="3539" y="2150"/>
                </a:moveTo>
                <a:cubicBezTo>
                  <a:pt x="3804" y="2150"/>
                  <a:pt x="4068" y="2150"/>
                  <a:pt x="4333" y="2150"/>
                </a:cubicBezTo>
              </a:path>
              <a:path w="1853" h="828">
                <a:moveTo>
                  <a:pt x="3903" y="2381"/>
                </a:moveTo>
                <a:cubicBezTo>
                  <a:pt x="3921" y="2434"/>
                  <a:pt x="3968" y="2414"/>
                  <a:pt x="4035" y="2414"/>
                </a:cubicBezTo>
                <a:cubicBezTo>
                  <a:pt x="4189" y="2414"/>
                  <a:pt x="4344" y="2414"/>
                  <a:pt x="4498" y="2414"/>
                </a:cubicBezTo>
              </a:path>
              <a:path w="1853" h="828">
                <a:moveTo>
                  <a:pt x="4564" y="2017"/>
                </a:moveTo>
                <a:cubicBezTo>
                  <a:pt x="4707" y="2017"/>
                  <a:pt x="4861" y="1991"/>
                  <a:pt x="4994" y="2051"/>
                </a:cubicBezTo>
                <a:cubicBezTo>
                  <a:pt x="5045" y="2074"/>
                  <a:pt x="5027" y="2139"/>
                  <a:pt x="5027" y="2183"/>
                </a:cubicBezTo>
                <a:cubicBezTo>
                  <a:pt x="5027" y="2265"/>
                  <a:pt x="5046" y="2282"/>
                  <a:pt x="4961" y="2282"/>
                </a:cubicBezTo>
                <a:cubicBezTo>
                  <a:pt x="4992" y="2405"/>
                  <a:pt x="5086" y="2400"/>
                  <a:pt x="5192" y="2447"/>
                </a:cubicBezTo>
                <a:cubicBezTo>
                  <a:pt x="5241" y="2469"/>
                  <a:pt x="5384" y="2528"/>
                  <a:pt x="5391" y="2580"/>
                </a:cubicBezTo>
                <a:cubicBezTo>
                  <a:pt x="5398" y="2633"/>
                  <a:pt x="5312" y="2697"/>
                  <a:pt x="5292" y="2745"/>
                </a:cubicBezTo>
                <a:cubicBezTo>
                  <a:pt x="5258" y="2827"/>
                  <a:pt x="5240" y="2844"/>
                  <a:pt x="5159" y="2844"/>
                </a:cubicBezTo>
                <a:cubicBezTo>
                  <a:pt x="5083" y="2844"/>
                  <a:pt x="5102" y="2805"/>
                  <a:pt x="5093" y="27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Ink 4"/>
          <p:cNvSpPr/>
          <p:nvPr/>
        </p:nvSpPr>
        <p:spPr>
          <a:xfrm>
            <a:off x="380880" y="523800"/>
            <a:ext cx="5500800" cy="3071880"/>
          </a:xfrm>
          <a:custGeom>
            <a:avLst/>
            <a:gdLst/>
            <a:ahLst/>
            <a:rect l="l" t="t" r="r" b="b"/>
            <a:pathLst>
              <a:path w="15281" h="8534">
                <a:moveTo>
                  <a:pt x="8004" y="1521"/>
                </a:moveTo>
                <a:cubicBezTo>
                  <a:pt x="8124" y="1631"/>
                  <a:pt x="8140" y="1668"/>
                  <a:pt x="8202" y="1819"/>
                </a:cubicBezTo>
                <a:cubicBezTo>
                  <a:pt x="8472" y="2472"/>
                  <a:pt x="8657" y="3219"/>
                  <a:pt x="8830" y="3903"/>
                </a:cubicBezTo>
                <a:cubicBezTo>
                  <a:pt x="9120" y="5053"/>
                  <a:pt x="9062" y="6234"/>
                  <a:pt x="9062" y="7408"/>
                </a:cubicBezTo>
                <a:cubicBezTo>
                  <a:pt x="9062" y="8268"/>
                  <a:pt x="9062" y="9128"/>
                  <a:pt x="9062" y="9988"/>
                </a:cubicBezTo>
                <a:cubicBezTo>
                  <a:pt x="9049" y="9962"/>
                  <a:pt x="8990" y="9846"/>
                  <a:pt x="8963" y="9790"/>
                </a:cubicBezTo>
                <a:cubicBezTo>
                  <a:pt x="8919" y="9701"/>
                  <a:pt x="8897" y="9657"/>
                  <a:pt x="8864" y="9591"/>
                </a:cubicBezTo>
              </a:path>
              <a:path w="15281" h="8534">
                <a:moveTo>
                  <a:pt x="7078" y="7739"/>
                </a:moveTo>
                <a:cubicBezTo>
                  <a:pt x="7553" y="7739"/>
                  <a:pt x="8025" y="7769"/>
                  <a:pt x="8500" y="7772"/>
                </a:cubicBezTo>
                <a:cubicBezTo>
                  <a:pt x="10294" y="7783"/>
                  <a:pt x="11960" y="7744"/>
                  <a:pt x="13725" y="7474"/>
                </a:cubicBezTo>
                <a:cubicBezTo>
                  <a:pt x="14549" y="7348"/>
                  <a:pt x="15389" y="7335"/>
                  <a:pt x="16206" y="7177"/>
                </a:cubicBezTo>
                <a:cubicBezTo>
                  <a:pt x="16270" y="7145"/>
                  <a:pt x="16289" y="7134"/>
                  <a:pt x="16338" y="7144"/>
                </a:cubicBezTo>
              </a:path>
              <a:path w="15281" h="8534">
                <a:moveTo>
                  <a:pt x="8864" y="6383"/>
                </a:moveTo>
                <a:cubicBezTo>
                  <a:pt x="8917" y="6370"/>
                  <a:pt x="9013" y="6340"/>
                  <a:pt x="9062" y="6317"/>
                </a:cubicBezTo>
                <a:cubicBezTo>
                  <a:pt x="9092" y="6287"/>
                  <a:pt x="9103" y="6281"/>
                  <a:pt x="9095" y="6251"/>
                </a:cubicBezTo>
                <a:cubicBezTo>
                  <a:pt x="9162" y="6251"/>
                  <a:pt x="9209" y="6271"/>
                  <a:pt x="9227" y="6218"/>
                </a:cubicBezTo>
              </a:path>
              <a:path w="15281" h="8534">
                <a:moveTo>
                  <a:pt x="8665" y="4994"/>
                </a:moveTo>
                <a:cubicBezTo>
                  <a:pt x="8665" y="4983"/>
                  <a:pt x="8665" y="4972"/>
                  <a:pt x="8665" y="4961"/>
                </a:cubicBezTo>
                <a:cubicBezTo>
                  <a:pt x="8712" y="4945"/>
                  <a:pt x="8698" y="4951"/>
                  <a:pt x="8698" y="4895"/>
                </a:cubicBezTo>
                <a:cubicBezTo>
                  <a:pt x="8745" y="4879"/>
                  <a:pt x="8731" y="4885"/>
                  <a:pt x="8731" y="4829"/>
                </a:cubicBezTo>
              </a:path>
              <a:path w="15281" h="8534">
                <a:moveTo>
                  <a:pt x="8731" y="4763"/>
                </a:moveTo>
                <a:cubicBezTo>
                  <a:pt x="8872" y="4763"/>
                  <a:pt x="9006" y="4759"/>
                  <a:pt x="9128" y="4796"/>
                </a:cubicBezTo>
                <a:cubicBezTo>
                  <a:pt x="9183" y="4812"/>
                  <a:pt x="9269" y="4796"/>
                  <a:pt x="9327" y="4796"/>
                </a:cubicBezTo>
              </a:path>
              <a:path w="15281" h="8534">
                <a:moveTo>
                  <a:pt x="8500" y="3340"/>
                </a:moveTo>
                <a:cubicBezTo>
                  <a:pt x="8665" y="3340"/>
                  <a:pt x="8831" y="3340"/>
                  <a:pt x="8996" y="3340"/>
                </a:cubicBezTo>
              </a:path>
              <a:path w="15281" h="8534">
                <a:moveTo>
                  <a:pt x="8764" y="3340"/>
                </a:moveTo>
                <a:cubicBezTo>
                  <a:pt x="8782" y="3350"/>
                  <a:pt x="8852" y="3382"/>
                  <a:pt x="8897" y="3407"/>
                </a:cubicBezTo>
                <a:cubicBezTo>
                  <a:pt x="9011" y="3471"/>
                  <a:pt x="9065" y="3449"/>
                  <a:pt x="9194" y="3473"/>
                </a:cubicBezTo>
                <a:cubicBezTo>
                  <a:pt x="9299" y="3492"/>
                  <a:pt x="9384" y="3506"/>
                  <a:pt x="9492" y="3506"/>
                </a:cubicBezTo>
                <a:cubicBezTo>
                  <a:pt x="10073" y="3506"/>
                  <a:pt x="10687" y="3533"/>
                  <a:pt x="11245" y="3473"/>
                </a:cubicBezTo>
                <a:cubicBezTo>
                  <a:pt x="11357" y="3461"/>
                  <a:pt x="11469" y="3417"/>
                  <a:pt x="11576" y="3407"/>
                </a:cubicBezTo>
                <a:cubicBezTo>
                  <a:pt x="11692" y="3397"/>
                  <a:pt x="11763" y="3396"/>
                  <a:pt x="11873" y="3373"/>
                </a:cubicBezTo>
                <a:cubicBezTo>
                  <a:pt x="12006" y="3346"/>
                  <a:pt x="12132" y="3340"/>
                  <a:pt x="12270" y="3340"/>
                </a:cubicBezTo>
                <a:cubicBezTo>
                  <a:pt x="12485" y="3340"/>
                  <a:pt x="12690" y="3326"/>
                  <a:pt x="12898" y="3307"/>
                </a:cubicBezTo>
                <a:cubicBezTo>
                  <a:pt x="13320" y="3268"/>
                  <a:pt x="13851" y="3359"/>
                  <a:pt x="14221" y="3274"/>
                </a:cubicBezTo>
              </a:path>
              <a:path w="15281" h="8534">
                <a:moveTo>
                  <a:pt x="13957" y="7541"/>
                </a:moveTo>
                <a:cubicBezTo>
                  <a:pt x="13972" y="7493"/>
                  <a:pt x="13975" y="7454"/>
                  <a:pt x="13990" y="7408"/>
                </a:cubicBezTo>
                <a:cubicBezTo>
                  <a:pt x="14008" y="7353"/>
                  <a:pt x="14016" y="7302"/>
                  <a:pt x="14023" y="7243"/>
                </a:cubicBezTo>
                <a:cubicBezTo>
                  <a:pt x="14052" y="7000"/>
                  <a:pt x="14049" y="6680"/>
                  <a:pt x="13990" y="6449"/>
                </a:cubicBezTo>
                <a:cubicBezTo>
                  <a:pt x="13969" y="6369"/>
                  <a:pt x="13959" y="6308"/>
                  <a:pt x="13957" y="6218"/>
                </a:cubicBezTo>
                <a:cubicBezTo>
                  <a:pt x="13955" y="6139"/>
                  <a:pt x="13939" y="6082"/>
                  <a:pt x="13924" y="6019"/>
                </a:cubicBezTo>
                <a:cubicBezTo>
                  <a:pt x="13892" y="5887"/>
                  <a:pt x="13860" y="5775"/>
                  <a:pt x="13824" y="5655"/>
                </a:cubicBezTo>
                <a:cubicBezTo>
                  <a:pt x="13800" y="5573"/>
                  <a:pt x="13805" y="5540"/>
                  <a:pt x="13791" y="5457"/>
                </a:cubicBezTo>
                <a:cubicBezTo>
                  <a:pt x="13783" y="5407"/>
                  <a:pt x="13760" y="5360"/>
                  <a:pt x="13758" y="5292"/>
                </a:cubicBezTo>
                <a:cubicBezTo>
                  <a:pt x="13750" y="5014"/>
                  <a:pt x="13747" y="4733"/>
                  <a:pt x="13725" y="4465"/>
                </a:cubicBezTo>
                <a:cubicBezTo>
                  <a:pt x="13713" y="4313"/>
                  <a:pt x="13703" y="4136"/>
                  <a:pt x="13692" y="4002"/>
                </a:cubicBezTo>
                <a:cubicBezTo>
                  <a:pt x="13680" y="3861"/>
                  <a:pt x="13695" y="3730"/>
                  <a:pt x="13659" y="3605"/>
                </a:cubicBezTo>
                <a:cubicBezTo>
                  <a:pt x="13642" y="3545"/>
                  <a:pt x="13653" y="3548"/>
                  <a:pt x="13626" y="3506"/>
                </a:cubicBezTo>
                <a:cubicBezTo>
                  <a:pt x="13615" y="3489"/>
                  <a:pt x="13550" y="3441"/>
                  <a:pt x="13527" y="3407"/>
                </a:cubicBezTo>
                <a:cubicBezTo>
                  <a:pt x="13504" y="3374"/>
                  <a:pt x="13479" y="3334"/>
                  <a:pt x="13461" y="3307"/>
                </a:cubicBezTo>
                <a:cubicBezTo>
                  <a:pt x="13156" y="3459"/>
                  <a:pt x="12788" y="3653"/>
                  <a:pt x="12468" y="3737"/>
                </a:cubicBezTo>
                <a:cubicBezTo>
                  <a:pt x="11950" y="3873"/>
                  <a:pt x="11329" y="3815"/>
                  <a:pt x="10848" y="4068"/>
                </a:cubicBezTo>
                <a:cubicBezTo>
                  <a:pt x="10794" y="4095"/>
                  <a:pt x="10772" y="4092"/>
                  <a:pt x="10782" y="4134"/>
                </a:cubicBezTo>
                <a:cubicBezTo>
                  <a:pt x="11018" y="4055"/>
                  <a:pt x="11245" y="3966"/>
                  <a:pt x="11476" y="3870"/>
                </a:cubicBezTo>
              </a:path>
              <a:path w="15281" h="8534">
                <a:moveTo>
                  <a:pt x="11741" y="3737"/>
                </a:moveTo>
                <a:cubicBezTo>
                  <a:pt x="11419" y="3831"/>
                  <a:pt x="11095" y="3914"/>
                  <a:pt x="10782" y="4035"/>
                </a:cubicBezTo>
                <a:cubicBezTo>
                  <a:pt x="10632" y="4093"/>
                  <a:pt x="10519" y="4160"/>
                  <a:pt x="10385" y="4233"/>
                </a:cubicBezTo>
                <a:cubicBezTo>
                  <a:pt x="10475" y="4194"/>
                  <a:pt x="10610" y="4126"/>
                  <a:pt x="10749" y="4101"/>
                </a:cubicBezTo>
                <a:cubicBezTo>
                  <a:pt x="10815" y="4089"/>
                  <a:pt x="11508" y="3993"/>
                  <a:pt x="11509" y="3969"/>
                </a:cubicBezTo>
                <a:cubicBezTo>
                  <a:pt x="11514" y="3879"/>
                  <a:pt x="11042" y="3903"/>
                  <a:pt x="11013" y="3903"/>
                </a:cubicBezTo>
                <a:cubicBezTo>
                  <a:pt x="10466" y="3899"/>
                  <a:pt x="9725" y="3792"/>
                  <a:pt x="9194" y="3936"/>
                </a:cubicBezTo>
                <a:cubicBezTo>
                  <a:pt x="9172" y="3958"/>
                  <a:pt x="9150" y="3980"/>
                  <a:pt x="9128" y="4002"/>
                </a:cubicBezTo>
                <a:cubicBezTo>
                  <a:pt x="9363" y="4170"/>
                  <a:pt x="9548" y="4210"/>
                  <a:pt x="9856" y="4266"/>
                </a:cubicBezTo>
                <a:cubicBezTo>
                  <a:pt x="10315" y="4349"/>
                  <a:pt x="10744" y="4425"/>
                  <a:pt x="11212" y="4399"/>
                </a:cubicBezTo>
                <a:cubicBezTo>
                  <a:pt x="11300" y="4394"/>
                  <a:pt x="11301" y="4374"/>
                  <a:pt x="11410" y="4399"/>
                </a:cubicBezTo>
                <a:cubicBezTo>
                  <a:pt x="11640" y="4452"/>
                  <a:pt x="12039" y="4445"/>
                  <a:pt x="12237" y="4531"/>
                </a:cubicBezTo>
                <a:cubicBezTo>
                  <a:pt x="12345" y="4578"/>
                  <a:pt x="11991" y="4689"/>
                  <a:pt x="11972" y="4696"/>
                </a:cubicBezTo>
                <a:cubicBezTo>
                  <a:pt x="11605" y="4837"/>
                  <a:pt x="11266" y="4983"/>
                  <a:pt x="10914" y="5159"/>
                </a:cubicBezTo>
                <a:cubicBezTo>
                  <a:pt x="10892" y="5170"/>
                  <a:pt x="10870" y="5181"/>
                  <a:pt x="10848" y="5192"/>
                </a:cubicBezTo>
                <a:cubicBezTo>
                  <a:pt x="11480" y="5192"/>
                  <a:pt x="11867" y="5091"/>
                  <a:pt x="12435" y="4862"/>
                </a:cubicBezTo>
                <a:cubicBezTo>
                  <a:pt x="12526" y="4862"/>
                  <a:pt x="12552" y="4866"/>
                  <a:pt x="12601" y="4829"/>
                </a:cubicBezTo>
                <a:cubicBezTo>
                  <a:pt x="12571" y="4822"/>
                  <a:pt x="12329" y="4775"/>
                  <a:pt x="12270" y="4763"/>
                </a:cubicBezTo>
                <a:cubicBezTo>
                  <a:pt x="11408" y="4593"/>
                  <a:pt x="10463" y="4528"/>
                  <a:pt x="9591" y="4663"/>
                </a:cubicBezTo>
                <a:cubicBezTo>
                  <a:pt x="8821" y="4782"/>
                  <a:pt x="9180" y="4783"/>
                  <a:pt x="8797" y="5027"/>
                </a:cubicBezTo>
                <a:cubicBezTo>
                  <a:pt x="8926" y="5248"/>
                  <a:pt x="9057" y="5410"/>
                  <a:pt x="9327" y="5556"/>
                </a:cubicBezTo>
                <a:cubicBezTo>
                  <a:pt x="9906" y="5869"/>
                  <a:pt x="10560" y="6030"/>
                  <a:pt x="11212" y="6085"/>
                </a:cubicBezTo>
                <a:cubicBezTo>
                  <a:pt x="11765" y="6132"/>
                  <a:pt x="12481" y="6164"/>
                  <a:pt x="13031" y="6052"/>
                </a:cubicBezTo>
                <a:cubicBezTo>
                  <a:pt x="13227" y="6012"/>
                  <a:pt x="13189" y="5900"/>
                  <a:pt x="13262" y="5854"/>
                </a:cubicBezTo>
                <a:cubicBezTo>
                  <a:pt x="13203" y="5695"/>
                  <a:pt x="13135" y="5606"/>
                  <a:pt x="13031" y="5457"/>
                </a:cubicBezTo>
                <a:cubicBezTo>
                  <a:pt x="12894" y="5260"/>
                  <a:pt x="12748" y="5113"/>
                  <a:pt x="12535" y="4994"/>
                </a:cubicBezTo>
                <a:cubicBezTo>
                  <a:pt x="12288" y="4856"/>
                  <a:pt x="12058" y="4833"/>
                  <a:pt x="11774" y="4829"/>
                </a:cubicBezTo>
                <a:cubicBezTo>
                  <a:pt x="11417" y="4824"/>
                  <a:pt x="11339" y="4879"/>
                  <a:pt x="11046" y="5060"/>
                </a:cubicBezTo>
                <a:cubicBezTo>
                  <a:pt x="10952" y="5154"/>
                  <a:pt x="10924" y="5183"/>
                  <a:pt x="10848" y="5226"/>
                </a:cubicBezTo>
                <a:cubicBezTo>
                  <a:pt x="10836" y="5347"/>
                  <a:pt x="10774" y="5567"/>
                  <a:pt x="10815" y="5689"/>
                </a:cubicBezTo>
                <a:cubicBezTo>
                  <a:pt x="10881" y="5884"/>
                  <a:pt x="11046" y="6009"/>
                  <a:pt x="11212" y="6118"/>
                </a:cubicBezTo>
                <a:cubicBezTo>
                  <a:pt x="11571" y="6353"/>
                  <a:pt x="11889" y="6317"/>
                  <a:pt x="12303" y="6317"/>
                </a:cubicBezTo>
                <a:cubicBezTo>
                  <a:pt x="12752" y="6317"/>
                  <a:pt x="13031" y="6201"/>
                  <a:pt x="13328" y="5887"/>
                </a:cubicBezTo>
                <a:cubicBezTo>
                  <a:pt x="13298" y="5587"/>
                  <a:pt x="13341" y="5558"/>
                  <a:pt x="13064" y="5391"/>
                </a:cubicBezTo>
                <a:cubicBezTo>
                  <a:pt x="12756" y="5205"/>
                  <a:pt x="12464" y="5136"/>
                  <a:pt x="12105" y="5126"/>
                </a:cubicBezTo>
                <a:cubicBezTo>
                  <a:pt x="11599" y="5112"/>
                  <a:pt x="11081" y="5096"/>
                  <a:pt x="10583" y="5192"/>
                </a:cubicBezTo>
                <a:cubicBezTo>
                  <a:pt x="10326" y="5241"/>
                  <a:pt x="9547" y="5352"/>
                  <a:pt x="9393" y="5622"/>
                </a:cubicBezTo>
                <a:cubicBezTo>
                  <a:pt x="9361" y="5720"/>
                  <a:pt x="9350" y="5751"/>
                  <a:pt x="9360" y="5821"/>
                </a:cubicBezTo>
                <a:cubicBezTo>
                  <a:pt x="9385" y="6099"/>
                  <a:pt x="9438" y="6276"/>
                  <a:pt x="9624" y="6482"/>
                </a:cubicBezTo>
                <a:cubicBezTo>
                  <a:pt x="9792" y="6669"/>
                  <a:pt x="10128" y="6669"/>
                  <a:pt x="10352" y="6714"/>
                </a:cubicBezTo>
                <a:cubicBezTo>
                  <a:pt x="10656" y="6775"/>
                  <a:pt x="11475" y="6979"/>
                  <a:pt x="11774" y="6813"/>
                </a:cubicBezTo>
                <a:cubicBezTo>
                  <a:pt x="11832" y="6727"/>
                  <a:pt x="11847" y="6707"/>
                  <a:pt x="11873" y="6648"/>
                </a:cubicBezTo>
                <a:cubicBezTo>
                  <a:pt x="11788" y="6363"/>
                  <a:pt x="11644" y="6116"/>
                  <a:pt x="11443" y="5887"/>
                </a:cubicBezTo>
                <a:cubicBezTo>
                  <a:pt x="11343" y="5772"/>
                  <a:pt x="11289" y="5702"/>
                  <a:pt x="11146" y="5689"/>
                </a:cubicBezTo>
                <a:cubicBezTo>
                  <a:pt x="10821" y="5659"/>
                  <a:pt x="10574" y="5774"/>
                  <a:pt x="10286" y="5920"/>
                </a:cubicBezTo>
                <a:cubicBezTo>
                  <a:pt x="10106" y="6011"/>
                  <a:pt x="9892" y="6171"/>
                  <a:pt x="9790" y="6350"/>
                </a:cubicBezTo>
                <a:cubicBezTo>
                  <a:pt x="9717" y="6478"/>
                  <a:pt x="9682" y="6636"/>
                  <a:pt x="9690" y="6780"/>
                </a:cubicBezTo>
                <a:cubicBezTo>
                  <a:pt x="9702" y="6982"/>
                  <a:pt x="9801" y="7082"/>
                  <a:pt x="9922" y="7243"/>
                </a:cubicBezTo>
                <a:cubicBezTo>
                  <a:pt x="10124" y="7512"/>
                  <a:pt x="10240" y="7679"/>
                  <a:pt x="10583" y="7739"/>
                </a:cubicBezTo>
                <a:cubicBezTo>
                  <a:pt x="11021" y="7816"/>
                  <a:pt x="11382" y="7589"/>
                  <a:pt x="11675" y="7276"/>
                </a:cubicBezTo>
                <a:cubicBezTo>
                  <a:pt x="11897" y="7039"/>
                  <a:pt x="12024" y="6790"/>
                  <a:pt x="12072" y="6482"/>
                </a:cubicBezTo>
                <a:cubicBezTo>
                  <a:pt x="12090" y="6365"/>
                  <a:pt x="12080" y="6299"/>
                  <a:pt x="12005" y="6218"/>
                </a:cubicBezTo>
                <a:cubicBezTo>
                  <a:pt x="11861" y="6062"/>
                  <a:pt x="11639" y="5998"/>
                  <a:pt x="11443" y="5953"/>
                </a:cubicBezTo>
                <a:cubicBezTo>
                  <a:pt x="11278" y="5915"/>
                  <a:pt x="11113" y="5909"/>
                  <a:pt x="10947" y="5887"/>
                </a:cubicBezTo>
                <a:cubicBezTo>
                  <a:pt x="10926" y="5987"/>
                  <a:pt x="10854" y="6009"/>
                  <a:pt x="10881" y="6152"/>
                </a:cubicBezTo>
                <a:cubicBezTo>
                  <a:pt x="10921" y="6367"/>
                  <a:pt x="11079" y="6483"/>
                  <a:pt x="11245" y="6582"/>
                </a:cubicBezTo>
                <a:cubicBezTo>
                  <a:pt x="11738" y="6875"/>
                  <a:pt x="12331" y="6993"/>
                  <a:pt x="12898" y="7045"/>
                </a:cubicBezTo>
                <a:cubicBezTo>
                  <a:pt x="13201" y="7073"/>
                  <a:pt x="13497" y="7008"/>
                  <a:pt x="13791" y="6978"/>
                </a:cubicBezTo>
                <a:cubicBezTo>
                  <a:pt x="13820" y="6732"/>
                  <a:pt x="13843" y="6637"/>
                  <a:pt x="13659" y="6383"/>
                </a:cubicBezTo>
                <a:cubicBezTo>
                  <a:pt x="13520" y="6191"/>
                  <a:pt x="13399" y="6004"/>
                  <a:pt x="13196" y="5887"/>
                </a:cubicBezTo>
                <a:cubicBezTo>
                  <a:pt x="13082" y="5821"/>
                  <a:pt x="12981" y="5796"/>
                  <a:pt x="12832" y="5821"/>
                </a:cubicBezTo>
                <a:cubicBezTo>
                  <a:pt x="12568" y="5865"/>
                  <a:pt x="12031" y="6071"/>
                  <a:pt x="11873" y="6284"/>
                </a:cubicBezTo>
                <a:cubicBezTo>
                  <a:pt x="11873" y="6306"/>
                  <a:pt x="11873" y="6328"/>
                  <a:pt x="11873" y="6350"/>
                </a:cubicBezTo>
                <a:cubicBezTo>
                  <a:pt x="11926" y="6387"/>
                  <a:pt x="11822" y="6453"/>
                  <a:pt x="11939" y="6449"/>
                </a:cubicBezTo>
                <a:cubicBezTo>
                  <a:pt x="12181" y="6440"/>
                  <a:pt x="12549" y="5997"/>
                  <a:pt x="12733" y="5854"/>
                </a:cubicBezTo>
                <a:cubicBezTo>
                  <a:pt x="12977" y="5664"/>
                  <a:pt x="13160" y="5561"/>
                  <a:pt x="13196" y="5259"/>
                </a:cubicBezTo>
                <a:cubicBezTo>
                  <a:pt x="13224" y="5021"/>
                  <a:pt x="13076" y="4989"/>
                  <a:pt x="12898" y="4862"/>
                </a:cubicBezTo>
                <a:cubicBezTo>
                  <a:pt x="12668" y="4698"/>
                  <a:pt x="12464" y="4553"/>
                  <a:pt x="12171" y="4531"/>
                </a:cubicBezTo>
                <a:cubicBezTo>
                  <a:pt x="12022" y="4520"/>
                  <a:pt x="11868" y="4542"/>
                  <a:pt x="11741" y="4564"/>
                </a:cubicBezTo>
                <a:cubicBezTo>
                  <a:pt x="11791" y="4740"/>
                  <a:pt x="11825" y="4756"/>
                  <a:pt x="12072" y="4862"/>
                </a:cubicBezTo>
                <a:cubicBezTo>
                  <a:pt x="12383" y="4996"/>
                  <a:pt x="12689" y="5072"/>
                  <a:pt x="13031" y="5027"/>
                </a:cubicBezTo>
                <a:cubicBezTo>
                  <a:pt x="13154" y="5011"/>
                  <a:pt x="13322" y="4888"/>
                  <a:pt x="13361" y="4763"/>
                </a:cubicBezTo>
                <a:cubicBezTo>
                  <a:pt x="13430" y="4542"/>
                  <a:pt x="13338" y="4472"/>
                  <a:pt x="13229" y="4333"/>
                </a:cubicBezTo>
                <a:cubicBezTo>
                  <a:pt x="13148" y="4230"/>
                  <a:pt x="13047" y="4157"/>
                  <a:pt x="12965" y="4068"/>
                </a:cubicBezTo>
                <a:cubicBezTo>
                  <a:pt x="12965" y="4057"/>
                  <a:pt x="12965" y="4046"/>
                  <a:pt x="12965" y="4035"/>
                </a:cubicBezTo>
              </a:path>
              <a:path w="15281" h="8534">
                <a:moveTo>
                  <a:pt x="12865" y="3969"/>
                </a:moveTo>
                <a:cubicBezTo>
                  <a:pt x="12766" y="4002"/>
                  <a:pt x="12924" y="4132"/>
                  <a:pt x="12965" y="4167"/>
                </a:cubicBezTo>
                <a:cubicBezTo>
                  <a:pt x="13162" y="4337"/>
                  <a:pt x="13405" y="4449"/>
                  <a:pt x="13659" y="4465"/>
                </a:cubicBezTo>
                <a:cubicBezTo>
                  <a:pt x="13787" y="4473"/>
                  <a:pt x="13858" y="4479"/>
                  <a:pt x="13924" y="4366"/>
                </a:cubicBezTo>
                <a:cubicBezTo>
                  <a:pt x="13965" y="4296"/>
                  <a:pt x="13984" y="4213"/>
                  <a:pt x="13990" y="4134"/>
                </a:cubicBezTo>
                <a:cubicBezTo>
                  <a:pt x="13996" y="4055"/>
                  <a:pt x="14011" y="3896"/>
                  <a:pt x="13957" y="3870"/>
                </a:cubicBezTo>
                <a:cubicBezTo>
                  <a:pt x="13873" y="3830"/>
                  <a:pt x="13819" y="3836"/>
                  <a:pt x="13725" y="3836"/>
                </a:cubicBezTo>
                <a:cubicBezTo>
                  <a:pt x="13625" y="3836"/>
                  <a:pt x="13554" y="3843"/>
                  <a:pt x="13461" y="3870"/>
                </a:cubicBezTo>
                <a:cubicBezTo>
                  <a:pt x="13338" y="3905"/>
                  <a:pt x="13190" y="3925"/>
                  <a:pt x="13064" y="3936"/>
                </a:cubicBezTo>
                <a:cubicBezTo>
                  <a:pt x="13031" y="3936"/>
                  <a:pt x="13020" y="3936"/>
                  <a:pt x="12998" y="3936"/>
                </a:cubicBezTo>
                <a:cubicBezTo>
                  <a:pt x="13124" y="3918"/>
                  <a:pt x="13287" y="3873"/>
                  <a:pt x="13395" y="3803"/>
                </a:cubicBezTo>
                <a:cubicBezTo>
                  <a:pt x="13417" y="3781"/>
                  <a:pt x="13439" y="3759"/>
                  <a:pt x="13461" y="3737"/>
                </a:cubicBezTo>
              </a:path>
              <a:path w="15281" h="8534">
                <a:moveTo>
                  <a:pt x="13196" y="3208"/>
                </a:moveTo>
                <a:cubicBezTo>
                  <a:pt x="13163" y="3208"/>
                  <a:pt x="13152" y="3208"/>
                  <a:pt x="13163" y="3175"/>
                </a:cubicBezTo>
                <a:cubicBezTo>
                  <a:pt x="13126" y="3249"/>
                  <a:pt x="13102" y="3349"/>
                  <a:pt x="13097" y="3440"/>
                </a:cubicBezTo>
                <a:cubicBezTo>
                  <a:pt x="13092" y="3535"/>
                  <a:pt x="13086" y="3628"/>
                  <a:pt x="13130" y="3704"/>
                </a:cubicBezTo>
                <a:cubicBezTo>
                  <a:pt x="13169" y="3772"/>
                  <a:pt x="13188" y="3817"/>
                  <a:pt x="13262" y="3836"/>
                </a:cubicBezTo>
                <a:cubicBezTo>
                  <a:pt x="13262" y="3792"/>
                  <a:pt x="13262" y="3748"/>
                  <a:pt x="13262" y="3704"/>
                </a:cubicBezTo>
              </a:path>
              <a:path w="15281" h="8534">
                <a:moveTo>
                  <a:pt x="13262" y="3704"/>
                </a:moveTo>
                <a:cubicBezTo>
                  <a:pt x="13262" y="3860"/>
                  <a:pt x="13241" y="4023"/>
                  <a:pt x="13295" y="4167"/>
                </a:cubicBezTo>
              </a:path>
              <a:path w="15281" h="8534">
                <a:moveTo>
                  <a:pt x="1753" y="6515"/>
                </a:moveTo>
                <a:cubicBezTo>
                  <a:pt x="1745" y="6462"/>
                  <a:pt x="1743" y="6395"/>
                  <a:pt x="1720" y="6350"/>
                </a:cubicBezTo>
                <a:cubicBezTo>
                  <a:pt x="1692" y="6294"/>
                  <a:pt x="1668" y="6258"/>
                  <a:pt x="1621" y="6218"/>
                </a:cubicBezTo>
                <a:cubicBezTo>
                  <a:pt x="1546" y="6155"/>
                  <a:pt x="1553" y="6188"/>
                  <a:pt x="1488" y="6152"/>
                </a:cubicBezTo>
                <a:cubicBezTo>
                  <a:pt x="1488" y="6118"/>
                  <a:pt x="1488" y="6107"/>
                  <a:pt x="1455" y="6118"/>
                </a:cubicBezTo>
                <a:cubicBezTo>
                  <a:pt x="1428" y="6146"/>
                  <a:pt x="1403" y="6157"/>
                  <a:pt x="1389" y="6218"/>
                </a:cubicBezTo>
                <a:cubicBezTo>
                  <a:pt x="1370" y="6297"/>
                  <a:pt x="1360" y="6366"/>
                  <a:pt x="1356" y="6449"/>
                </a:cubicBezTo>
                <a:cubicBezTo>
                  <a:pt x="1349" y="6589"/>
                  <a:pt x="1328" y="6797"/>
                  <a:pt x="1389" y="6912"/>
                </a:cubicBezTo>
                <a:cubicBezTo>
                  <a:pt x="1432" y="6993"/>
                  <a:pt x="1443" y="7071"/>
                  <a:pt x="1488" y="7144"/>
                </a:cubicBezTo>
                <a:cubicBezTo>
                  <a:pt x="1544" y="7235"/>
                  <a:pt x="1536" y="7292"/>
                  <a:pt x="1588" y="7375"/>
                </a:cubicBezTo>
                <a:cubicBezTo>
                  <a:pt x="1618" y="7423"/>
                  <a:pt x="1673" y="7513"/>
                  <a:pt x="1687" y="7574"/>
                </a:cubicBezTo>
                <a:cubicBezTo>
                  <a:pt x="1708" y="7663"/>
                  <a:pt x="1764" y="7712"/>
                  <a:pt x="1786" y="7805"/>
                </a:cubicBezTo>
                <a:cubicBezTo>
                  <a:pt x="1801" y="7868"/>
                  <a:pt x="1815" y="7906"/>
                  <a:pt x="1819" y="7971"/>
                </a:cubicBezTo>
                <a:cubicBezTo>
                  <a:pt x="1824" y="8048"/>
                  <a:pt x="1842" y="8071"/>
                  <a:pt x="1852" y="8136"/>
                </a:cubicBezTo>
                <a:cubicBezTo>
                  <a:pt x="1858" y="8175"/>
                  <a:pt x="1852" y="8227"/>
                  <a:pt x="1852" y="8268"/>
                </a:cubicBezTo>
                <a:cubicBezTo>
                  <a:pt x="1702" y="8243"/>
                  <a:pt x="1579" y="8188"/>
                  <a:pt x="1422" y="8136"/>
                </a:cubicBezTo>
                <a:cubicBezTo>
                  <a:pt x="1353" y="8113"/>
                  <a:pt x="1186" y="8043"/>
                  <a:pt x="1158" y="8037"/>
                </a:cubicBezTo>
                <a:cubicBezTo>
                  <a:pt x="1126" y="8030"/>
                  <a:pt x="1090" y="8042"/>
                  <a:pt x="1058" y="8037"/>
                </a:cubicBezTo>
                <a:cubicBezTo>
                  <a:pt x="1115" y="8071"/>
                  <a:pt x="1120" y="8082"/>
                  <a:pt x="1158" y="8136"/>
                </a:cubicBezTo>
              </a:path>
              <a:path w="15281" h="8534">
                <a:moveTo>
                  <a:pt x="1852" y="5655"/>
                </a:moveTo>
                <a:cubicBezTo>
                  <a:pt x="1852" y="5721"/>
                  <a:pt x="1852" y="5788"/>
                  <a:pt x="1852" y="5854"/>
                </a:cubicBezTo>
                <a:cubicBezTo>
                  <a:pt x="1995" y="5854"/>
                  <a:pt x="2193" y="5842"/>
                  <a:pt x="2282" y="5887"/>
                </a:cubicBezTo>
                <a:cubicBezTo>
                  <a:pt x="2289" y="5891"/>
                  <a:pt x="2371" y="5984"/>
                  <a:pt x="2381" y="6019"/>
                </a:cubicBezTo>
                <a:cubicBezTo>
                  <a:pt x="2402" y="6091"/>
                  <a:pt x="2414" y="6078"/>
                  <a:pt x="2414" y="6152"/>
                </a:cubicBezTo>
                <a:cubicBezTo>
                  <a:pt x="2414" y="6185"/>
                  <a:pt x="2414" y="6196"/>
                  <a:pt x="2414" y="6218"/>
                </a:cubicBezTo>
                <a:cubicBezTo>
                  <a:pt x="2338" y="6218"/>
                  <a:pt x="2277" y="6197"/>
                  <a:pt x="2216" y="6185"/>
                </a:cubicBezTo>
                <a:cubicBezTo>
                  <a:pt x="2129" y="6168"/>
                  <a:pt x="2117" y="6179"/>
                  <a:pt x="2117" y="6085"/>
                </a:cubicBezTo>
              </a:path>
              <a:path w="15281" h="8534">
                <a:moveTo>
                  <a:pt x="2017" y="5689"/>
                </a:moveTo>
                <a:cubicBezTo>
                  <a:pt x="2112" y="5689"/>
                  <a:pt x="2171" y="5679"/>
                  <a:pt x="2249" y="5655"/>
                </a:cubicBezTo>
                <a:cubicBezTo>
                  <a:pt x="2314" y="5635"/>
                  <a:pt x="2411" y="5655"/>
                  <a:pt x="2480" y="5655"/>
                </a:cubicBezTo>
              </a:path>
              <a:path w="15281" h="8534">
                <a:moveTo>
                  <a:pt x="2216" y="7441"/>
                </a:moveTo>
                <a:cubicBezTo>
                  <a:pt x="2228" y="7405"/>
                  <a:pt x="2240" y="7380"/>
                  <a:pt x="2282" y="7375"/>
                </a:cubicBezTo>
                <a:cubicBezTo>
                  <a:pt x="2349" y="7367"/>
                  <a:pt x="2442" y="7373"/>
                  <a:pt x="2480" y="7441"/>
                </a:cubicBezTo>
                <a:cubicBezTo>
                  <a:pt x="2505" y="7487"/>
                  <a:pt x="2484" y="7602"/>
                  <a:pt x="2447" y="7607"/>
                </a:cubicBezTo>
                <a:cubicBezTo>
                  <a:pt x="2436" y="7607"/>
                  <a:pt x="2425" y="7607"/>
                  <a:pt x="2414" y="7607"/>
                </a:cubicBezTo>
                <a:cubicBezTo>
                  <a:pt x="2433" y="7665"/>
                  <a:pt x="2606" y="7749"/>
                  <a:pt x="2679" y="7772"/>
                </a:cubicBezTo>
                <a:cubicBezTo>
                  <a:pt x="2766" y="7800"/>
                  <a:pt x="2811" y="7798"/>
                  <a:pt x="2811" y="7904"/>
                </a:cubicBezTo>
                <a:cubicBezTo>
                  <a:pt x="2811" y="7948"/>
                  <a:pt x="2811" y="7993"/>
                  <a:pt x="2811" y="8037"/>
                </a:cubicBezTo>
                <a:cubicBezTo>
                  <a:pt x="2725" y="8037"/>
                  <a:pt x="2664" y="8036"/>
                  <a:pt x="2580" y="8004"/>
                </a:cubicBezTo>
                <a:cubicBezTo>
                  <a:pt x="2492" y="7971"/>
                  <a:pt x="2444" y="7904"/>
                  <a:pt x="2348" y="7904"/>
                </a:cubicBezTo>
                <a:cubicBezTo>
                  <a:pt x="2364" y="7840"/>
                  <a:pt x="2393" y="7826"/>
                  <a:pt x="2447" y="7772"/>
                </a:cubicBezTo>
              </a:path>
              <a:path w="15281" h="8534">
                <a:moveTo>
                  <a:pt x="3340" y="6813"/>
                </a:moveTo>
                <a:cubicBezTo>
                  <a:pt x="3369" y="6926"/>
                  <a:pt x="3419" y="7025"/>
                  <a:pt x="3473" y="7144"/>
                </a:cubicBezTo>
                <a:cubicBezTo>
                  <a:pt x="3534" y="7277"/>
                  <a:pt x="3572" y="7408"/>
                  <a:pt x="3638" y="7541"/>
                </a:cubicBezTo>
                <a:cubicBezTo>
                  <a:pt x="3694" y="7654"/>
                  <a:pt x="3699" y="7743"/>
                  <a:pt x="3770" y="7838"/>
                </a:cubicBezTo>
                <a:cubicBezTo>
                  <a:pt x="3770" y="7871"/>
                  <a:pt x="3770" y="7882"/>
                  <a:pt x="3770" y="7838"/>
                </a:cubicBezTo>
                <a:cubicBezTo>
                  <a:pt x="3674" y="7701"/>
                  <a:pt x="3597" y="7623"/>
                  <a:pt x="3473" y="7541"/>
                </a:cubicBezTo>
                <a:cubicBezTo>
                  <a:pt x="3433" y="7514"/>
                  <a:pt x="3396" y="7508"/>
                  <a:pt x="3307" y="7508"/>
                </a:cubicBezTo>
                <a:cubicBezTo>
                  <a:pt x="3230" y="7508"/>
                  <a:pt x="3153" y="7508"/>
                  <a:pt x="3076" y="7508"/>
                </a:cubicBezTo>
                <a:cubicBezTo>
                  <a:pt x="3076" y="7583"/>
                  <a:pt x="3076" y="7612"/>
                  <a:pt x="3109" y="7673"/>
                </a:cubicBezTo>
                <a:cubicBezTo>
                  <a:pt x="3144" y="7739"/>
                  <a:pt x="3166" y="7778"/>
                  <a:pt x="3208" y="7805"/>
                </a:cubicBezTo>
                <a:cubicBezTo>
                  <a:pt x="3239" y="7825"/>
                  <a:pt x="3332" y="7862"/>
                  <a:pt x="3373" y="7871"/>
                </a:cubicBezTo>
                <a:cubicBezTo>
                  <a:pt x="3443" y="7886"/>
                  <a:pt x="3649" y="7893"/>
                  <a:pt x="3704" y="7838"/>
                </a:cubicBezTo>
                <a:cubicBezTo>
                  <a:pt x="3786" y="7756"/>
                  <a:pt x="3845" y="7722"/>
                  <a:pt x="3903" y="7607"/>
                </a:cubicBezTo>
                <a:cubicBezTo>
                  <a:pt x="3958" y="7498"/>
                  <a:pt x="3962" y="7500"/>
                  <a:pt x="4068" y="7541"/>
                </a:cubicBezTo>
                <a:cubicBezTo>
                  <a:pt x="4194" y="7590"/>
                  <a:pt x="4289" y="7696"/>
                  <a:pt x="4399" y="7772"/>
                </a:cubicBezTo>
                <a:cubicBezTo>
                  <a:pt x="4490" y="7835"/>
                  <a:pt x="4650" y="8008"/>
                  <a:pt x="4729" y="8037"/>
                </a:cubicBezTo>
                <a:cubicBezTo>
                  <a:pt x="4791" y="8060"/>
                  <a:pt x="4832" y="8049"/>
                  <a:pt x="4895" y="8070"/>
                </a:cubicBezTo>
                <a:cubicBezTo>
                  <a:pt x="4889" y="7994"/>
                  <a:pt x="4873" y="7941"/>
                  <a:pt x="4862" y="7871"/>
                </a:cubicBezTo>
                <a:cubicBezTo>
                  <a:pt x="4847" y="7773"/>
                  <a:pt x="4801" y="7656"/>
                  <a:pt x="4763" y="7574"/>
                </a:cubicBezTo>
                <a:cubicBezTo>
                  <a:pt x="4741" y="7541"/>
                  <a:pt x="4718" y="7507"/>
                  <a:pt x="4696" y="7474"/>
                </a:cubicBezTo>
              </a:path>
              <a:path w="15281" h="8534">
                <a:moveTo>
                  <a:pt x="4630" y="7243"/>
                </a:moveTo>
                <a:cubicBezTo>
                  <a:pt x="4575" y="7261"/>
                  <a:pt x="4607" y="7311"/>
                  <a:pt x="4564" y="7375"/>
                </a:cubicBezTo>
                <a:cubicBezTo>
                  <a:pt x="4510" y="7456"/>
                  <a:pt x="4483" y="7576"/>
                  <a:pt x="4432" y="7673"/>
                </a:cubicBezTo>
                <a:cubicBezTo>
                  <a:pt x="4337" y="7852"/>
                  <a:pt x="4299" y="8003"/>
                  <a:pt x="4299" y="8202"/>
                </a:cubicBezTo>
                <a:cubicBezTo>
                  <a:pt x="4299" y="8224"/>
                  <a:pt x="4299" y="8246"/>
                  <a:pt x="4299" y="8268"/>
                </a:cubicBezTo>
                <a:cubicBezTo>
                  <a:pt x="4299" y="8224"/>
                  <a:pt x="4299" y="8180"/>
                  <a:pt x="4299" y="81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Ink 5"/>
          <p:cNvSpPr/>
          <p:nvPr/>
        </p:nvSpPr>
        <p:spPr>
          <a:xfrm>
            <a:off x="595440" y="3060720"/>
            <a:ext cx="179280" cy="297000"/>
          </a:xfrm>
          <a:custGeom>
            <a:avLst/>
            <a:gdLst/>
            <a:ahLst/>
            <a:rect l="l" t="t" r="r" b="b"/>
            <a:pathLst>
              <a:path w="497" h="828">
                <a:moveTo>
                  <a:pt x="1918" y="8797"/>
                </a:moveTo>
                <a:cubicBezTo>
                  <a:pt x="1866" y="8784"/>
                  <a:pt x="1845" y="8764"/>
                  <a:pt x="1786" y="8764"/>
                </a:cubicBezTo>
                <a:cubicBezTo>
                  <a:pt x="1717" y="8764"/>
                  <a:pt x="1716" y="8758"/>
                  <a:pt x="1687" y="8797"/>
                </a:cubicBezTo>
                <a:cubicBezTo>
                  <a:pt x="1644" y="8855"/>
                  <a:pt x="1654" y="8886"/>
                  <a:pt x="1654" y="8963"/>
                </a:cubicBezTo>
                <a:cubicBezTo>
                  <a:pt x="1654" y="9016"/>
                  <a:pt x="1662" y="9086"/>
                  <a:pt x="1687" y="9128"/>
                </a:cubicBezTo>
                <a:cubicBezTo>
                  <a:pt x="1714" y="9173"/>
                  <a:pt x="1766" y="9269"/>
                  <a:pt x="1819" y="9293"/>
                </a:cubicBezTo>
                <a:cubicBezTo>
                  <a:pt x="1864" y="9313"/>
                  <a:pt x="1896" y="9327"/>
                  <a:pt x="1951" y="9327"/>
                </a:cubicBezTo>
                <a:cubicBezTo>
                  <a:pt x="2002" y="9327"/>
                  <a:pt x="2090" y="9349"/>
                  <a:pt x="2117" y="9293"/>
                </a:cubicBezTo>
                <a:cubicBezTo>
                  <a:pt x="2145" y="9237"/>
                  <a:pt x="2150" y="9199"/>
                  <a:pt x="2150" y="9128"/>
                </a:cubicBezTo>
                <a:cubicBezTo>
                  <a:pt x="2150" y="9058"/>
                  <a:pt x="2176" y="8916"/>
                  <a:pt x="2117" y="8864"/>
                </a:cubicBezTo>
                <a:cubicBezTo>
                  <a:pt x="2074" y="8826"/>
                  <a:pt x="1938" y="8796"/>
                  <a:pt x="1885" y="8764"/>
                </a:cubicBezTo>
                <a:cubicBezTo>
                  <a:pt x="1827" y="8729"/>
                  <a:pt x="1852" y="8624"/>
                  <a:pt x="1852" y="8566"/>
                </a:cubicBezTo>
                <a:cubicBezTo>
                  <a:pt x="1852" y="8544"/>
                  <a:pt x="1852" y="8522"/>
                  <a:pt x="1852" y="8500"/>
                </a:cubicBezTo>
              </a:path>
            </a:pathLst>
          </a:custGeom>
          <a:noFill/>
          <a:ln cap="rnd" w="19080">
            <a:solidFill>
              <a:srgbClr val="00b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Ink 6"/>
          <p:cNvSpPr/>
          <p:nvPr/>
        </p:nvSpPr>
        <p:spPr>
          <a:xfrm>
            <a:off x="3524400" y="2727360"/>
            <a:ext cx="23760" cy="237960"/>
          </a:xfrm>
          <a:custGeom>
            <a:avLst/>
            <a:gdLst/>
            <a:ahLst/>
            <a:rect l="l" t="t" r="r" b="b"/>
            <a:pathLst>
              <a:path w="67" h="662">
                <a:moveTo>
                  <a:pt x="9790" y="7574"/>
                </a:moveTo>
                <a:cubicBezTo>
                  <a:pt x="9790" y="7765"/>
                  <a:pt x="9790" y="7950"/>
                  <a:pt x="9823" y="8136"/>
                </a:cubicBezTo>
                <a:cubicBezTo>
                  <a:pt x="9835" y="8203"/>
                  <a:pt x="9839" y="8185"/>
                  <a:pt x="9856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Ink 7"/>
          <p:cNvSpPr/>
          <p:nvPr/>
        </p:nvSpPr>
        <p:spPr>
          <a:xfrm>
            <a:off x="3881520" y="2751120"/>
            <a:ext cx="1440" cy="214200"/>
          </a:xfrm>
          <a:custGeom>
            <a:avLst/>
            <a:gdLst/>
            <a:ahLst/>
            <a:rect l="l" t="t" r="r" b="b"/>
            <a:pathLst>
              <a:path w="1" h="596">
                <a:moveTo>
                  <a:pt x="10782" y="7640"/>
                </a:moveTo>
                <a:cubicBezTo>
                  <a:pt x="10782" y="7838"/>
                  <a:pt x="10782" y="8037"/>
                  <a:pt x="10782" y="823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Ink 8"/>
          <p:cNvSpPr/>
          <p:nvPr/>
        </p:nvSpPr>
        <p:spPr>
          <a:xfrm>
            <a:off x="4249800" y="2762280"/>
            <a:ext cx="60120" cy="227160"/>
          </a:xfrm>
          <a:custGeom>
            <a:avLst/>
            <a:gdLst/>
            <a:ahLst/>
            <a:rect l="l" t="t" r="r" b="b"/>
            <a:pathLst>
              <a:path w="166" h="629">
                <a:moveTo>
                  <a:pt x="11807" y="7673"/>
                </a:moveTo>
                <a:cubicBezTo>
                  <a:pt x="11807" y="7755"/>
                  <a:pt x="11831" y="7840"/>
                  <a:pt x="11840" y="7904"/>
                </a:cubicBezTo>
                <a:cubicBezTo>
                  <a:pt x="11852" y="7986"/>
                  <a:pt x="11843" y="8124"/>
                  <a:pt x="11873" y="8202"/>
                </a:cubicBezTo>
                <a:cubicBezTo>
                  <a:pt x="11891" y="8250"/>
                  <a:pt x="11910" y="8282"/>
                  <a:pt x="11939" y="8301"/>
                </a:cubicBezTo>
                <a:cubicBezTo>
                  <a:pt x="11939" y="8238"/>
                  <a:pt x="11920" y="8186"/>
                  <a:pt x="11972" y="8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Ink 9"/>
          <p:cNvSpPr/>
          <p:nvPr/>
        </p:nvSpPr>
        <p:spPr>
          <a:xfrm>
            <a:off x="4583160" y="2690640"/>
            <a:ext cx="60120" cy="179640"/>
          </a:xfrm>
          <a:custGeom>
            <a:avLst/>
            <a:gdLst/>
            <a:ahLst/>
            <a:rect l="l" t="t" r="r" b="b"/>
            <a:pathLst>
              <a:path w="166" h="498">
                <a:moveTo>
                  <a:pt x="12733" y="7474"/>
                </a:moveTo>
                <a:cubicBezTo>
                  <a:pt x="12742" y="7543"/>
                  <a:pt x="12746" y="7638"/>
                  <a:pt x="12766" y="7706"/>
                </a:cubicBezTo>
                <a:cubicBezTo>
                  <a:pt x="12787" y="7777"/>
                  <a:pt x="12805" y="7917"/>
                  <a:pt x="12865" y="7971"/>
                </a:cubicBezTo>
                <a:cubicBezTo>
                  <a:pt x="12898" y="7971"/>
                  <a:pt x="12909" y="7971"/>
                  <a:pt x="12898" y="793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Ink 10"/>
          <p:cNvSpPr/>
          <p:nvPr/>
        </p:nvSpPr>
        <p:spPr>
          <a:xfrm>
            <a:off x="5024520" y="2666880"/>
            <a:ext cx="95040" cy="274680"/>
          </a:xfrm>
          <a:custGeom>
            <a:avLst/>
            <a:gdLst/>
            <a:ahLst/>
            <a:rect l="l" t="t" r="r" b="b"/>
            <a:pathLst>
              <a:path w="265" h="762">
                <a:moveTo>
                  <a:pt x="13957" y="7408"/>
                </a:moveTo>
                <a:cubicBezTo>
                  <a:pt x="13957" y="7502"/>
                  <a:pt x="13960" y="7548"/>
                  <a:pt x="13990" y="7640"/>
                </a:cubicBezTo>
                <a:cubicBezTo>
                  <a:pt x="14029" y="7762"/>
                  <a:pt x="14131" y="7886"/>
                  <a:pt x="14155" y="8004"/>
                </a:cubicBezTo>
                <a:cubicBezTo>
                  <a:pt x="14170" y="8078"/>
                  <a:pt x="14210" y="8210"/>
                  <a:pt x="14221" y="8136"/>
                </a:cubicBezTo>
                <a:cubicBezTo>
                  <a:pt x="14221" y="8125"/>
                  <a:pt x="14221" y="8114"/>
                  <a:pt x="14221" y="810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Ink 11"/>
          <p:cNvSpPr/>
          <p:nvPr/>
        </p:nvSpPr>
        <p:spPr>
          <a:xfrm>
            <a:off x="5464080" y="2571840"/>
            <a:ext cx="108000" cy="309600"/>
          </a:xfrm>
          <a:custGeom>
            <a:avLst/>
            <a:gdLst/>
            <a:ahLst/>
            <a:rect l="l" t="t" r="r" b="b"/>
            <a:pathLst>
              <a:path w="299" h="861">
                <a:moveTo>
                  <a:pt x="15180" y="7144"/>
                </a:moveTo>
                <a:cubicBezTo>
                  <a:pt x="15180" y="7259"/>
                  <a:pt x="15206" y="7304"/>
                  <a:pt x="15247" y="7408"/>
                </a:cubicBezTo>
                <a:cubicBezTo>
                  <a:pt x="15283" y="7501"/>
                  <a:pt x="15360" y="7617"/>
                  <a:pt x="15379" y="7706"/>
                </a:cubicBezTo>
                <a:cubicBezTo>
                  <a:pt x="15399" y="7797"/>
                  <a:pt x="15438" y="7851"/>
                  <a:pt x="15445" y="7938"/>
                </a:cubicBezTo>
                <a:cubicBezTo>
                  <a:pt x="15450" y="7995"/>
                  <a:pt x="15428" y="7987"/>
                  <a:pt x="15478" y="800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Ink 2"/>
          <p:cNvSpPr/>
          <p:nvPr/>
        </p:nvSpPr>
        <p:spPr>
          <a:xfrm>
            <a:off x="2166840" y="2011320"/>
            <a:ext cx="2524320" cy="988920"/>
          </a:xfrm>
          <a:custGeom>
            <a:avLst/>
            <a:gdLst/>
            <a:ahLst/>
            <a:rect l="l" t="t" r="r" b="b"/>
            <a:pathLst>
              <a:path w="7013" h="2746">
                <a:moveTo>
                  <a:pt x="6118" y="5589"/>
                </a:moveTo>
                <a:cubicBezTo>
                  <a:pt x="6118" y="5690"/>
                  <a:pt x="6133" y="5756"/>
                  <a:pt x="6152" y="5854"/>
                </a:cubicBezTo>
                <a:cubicBezTo>
                  <a:pt x="6162" y="5907"/>
                  <a:pt x="6185" y="5926"/>
                  <a:pt x="6185" y="5986"/>
                </a:cubicBezTo>
                <a:cubicBezTo>
                  <a:pt x="6185" y="6061"/>
                  <a:pt x="6198" y="6090"/>
                  <a:pt x="6218" y="6152"/>
                </a:cubicBezTo>
                <a:cubicBezTo>
                  <a:pt x="6218" y="6163"/>
                  <a:pt x="6218" y="6174"/>
                  <a:pt x="6218" y="6185"/>
                </a:cubicBezTo>
              </a:path>
              <a:path w="7013" h="2746">
                <a:moveTo>
                  <a:pt x="6019" y="6515"/>
                </a:moveTo>
                <a:cubicBezTo>
                  <a:pt x="6184" y="6515"/>
                  <a:pt x="6350" y="6515"/>
                  <a:pt x="6515" y="6515"/>
                </a:cubicBezTo>
              </a:path>
              <a:path w="7013" h="2746">
                <a:moveTo>
                  <a:pt x="6251" y="6780"/>
                </a:moveTo>
                <a:cubicBezTo>
                  <a:pt x="6251" y="6868"/>
                  <a:pt x="6251" y="6957"/>
                  <a:pt x="6251" y="7045"/>
                </a:cubicBezTo>
                <a:cubicBezTo>
                  <a:pt x="6328" y="7045"/>
                  <a:pt x="6405" y="7045"/>
                  <a:pt x="6482" y="7045"/>
                </a:cubicBezTo>
                <a:cubicBezTo>
                  <a:pt x="6496" y="7002"/>
                  <a:pt x="6506" y="6992"/>
                  <a:pt x="6548" y="6978"/>
                </a:cubicBezTo>
              </a:path>
              <a:path w="7013" h="2746">
                <a:moveTo>
                  <a:pt x="6548" y="6846"/>
                </a:moveTo>
                <a:cubicBezTo>
                  <a:pt x="6548" y="6977"/>
                  <a:pt x="6553" y="7087"/>
                  <a:pt x="6582" y="7210"/>
                </a:cubicBezTo>
                <a:cubicBezTo>
                  <a:pt x="6603" y="7299"/>
                  <a:pt x="6549" y="7397"/>
                  <a:pt x="6615" y="7441"/>
                </a:cubicBezTo>
                <a:cubicBezTo>
                  <a:pt x="6615" y="7364"/>
                  <a:pt x="6615" y="7287"/>
                  <a:pt x="6615" y="7210"/>
                </a:cubicBezTo>
              </a:path>
              <a:path w="7013" h="2746">
                <a:moveTo>
                  <a:pt x="7111" y="6383"/>
                </a:moveTo>
                <a:cubicBezTo>
                  <a:pt x="7069" y="6467"/>
                  <a:pt x="7078" y="6548"/>
                  <a:pt x="7078" y="6648"/>
                </a:cubicBezTo>
              </a:path>
              <a:path w="7013" h="2746">
                <a:moveTo>
                  <a:pt x="7508" y="6350"/>
                </a:moveTo>
                <a:cubicBezTo>
                  <a:pt x="7508" y="6461"/>
                  <a:pt x="7506" y="6715"/>
                  <a:pt x="7508" y="6714"/>
                </a:cubicBezTo>
                <a:cubicBezTo>
                  <a:pt x="7541" y="6714"/>
                  <a:pt x="7552" y="6714"/>
                  <a:pt x="7541" y="6681"/>
                </a:cubicBezTo>
              </a:path>
              <a:path w="7013" h="2746">
                <a:moveTo>
                  <a:pt x="6912" y="6416"/>
                </a:moveTo>
                <a:cubicBezTo>
                  <a:pt x="6912" y="6349"/>
                  <a:pt x="6914" y="6339"/>
                  <a:pt x="6945" y="6284"/>
                </a:cubicBezTo>
                <a:cubicBezTo>
                  <a:pt x="6966" y="6248"/>
                  <a:pt x="7006" y="6163"/>
                  <a:pt x="7011" y="6152"/>
                </a:cubicBezTo>
                <a:cubicBezTo>
                  <a:pt x="7040" y="6092"/>
                  <a:pt x="7035" y="6085"/>
                  <a:pt x="7111" y="6085"/>
                </a:cubicBezTo>
                <a:cubicBezTo>
                  <a:pt x="7207" y="6085"/>
                  <a:pt x="7294" y="6094"/>
                  <a:pt x="7342" y="6118"/>
                </a:cubicBezTo>
                <a:cubicBezTo>
                  <a:pt x="7387" y="6140"/>
                  <a:pt x="7397" y="6152"/>
                  <a:pt x="7474" y="6152"/>
                </a:cubicBezTo>
                <a:cubicBezTo>
                  <a:pt x="7512" y="6152"/>
                  <a:pt x="7588" y="6166"/>
                  <a:pt x="7607" y="6185"/>
                </a:cubicBezTo>
                <a:cubicBezTo>
                  <a:pt x="7630" y="6208"/>
                  <a:pt x="7682" y="6245"/>
                  <a:pt x="7739" y="6251"/>
                </a:cubicBezTo>
                <a:cubicBezTo>
                  <a:pt x="7807" y="6259"/>
                  <a:pt x="7812" y="6231"/>
                  <a:pt x="7838" y="6218"/>
                </a:cubicBezTo>
                <a:cubicBezTo>
                  <a:pt x="7866" y="6204"/>
                  <a:pt x="7889" y="6164"/>
                  <a:pt x="7904" y="6118"/>
                </a:cubicBezTo>
                <a:cubicBezTo>
                  <a:pt x="7904" y="6085"/>
                  <a:pt x="7904" y="6074"/>
                  <a:pt x="7904" y="6052"/>
                </a:cubicBezTo>
              </a:path>
              <a:path w="7013" h="2746">
                <a:moveTo>
                  <a:pt x="8202" y="6515"/>
                </a:moveTo>
                <a:cubicBezTo>
                  <a:pt x="8212" y="6546"/>
                  <a:pt x="8214" y="6578"/>
                  <a:pt x="8235" y="6615"/>
                </a:cubicBezTo>
                <a:cubicBezTo>
                  <a:pt x="8257" y="6655"/>
                  <a:pt x="8278" y="6713"/>
                  <a:pt x="8301" y="6747"/>
                </a:cubicBezTo>
                <a:cubicBezTo>
                  <a:pt x="8312" y="6758"/>
                  <a:pt x="8323" y="6769"/>
                  <a:pt x="8334" y="6780"/>
                </a:cubicBezTo>
                <a:cubicBezTo>
                  <a:pt x="8348" y="6738"/>
                  <a:pt x="8364" y="6705"/>
                  <a:pt x="8401" y="6681"/>
                </a:cubicBezTo>
                <a:cubicBezTo>
                  <a:pt x="8401" y="6520"/>
                  <a:pt x="8380" y="6293"/>
                  <a:pt x="8434" y="6185"/>
                </a:cubicBezTo>
                <a:cubicBezTo>
                  <a:pt x="8453" y="6147"/>
                  <a:pt x="8561" y="6131"/>
                  <a:pt x="8599" y="6118"/>
                </a:cubicBezTo>
                <a:cubicBezTo>
                  <a:pt x="8632" y="6118"/>
                  <a:pt x="8643" y="6118"/>
                  <a:pt x="8632" y="6152"/>
                </a:cubicBezTo>
              </a:path>
              <a:path w="7013" h="2746">
                <a:moveTo>
                  <a:pt x="8698" y="5953"/>
                </a:moveTo>
                <a:cubicBezTo>
                  <a:pt x="8698" y="5892"/>
                  <a:pt x="8695" y="5862"/>
                  <a:pt x="8764" y="5854"/>
                </a:cubicBezTo>
                <a:cubicBezTo>
                  <a:pt x="8818" y="5848"/>
                  <a:pt x="8789" y="5821"/>
                  <a:pt x="8864" y="5821"/>
                </a:cubicBezTo>
                <a:cubicBezTo>
                  <a:pt x="8875" y="5821"/>
                  <a:pt x="8886" y="5821"/>
                  <a:pt x="8897" y="5821"/>
                </a:cubicBezTo>
                <a:cubicBezTo>
                  <a:pt x="8897" y="5930"/>
                  <a:pt x="8891" y="6025"/>
                  <a:pt x="8864" y="6118"/>
                </a:cubicBezTo>
                <a:cubicBezTo>
                  <a:pt x="8853" y="6155"/>
                  <a:pt x="8864" y="6213"/>
                  <a:pt x="8864" y="6251"/>
                </a:cubicBezTo>
                <a:cubicBezTo>
                  <a:pt x="8996" y="6251"/>
                  <a:pt x="9128" y="6251"/>
                  <a:pt x="9260" y="6251"/>
                </a:cubicBezTo>
              </a:path>
              <a:path w="7013" h="2746">
                <a:moveTo>
                  <a:pt x="9591" y="6548"/>
                </a:moveTo>
                <a:cubicBezTo>
                  <a:pt x="9669" y="6548"/>
                  <a:pt x="9717" y="6532"/>
                  <a:pt x="9790" y="6515"/>
                </a:cubicBezTo>
                <a:cubicBezTo>
                  <a:pt x="9801" y="6515"/>
                  <a:pt x="9812" y="6515"/>
                  <a:pt x="9823" y="6515"/>
                </a:cubicBezTo>
              </a:path>
              <a:path w="7013" h="2746">
                <a:moveTo>
                  <a:pt x="9459" y="6879"/>
                </a:moveTo>
                <a:cubicBezTo>
                  <a:pt x="9536" y="6879"/>
                  <a:pt x="9613" y="6879"/>
                  <a:pt x="9690" y="6879"/>
                </a:cubicBezTo>
              </a:path>
              <a:path w="7013" h="2746">
                <a:moveTo>
                  <a:pt x="10683" y="5953"/>
                </a:moveTo>
                <a:cubicBezTo>
                  <a:pt x="10683" y="6081"/>
                  <a:pt x="10700" y="6191"/>
                  <a:pt x="10716" y="6317"/>
                </a:cubicBezTo>
                <a:cubicBezTo>
                  <a:pt x="10727" y="6408"/>
                  <a:pt x="10749" y="6489"/>
                  <a:pt x="10749" y="6582"/>
                </a:cubicBezTo>
                <a:cubicBezTo>
                  <a:pt x="10749" y="6593"/>
                  <a:pt x="10749" y="6604"/>
                  <a:pt x="10749" y="6615"/>
                </a:cubicBezTo>
              </a:path>
              <a:path w="7013" h="2746">
                <a:moveTo>
                  <a:pt x="10484" y="6945"/>
                </a:moveTo>
                <a:cubicBezTo>
                  <a:pt x="10557" y="6945"/>
                  <a:pt x="10612" y="6950"/>
                  <a:pt x="10683" y="6912"/>
                </a:cubicBezTo>
                <a:cubicBezTo>
                  <a:pt x="10747" y="6878"/>
                  <a:pt x="10825" y="6874"/>
                  <a:pt x="10881" y="6846"/>
                </a:cubicBezTo>
                <a:cubicBezTo>
                  <a:pt x="10919" y="6827"/>
                  <a:pt x="10981" y="6801"/>
                  <a:pt x="11013" y="6780"/>
                </a:cubicBezTo>
                <a:cubicBezTo>
                  <a:pt x="11070" y="6742"/>
                  <a:pt x="11110" y="6747"/>
                  <a:pt x="11179" y="6747"/>
                </a:cubicBezTo>
              </a:path>
              <a:path w="7013" h="2746">
                <a:moveTo>
                  <a:pt x="10616" y="7441"/>
                </a:moveTo>
                <a:cubicBezTo>
                  <a:pt x="10633" y="7375"/>
                  <a:pt x="10649" y="7375"/>
                  <a:pt x="10716" y="7375"/>
                </a:cubicBezTo>
                <a:cubicBezTo>
                  <a:pt x="10768" y="7375"/>
                  <a:pt x="10742" y="7342"/>
                  <a:pt x="10815" y="7342"/>
                </a:cubicBezTo>
                <a:cubicBezTo>
                  <a:pt x="10864" y="7342"/>
                  <a:pt x="10863" y="7399"/>
                  <a:pt x="10881" y="7441"/>
                </a:cubicBezTo>
                <a:cubicBezTo>
                  <a:pt x="10914" y="7519"/>
                  <a:pt x="10914" y="7555"/>
                  <a:pt x="10914" y="7640"/>
                </a:cubicBezTo>
                <a:cubicBezTo>
                  <a:pt x="10914" y="7712"/>
                  <a:pt x="10844" y="7774"/>
                  <a:pt x="10782" y="7805"/>
                </a:cubicBezTo>
                <a:cubicBezTo>
                  <a:pt x="10707" y="7842"/>
                  <a:pt x="10648" y="7892"/>
                  <a:pt x="10550" y="7904"/>
                </a:cubicBezTo>
                <a:cubicBezTo>
                  <a:pt x="10472" y="7913"/>
                  <a:pt x="10424" y="7923"/>
                  <a:pt x="10352" y="7938"/>
                </a:cubicBezTo>
                <a:cubicBezTo>
                  <a:pt x="10352" y="7883"/>
                  <a:pt x="10329" y="7812"/>
                  <a:pt x="10385" y="7805"/>
                </a:cubicBezTo>
                <a:cubicBezTo>
                  <a:pt x="10454" y="7796"/>
                  <a:pt x="10517" y="7779"/>
                  <a:pt x="10583" y="7772"/>
                </a:cubicBezTo>
                <a:cubicBezTo>
                  <a:pt x="10646" y="7766"/>
                  <a:pt x="10695" y="7807"/>
                  <a:pt x="10649" y="7739"/>
                </a:cubicBezTo>
              </a:path>
              <a:path w="7013" h="2746">
                <a:moveTo>
                  <a:pt x="10352" y="7309"/>
                </a:moveTo>
                <a:cubicBezTo>
                  <a:pt x="10352" y="7384"/>
                  <a:pt x="10365" y="7413"/>
                  <a:pt x="10385" y="7474"/>
                </a:cubicBezTo>
                <a:cubicBezTo>
                  <a:pt x="10393" y="7500"/>
                  <a:pt x="10385" y="7547"/>
                  <a:pt x="10385" y="7574"/>
                </a:cubicBezTo>
                <a:cubicBezTo>
                  <a:pt x="10563" y="7574"/>
                  <a:pt x="10756" y="7588"/>
                  <a:pt x="10914" y="7541"/>
                </a:cubicBezTo>
                <a:cubicBezTo>
                  <a:pt x="10925" y="7541"/>
                  <a:pt x="10936" y="7541"/>
                  <a:pt x="10947" y="7541"/>
                </a:cubicBezTo>
              </a:path>
              <a:path w="7013" h="2746">
                <a:moveTo>
                  <a:pt x="10782" y="7276"/>
                </a:moveTo>
                <a:cubicBezTo>
                  <a:pt x="10782" y="7447"/>
                  <a:pt x="10783" y="7547"/>
                  <a:pt x="10848" y="7706"/>
                </a:cubicBezTo>
                <a:cubicBezTo>
                  <a:pt x="10925" y="7894"/>
                  <a:pt x="10971" y="8085"/>
                  <a:pt x="11046" y="8268"/>
                </a:cubicBezTo>
                <a:cubicBezTo>
                  <a:pt x="11073" y="8322"/>
                  <a:pt x="11071" y="8344"/>
                  <a:pt x="11113" y="8334"/>
                </a:cubicBezTo>
                <a:cubicBezTo>
                  <a:pt x="11113" y="8206"/>
                  <a:pt x="11110" y="8092"/>
                  <a:pt x="11146" y="7971"/>
                </a:cubicBezTo>
              </a:path>
              <a:path w="7013" h="2746">
                <a:moveTo>
                  <a:pt x="11774" y="6052"/>
                </a:moveTo>
                <a:cubicBezTo>
                  <a:pt x="11774" y="6251"/>
                  <a:pt x="11774" y="6449"/>
                  <a:pt x="11774" y="6648"/>
                </a:cubicBezTo>
              </a:path>
              <a:path w="7013" h="2746">
                <a:moveTo>
                  <a:pt x="11873" y="6185"/>
                </a:moveTo>
                <a:cubicBezTo>
                  <a:pt x="11940" y="6207"/>
                  <a:pt x="11885" y="6246"/>
                  <a:pt x="11906" y="6317"/>
                </a:cubicBezTo>
                <a:cubicBezTo>
                  <a:pt x="11933" y="6409"/>
                  <a:pt x="11960" y="6486"/>
                  <a:pt x="11972" y="6582"/>
                </a:cubicBezTo>
              </a:path>
              <a:path w="7013" h="2746">
                <a:moveTo>
                  <a:pt x="11609" y="6052"/>
                </a:moveTo>
                <a:cubicBezTo>
                  <a:pt x="11680" y="6025"/>
                  <a:pt x="11744" y="6013"/>
                  <a:pt x="11807" y="5986"/>
                </a:cubicBezTo>
                <a:cubicBezTo>
                  <a:pt x="11915" y="5940"/>
                  <a:pt x="12019" y="5953"/>
                  <a:pt x="12138" y="5953"/>
                </a:cubicBezTo>
              </a:path>
              <a:path w="7013" h="2746">
                <a:moveTo>
                  <a:pt x="12468" y="5986"/>
                </a:moveTo>
                <a:cubicBezTo>
                  <a:pt x="12447" y="6070"/>
                  <a:pt x="12417" y="6107"/>
                  <a:pt x="12369" y="6185"/>
                </a:cubicBezTo>
                <a:cubicBezTo>
                  <a:pt x="12316" y="6272"/>
                  <a:pt x="12303" y="6352"/>
                  <a:pt x="12303" y="6449"/>
                </a:cubicBezTo>
                <a:cubicBezTo>
                  <a:pt x="12303" y="6555"/>
                  <a:pt x="12292" y="6658"/>
                  <a:pt x="12336" y="6747"/>
                </a:cubicBezTo>
                <a:cubicBezTo>
                  <a:pt x="12369" y="6812"/>
                  <a:pt x="12356" y="6910"/>
                  <a:pt x="12435" y="6945"/>
                </a:cubicBezTo>
                <a:cubicBezTo>
                  <a:pt x="12468" y="6945"/>
                  <a:pt x="12480" y="6945"/>
                  <a:pt x="12502" y="6945"/>
                </a:cubicBezTo>
              </a:path>
              <a:path w="7013" h="2746">
                <a:moveTo>
                  <a:pt x="12568" y="6350"/>
                </a:moveTo>
                <a:cubicBezTo>
                  <a:pt x="12568" y="6431"/>
                  <a:pt x="12579" y="6482"/>
                  <a:pt x="12601" y="6548"/>
                </a:cubicBezTo>
                <a:cubicBezTo>
                  <a:pt x="12601" y="6559"/>
                  <a:pt x="12601" y="6571"/>
                  <a:pt x="12601" y="6582"/>
                </a:cubicBezTo>
                <a:cubicBezTo>
                  <a:pt x="12744" y="6582"/>
                  <a:pt x="12888" y="6582"/>
                  <a:pt x="13031" y="6582"/>
                </a:cubicBezTo>
              </a:path>
              <a:path w="7013" h="2746">
                <a:moveTo>
                  <a:pt x="12932" y="6317"/>
                </a:moveTo>
                <a:cubicBezTo>
                  <a:pt x="12932" y="6424"/>
                  <a:pt x="12932" y="6883"/>
                  <a:pt x="12932" y="678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Ink 3"/>
          <p:cNvSpPr/>
          <p:nvPr/>
        </p:nvSpPr>
        <p:spPr>
          <a:xfrm>
            <a:off x="571680" y="905040"/>
            <a:ext cx="1214280" cy="1750680"/>
          </a:xfrm>
          <a:custGeom>
            <a:avLst/>
            <a:gdLst/>
            <a:ahLst/>
            <a:rect l="l" t="t" r="r" b="b"/>
            <a:pathLst>
              <a:path w="3374" h="4862">
                <a:moveTo>
                  <a:pt x="2183" y="2514"/>
                </a:moveTo>
                <a:cubicBezTo>
                  <a:pt x="2189" y="2605"/>
                  <a:pt x="2196" y="2690"/>
                  <a:pt x="2216" y="2778"/>
                </a:cubicBezTo>
                <a:cubicBezTo>
                  <a:pt x="2251" y="2935"/>
                  <a:pt x="2286" y="3085"/>
                  <a:pt x="2315" y="3241"/>
                </a:cubicBezTo>
                <a:cubicBezTo>
                  <a:pt x="2349" y="3425"/>
                  <a:pt x="2326" y="3661"/>
                  <a:pt x="2381" y="3836"/>
                </a:cubicBezTo>
                <a:cubicBezTo>
                  <a:pt x="2433" y="4002"/>
                  <a:pt x="2475" y="4120"/>
                  <a:pt x="2480" y="4299"/>
                </a:cubicBezTo>
                <a:cubicBezTo>
                  <a:pt x="2485" y="4467"/>
                  <a:pt x="2509" y="4627"/>
                  <a:pt x="2514" y="4796"/>
                </a:cubicBezTo>
                <a:cubicBezTo>
                  <a:pt x="2539" y="5615"/>
                  <a:pt x="2514" y="6635"/>
                  <a:pt x="2514" y="7342"/>
                </a:cubicBezTo>
                <a:cubicBezTo>
                  <a:pt x="2514" y="7187"/>
                  <a:pt x="2506" y="7065"/>
                  <a:pt x="2480" y="6912"/>
                </a:cubicBezTo>
              </a:path>
              <a:path w="3374" h="4862">
                <a:moveTo>
                  <a:pt x="1588" y="4498"/>
                </a:moveTo>
                <a:cubicBezTo>
                  <a:pt x="1675" y="4533"/>
                  <a:pt x="1755" y="4562"/>
                  <a:pt x="1852" y="4564"/>
                </a:cubicBezTo>
                <a:cubicBezTo>
                  <a:pt x="2596" y="4583"/>
                  <a:pt x="3326" y="4551"/>
                  <a:pt x="4068" y="4630"/>
                </a:cubicBezTo>
                <a:cubicBezTo>
                  <a:pt x="4345" y="4660"/>
                  <a:pt x="4616" y="4663"/>
                  <a:pt x="4895" y="4663"/>
                </a:cubicBezTo>
                <a:cubicBezTo>
                  <a:pt x="4917" y="4663"/>
                  <a:pt x="4939" y="4663"/>
                  <a:pt x="4961" y="4663"/>
                </a:cubicBezTo>
              </a:path>
              <a:path w="3374" h="4862">
                <a:moveTo>
                  <a:pt x="2580" y="7342"/>
                </a:moveTo>
                <a:cubicBezTo>
                  <a:pt x="2766" y="7342"/>
                  <a:pt x="2978" y="7364"/>
                  <a:pt x="3142" y="7309"/>
                </a:cubicBezTo>
                <a:cubicBezTo>
                  <a:pt x="3191" y="7293"/>
                  <a:pt x="3268" y="7271"/>
                  <a:pt x="3307" y="7243"/>
                </a:cubicBezTo>
                <a:cubicBezTo>
                  <a:pt x="3369" y="7197"/>
                  <a:pt x="3416" y="7164"/>
                  <a:pt x="3473" y="7111"/>
                </a:cubicBezTo>
                <a:cubicBezTo>
                  <a:pt x="3512" y="7075"/>
                  <a:pt x="3586" y="7023"/>
                  <a:pt x="3638" y="6978"/>
                </a:cubicBezTo>
                <a:cubicBezTo>
                  <a:pt x="3711" y="6915"/>
                  <a:pt x="3799" y="6866"/>
                  <a:pt x="3870" y="6780"/>
                </a:cubicBezTo>
                <a:cubicBezTo>
                  <a:pt x="3921" y="6719"/>
                  <a:pt x="3951" y="6642"/>
                  <a:pt x="4002" y="6582"/>
                </a:cubicBezTo>
                <a:cubicBezTo>
                  <a:pt x="4040" y="6537"/>
                  <a:pt x="4126" y="6498"/>
                  <a:pt x="4167" y="6416"/>
                </a:cubicBezTo>
                <a:cubicBezTo>
                  <a:pt x="4205" y="6378"/>
                  <a:pt x="4216" y="6361"/>
                  <a:pt x="4200" y="6317"/>
                </a:cubicBezTo>
                <a:cubicBezTo>
                  <a:pt x="4244" y="6273"/>
                  <a:pt x="4295" y="6253"/>
                  <a:pt x="4333" y="6185"/>
                </a:cubicBezTo>
                <a:cubicBezTo>
                  <a:pt x="4360" y="6136"/>
                  <a:pt x="4405" y="6103"/>
                  <a:pt x="4432" y="6052"/>
                </a:cubicBezTo>
                <a:cubicBezTo>
                  <a:pt x="4432" y="6041"/>
                  <a:pt x="4432" y="6030"/>
                  <a:pt x="4432" y="6019"/>
                </a:cubicBezTo>
                <a:cubicBezTo>
                  <a:pt x="4453" y="5989"/>
                  <a:pt x="4475" y="5931"/>
                  <a:pt x="4498" y="5887"/>
                </a:cubicBezTo>
                <a:cubicBezTo>
                  <a:pt x="4532" y="5821"/>
                  <a:pt x="4535" y="5743"/>
                  <a:pt x="4564" y="5689"/>
                </a:cubicBezTo>
                <a:cubicBezTo>
                  <a:pt x="4589" y="5643"/>
                  <a:pt x="4609" y="5596"/>
                  <a:pt x="4630" y="5556"/>
                </a:cubicBezTo>
                <a:cubicBezTo>
                  <a:pt x="4664" y="5492"/>
                  <a:pt x="4700" y="5422"/>
                  <a:pt x="4729" y="5358"/>
                </a:cubicBezTo>
                <a:cubicBezTo>
                  <a:pt x="4756" y="5299"/>
                  <a:pt x="4774" y="5255"/>
                  <a:pt x="4796" y="5192"/>
                </a:cubicBezTo>
                <a:cubicBezTo>
                  <a:pt x="4810" y="5153"/>
                  <a:pt x="4857" y="5062"/>
                  <a:pt x="4862" y="5027"/>
                </a:cubicBezTo>
                <a:cubicBezTo>
                  <a:pt x="4871" y="4963"/>
                  <a:pt x="4858" y="4894"/>
                  <a:pt x="4862" y="4829"/>
                </a:cubicBezTo>
                <a:cubicBezTo>
                  <a:pt x="4870" y="4817"/>
                  <a:pt x="4920" y="4775"/>
                  <a:pt x="4928" y="4763"/>
                </a:cubicBezTo>
              </a:path>
              <a:path w="3374" h="4862">
                <a:moveTo>
                  <a:pt x="2844" y="4002"/>
                </a:moveTo>
                <a:cubicBezTo>
                  <a:pt x="2844" y="4080"/>
                  <a:pt x="2857" y="4107"/>
                  <a:pt x="2877" y="4167"/>
                </a:cubicBezTo>
                <a:cubicBezTo>
                  <a:pt x="2890" y="4207"/>
                  <a:pt x="2906" y="4260"/>
                  <a:pt x="2910" y="4299"/>
                </a:cubicBezTo>
                <a:cubicBezTo>
                  <a:pt x="2915" y="4343"/>
                  <a:pt x="2908" y="4372"/>
                  <a:pt x="2943" y="4399"/>
                </a:cubicBezTo>
                <a:cubicBezTo>
                  <a:pt x="2954" y="4399"/>
                  <a:pt x="2966" y="4399"/>
                  <a:pt x="2977" y="4399"/>
                </a:cubicBezTo>
                <a:cubicBezTo>
                  <a:pt x="2977" y="4305"/>
                  <a:pt x="2988" y="4219"/>
                  <a:pt x="3010" y="4167"/>
                </a:cubicBezTo>
                <a:cubicBezTo>
                  <a:pt x="3026" y="4129"/>
                  <a:pt x="3069" y="4081"/>
                  <a:pt x="3076" y="4068"/>
                </a:cubicBezTo>
                <a:cubicBezTo>
                  <a:pt x="3099" y="4022"/>
                  <a:pt x="3111" y="4035"/>
                  <a:pt x="3175" y="4035"/>
                </a:cubicBezTo>
                <a:cubicBezTo>
                  <a:pt x="3208" y="4035"/>
                  <a:pt x="3241" y="4035"/>
                  <a:pt x="3274" y="4035"/>
                </a:cubicBezTo>
              </a:path>
              <a:path w="3374" h="4862">
                <a:moveTo>
                  <a:pt x="3373" y="4167"/>
                </a:moveTo>
                <a:cubicBezTo>
                  <a:pt x="3492" y="4167"/>
                  <a:pt x="3592" y="4180"/>
                  <a:pt x="3704" y="4200"/>
                </a:cubicBezTo>
                <a:cubicBezTo>
                  <a:pt x="3780" y="4213"/>
                  <a:pt x="3881" y="4200"/>
                  <a:pt x="3903" y="4266"/>
                </a:cubicBezTo>
              </a:path>
              <a:path w="3374" h="4862">
                <a:moveTo>
                  <a:pt x="3671" y="4432"/>
                </a:moveTo>
                <a:cubicBezTo>
                  <a:pt x="3759" y="4432"/>
                  <a:pt x="3848" y="4432"/>
                  <a:pt x="3936" y="4432"/>
                </a:cubicBezTo>
              </a:path>
              <a:path w="3374" h="4862">
                <a:moveTo>
                  <a:pt x="4035" y="4101"/>
                </a:moveTo>
                <a:cubicBezTo>
                  <a:pt x="4096" y="4101"/>
                  <a:pt x="4113" y="4074"/>
                  <a:pt x="4167" y="4068"/>
                </a:cubicBezTo>
                <a:cubicBezTo>
                  <a:pt x="4200" y="4068"/>
                  <a:pt x="4211" y="4068"/>
                  <a:pt x="4233" y="4068"/>
                </a:cubicBezTo>
                <a:cubicBezTo>
                  <a:pt x="4233" y="4178"/>
                  <a:pt x="4233" y="4289"/>
                  <a:pt x="4233" y="4399"/>
                </a:cubicBezTo>
                <a:cubicBezTo>
                  <a:pt x="4277" y="4399"/>
                  <a:pt x="4322" y="4399"/>
                  <a:pt x="4366" y="439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Ink 4"/>
          <p:cNvSpPr/>
          <p:nvPr/>
        </p:nvSpPr>
        <p:spPr>
          <a:xfrm>
            <a:off x="4691160" y="2154240"/>
            <a:ext cx="785880" cy="393840"/>
          </a:xfrm>
          <a:custGeom>
            <a:avLst/>
            <a:gdLst/>
            <a:ahLst/>
            <a:rect l="l" t="t" r="r" b="b"/>
            <a:pathLst>
              <a:path w="2184" h="1093">
                <a:moveTo>
                  <a:pt x="13031" y="5986"/>
                </a:moveTo>
                <a:cubicBezTo>
                  <a:pt x="13112" y="6006"/>
                  <a:pt x="13111" y="6021"/>
                  <a:pt x="13163" y="6085"/>
                </a:cubicBezTo>
                <a:cubicBezTo>
                  <a:pt x="13201" y="6123"/>
                  <a:pt x="13212" y="6141"/>
                  <a:pt x="13196" y="6185"/>
                </a:cubicBezTo>
                <a:cubicBezTo>
                  <a:pt x="13284" y="6207"/>
                  <a:pt x="13230" y="6227"/>
                  <a:pt x="13262" y="6284"/>
                </a:cubicBezTo>
                <a:cubicBezTo>
                  <a:pt x="13302" y="6355"/>
                  <a:pt x="13272" y="6401"/>
                  <a:pt x="13295" y="6482"/>
                </a:cubicBezTo>
                <a:cubicBezTo>
                  <a:pt x="13318" y="6565"/>
                  <a:pt x="13357" y="6653"/>
                  <a:pt x="13328" y="6747"/>
                </a:cubicBezTo>
                <a:cubicBezTo>
                  <a:pt x="13309" y="6807"/>
                  <a:pt x="13295" y="6834"/>
                  <a:pt x="13295" y="6912"/>
                </a:cubicBezTo>
                <a:cubicBezTo>
                  <a:pt x="13245" y="6929"/>
                  <a:pt x="13262" y="6952"/>
                  <a:pt x="13262" y="7011"/>
                </a:cubicBezTo>
                <a:cubicBezTo>
                  <a:pt x="13262" y="7045"/>
                  <a:pt x="13262" y="7056"/>
                  <a:pt x="13262" y="7078"/>
                </a:cubicBezTo>
              </a:path>
              <a:path w="2184" h="1093">
                <a:moveTo>
                  <a:pt x="13593" y="6383"/>
                </a:moveTo>
                <a:cubicBezTo>
                  <a:pt x="13736" y="6383"/>
                  <a:pt x="13880" y="6383"/>
                  <a:pt x="14023" y="6383"/>
                </a:cubicBezTo>
              </a:path>
              <a:path w="2184" h="1093">
                <a:moveTo>
                  <a:pt x="13626" y="6780"/>
                </a:moveTo>
                <a:cubicBezTo>
                  <a:pt x="13659" y="6780"/>
                  <a:pt x="13670" y="6780"/>
                  <a:pt x="13692" y="6780"/>
                </a:cubicBezTo>
                <a:cubicBezTo>
                  <a:pt x="13709" y="6730"/>
                  <a:pt x="13732" y="6747"/>
                  <a:pt x="13791" y="6747"/>
                </a:cubicBezTo>
                <a:cubicBezTo>
                  <a:pt x="13879" y="6747"/>
                  <a:pt x="13887" y="6704"/>
                  <a:pt x="13957" y="6681"/>
                </a:cubicBezTo>
                <a:cubicBezTo>
                  <a:pt x="13990" y="6681"/>
                  <a:pt x="14001" y="6681"/>
                  <a:pt x="14023" y="6681"/>
                </a:cubicBezTo>
              </a:path>
              <a:path w="2184" h="1093">
                <a:moveTo>
                  <a:pt x="14585" y="6185"/>
                </a:moveTo>
                <a:cubicBezTo>
                  <a:pt x="14585" y="6350"/>
                  <a:pt x="14585" y="6516"/>
                  <a:pt x="14585" y="6681"/>
                </a:cubicBezTo>
                <a:cubicBezTo>
                  <a:pt x="14618" y="6681"/>
                  <a:pt x="14629" y="6681"/>
                  <a:pt x="14618" y="6714"/>
                </a:cubicBezTo>
              </a:path>
              <a:path w="2184" h="1093">
                <a:moveTo>
                  <a:pt x="14850" y="6317"/>
                </a:moveTo>
                <a:cubicBezTo>
                  <a:pt x="14850" y="6391"/>
                  <a:pt x="14876" y="6362"/>
                  <a:pt x="14883" y="6416"/>
                </a:cubicBezTo>
                <a:cubicBezTo>
                  <a:pt x="14892" y="6491"/>
                  <a:pt x="14916" y="6558"/>
                  <a:pt x="14916" y="6648"/>
                </a:cubicBezTo>
                <a:cubicBezTo>
                  <a:pt x="14916" y="6736"/>
                  <a:pt x="14916" y="6824"/>
                  <a:pt x="14916" y="6912"/>
                </a:cubicBezTo>
                <a:cubicBezTo>
                  <a:pt x="14916" y="6835"/>
                  <a:pt x="14916" y="6758"/>
                  <a:pt x="14916" y="6681"/>
                </a:cubicBezTo>
              </a:path>
              <a:path w="2184" h="1093">
                <a:moveTo>
                  <a:pt x="14387" y="6416"/>
                </a:moveTo>
                <a:cubicBezTo>
                  <a:pt x="14387" y="6383"/>
                  <a:pt x="14387" y="6350"/>
                  <a:pt x="14387" y="6317"/>
                </a:cubicBezTo>
                <a:cubicBezTo>
                  <a:pt x="14430" y="6296"/>
                  <a:pt x="14475" y="6247"/>
                  <a:pt x="14519" y="6218"/>
                </a:cubicBezTo>
                <a:cubicBezTo>
                  <a:pt x="14583" y="6175"/>
                  <a:pt x="14602" y="6139"/>
                  <a:pt x="14684" y="6118"/>
                </a:cubicBezTo>
                <a:cubicBezTo>
                  <a:pt x="14759" y="6099"/>
                  <a:pt x="14868" y="6118"/>
                  <a:pt x="14949" y="6118"/>
                </a:cubicBezTo>
                <a:cubicBezTo>
                  <a:pt x="14966" y="6169"/>
                  <a:pt x="14988" y="6152"/>
                  <a:pt x="15048" y="6152"/>
                </a:cubicBezTo>
                <a:cubicBezTo>
                  <a:pt x="15097" y="6152"/>
                  <a:pt x="15186" y="6173"/>
                  <a:pt x="15214" y="6118"/>
                </a:cubicBezTo>
                <a:cubicBezTo>
                  <a:pt x="15214" y="6107"/>
                  <a:pt x="15214" y="6096"/>
                  <a:pt x="15214" y="608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Ink 5"/>
          <p:cNvSpPr/>
          <p:nvPr/>
        </p:nvSpPr>
        <p:spPr>
          <a:xfrm>
            <a:off x="1727280" y="1487520"/>
            <a:ext cx="296640" cy="239760"/>
          </a:xfrm>
          <a:custGeom>
            <a:avLst/>
            <a:gdLst/>
            <a:ahLst/>
            <a:rect l="l" t="t" r="r" b="b"/>
            <a:pathLst>
              <a:path w="827" h="663">
                <a:moveTo>
                  <a:pt x="4796" y="4233"/>
                </a:moveTo>
                <a:cubicBezTo>
                  <a:pt x="4878" y="4233"/>
                  <a:pt x="4916" y="4219"/>
                  <a:pt x="4994" y="4200"/>
                </a:cubicBezTo>
                <a:cubicBezTo>
                  <a:pt x="5062" y="4183"/>
                  <a:pt x="5133" y="4152"/>
                  <a:pt x="5192" y="4134"/>
                </a:cubicBezTo>
                <a:cubicBezTo>
                  <a:pt x="5219" y="4126"/>
                  <a:pt x="5264" y="4134"/>
                  <a:pt x="5292" y="4134"/>
                </a:cubicBezTo>
                <a:cubicBezTo>
                  <a:pt x="5304" y="4193"/>
                  <a:pt x="5325" y="4237"/>
                  <a:pt x="5325" y="4299"/>
                </a:cubicBezTo>
                <a:cubicBezTo>
                  <a:pt x="5325" y="4374"/>
                  <a:pt x="5312" y="4404"/>
                  <a:pt x="5292" y="4465"/>
                </a:cubicBezTo>
                <a:cubicBezTo>
                  <a:pt x="5284" y="4490"/>
                  <a:pt x="5292" y="4537"/>
                  <a:pt x="5292" y="4564"/>
                </a:cubicBezTo>
                <a:cubicBezTo>
                  <a:pt x="5221" y="4588"/>
                  <a:pt x="5291" y="4606"/>
                  <a:pt x="5259" y="4663"/>
                </a:cubicBezTo>
                <a:cubicBezTo>
                  <a:pt x="5230" y="4715"/>
                  <a:pt x="5226" y="4701"/>
                  <a:pt x="5226" y="4763"/>
                </a:cubicBezTo>
                <a:cubicBezTo>
                  <a:pt x="5334" y="4763"/>
                  <a:pt x="5578" y="4730"/>
                  <a:pt x="5622" y="479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Ink 6"/>
          <p:cNvSpPr/>
          <p:nvPr/>
        </p:nvSpPr>
        <p:spPr>
          <a:xfrm>
            <a:off x="357120" y="2774880"/>
            <a:ext cx="5513400" cy="4059360"/>
          </a:xfrm>
          <a:custGeom>
            <a:avLst/>
            <a:gdLst/>
            <a:ahLst/>
            <a:rect l="l" t="t" r="r" b="b"/>
            <a:pathLst>
              <a:path w="15314" h="11279">
                <a:moveTo>
                  <a:pt x="2778" y="7739"/>
                </a:moveTo>
                <a:cubicBezTo>
                  <a:pt x="2745" y="7739"/>
                  <a:pt x="2734" y="7739"/>
                  <a:pt x="2745" y="7706"/>
                </a:cubicBezTo>
              </a:path>
              <a:path w="15314" h="11279">
                <a:moveTo>
                  <a:pt x="1356" y="12402"/>
                </a:moveTo>
                <a:cubicBezTo>
                  <a:pt x="1376" y="12355"/>
                  <a:pt x="1444" y="12299"/>
                  <a:pt x="1455" y="12270"/>
                </a:cubicBezTo>
                <a:cubicBezTo>
                  <a:pt x="1477" y="12213"/>
                  <a:pt x="1453" y="12157"/>
                  <a:pt x="1488" y="12105"/>
                </a:cubicBezTo>
                <a:cubicBezTo>
                  <a:pt x="1508" y="12076"/>
                  <a:pt x="1529" y="12044"/>
                  <a:pt x="1554" y="12005"/>
                </a:cubicBezTo>
                <a:cubicBezTo>
                  <a:pt x="1573" y="11976"/>
                  <a:pt x="1564" y="11938"/>
                  <a:pt x="1588" y="11906"/>
                </a:cubicBezTo>
                <a:cubicBezTo>
                  <a:pt x="1623" y="11859"/>
                  <a:pt x="1686" y="11817"/>
                  <a:pt x="1720" y="11774"/>
                </a:cubicBezTo>
                <a:cubicBezTo>
                  <a:pt x="1759" y="11724"/>
                  <a:pt x="1785" y="11691"/>
                  <a:pt x="1819" y="11642"/>
                </a:cubicBezTo>
                <a:cubicBezTo>
                  <a:pt x="1864" y="11577"/>
                  <a:pt x="1908" y="11508"/>
                  <a:pt x="1951" y="11443"/>
                </a:cubicBezTo>
                <a:cubicBezTo>
                  <a:pt x="1984" y="11393"/>
                  <a:pt x="2021" y="11319"/>
                  <a:pt x="2051" y="11278"/>
                </a:cubicBezTo>
                <a:cubicBezTo>
                  <a:pt x="2084" y="11233"/>
                  <a:pt x="2140" y="11197"/>
                  <a:pt x="2183" y="11146"/>
                </a:cubicBezTo>
                <a:cubicBezTo>
                  <a:pt x="2224" y="11098"/>
                  <a:pt x="2238" y="11042"/>
                  <a:pt x="2282" y="10980"/>
                </a:cubicBezTo>
                <a:cubicBezTo>
                  <a:pt x="2293" y="10964"/>
                  <a:pt x="2360" y="10874"/>
                  <a:pt x="2381" y="10848"/>
                </a:cubicBezTo>
                <a:cubicBezTo>
                  <a:pt x="2423" y="10797"/>
                  <a:pt x="2481" y="10722"/>
                  <a:pt x="2514" y="10683"/>
                </a:cubicBezTo>
                <a:cubicBezTo>
                  <a:pt x="2571" y="10617"/>
                  <a:pt x="2634" y="10545"/>
                  <a:pt x="2679" y="10484"/>
                </a:cubicBezTo>
                <a:cubicBezTo>
                  <a:pt x="2734" y="10411"/>
                  <a:pt x="2798" y="10347"/>
                  <a:pt x="2844" y="10286"/>
                </a:cubicBezTo>
                <a:cubicBezTo>
                  <a:pt x="2898" y="10215"/>
                  <a:pt x="2966" y="10131"/>
                  <a:pt x="3010" y="10054"/>
                </a:cubicBezTo>
                <a:cubicBezTo>
                  <a:pt x="3039" y="10003"/>
                  <a:pt x="3064" y="9941"/>
                  <a:pt x="3109" y="9889"/>
                </a:cubicBezTo>
                <a:cubicBezTo>
                  <a:pt x="3137" y="9856"/>
                  <a:pt x="3193" y="9779"/>
                  <a:pt x="3241" y="9790"/>
                </a:cubicBezTo>
                <a:cubicBezTo>
                  <a:pt x="3265" y="9795"/>
                  <a:pt x="3316" y="9898"/>
                  <a:pt x="3340" y="9922"/>
                </a:cubicBezTo>
                <a:cubicBezTo>
                  <a:pt x="3391" y="9972"/>
                  <a:pt x="3405" y="10046"/>
                  <a:pt x="3440" y="10087"/>
                </a:cubicBezTo>
                <a:cubicBezTo>
                  <a:pt x="3484" y="10138"/>
                  <a:pt x="3574" y="10199"/>
                  <a:pt x="3605" y="10253"/>
                </a:cubicBezTo>
                <a:cubicBezTo>
                  <a:pt x="3645" y="10322"/>
                  <a:pt x="3681" y="10405"/>
                  <a:pt x="3737" y="10484"/>
                </a:cubicBezTo>
                <a:cubicBezTo>
                  <a:pt x="3783" y="10549"/>
                  <a:pt x="3834" y="10634"/>
                  <a:pt x="3870" y="10683"/>
                </a:cubicBezTo>
                <a:cubicBezTo>
                  <a:pt x="3881" y="10698"/>
                  <a:pt x="3916" y="10754"/>
                  <a:pt x="3936" y="10782"/>
                </a:cubicBezTo>
                <a:cubicBezTo>
                  <a:pt x="3982" y="10845"/>
                  <a:pt x="4018" y="10879"/>
                  <a:pt x="4068" y="10947"/>
                </a:cubicBezTo>
                <a:cubicBezTo>
                  <a:pt x="4101" y="10992"/>
                  <a:pt x="4134" y="11029"/>
                  <a:pt x="4167" y="11079"/>
                </a:cubicBezTo>
                <a:cubicBezTo>
                  <a:pt x="4204" y="11134"/>
                  <a:pt x="4255" y="11160"/>
                  <a:pt x="4299" y="11212"/>
                </a:cubicBezTo>
                <a:cubicBezTo>
                  <a:pt x="4323" y="11240"/>
                  <a:pt x="4311" y="11285"/>
                  <a:pt x="4333" y="11311"/>
                </a:cubicBezTo>
                <a:cubicBezTo>
                  <a:pt x="4350" y="11331"/>
                  <a:pt x="4404" y="11366"/>
                  <a:pt x="4432" y="11410"/>
                </a:cubicBezTo>
                <a:cubicBezTo>
                  <a:pt x="4450" y="11437"/>
                  <a:pt x="4442" y="11480"/>
                  <a:pt x="4465" y="11509"/>
                </a:cubicBezTo>
                <a:cubicBezTo>
                  <a:pt x="4485" y="11535"/>
                  <a:pt x="4576" y="11573"/>
                  <a:pt x="4597" y="11609"/>
                </a:cubicBezTo>
                <a:cubicBezTo>
                  <a:pt x="4624" y="11658"/>
                  <a:pt x="4632" y="11725"/>
                  <a:pt x="4663" y="11774"/>
                </a:cubicBezTo>
                <a:cubicBezTo>
                  <a:pt x="4705" y="11841"/>
                  <a:pt x="4757" y="11905"/>
                  <a:pt x="4796" y="11972"/>
                </a:cubicBezTo>
                <a:cubicBezTo>
                  <a:pt x="4811" y="11998"/>
                  <a:pt x="4844" y="12039"/>
                  <a:pt x="4862" y="12072"/>
                </a:cubicBezTo>
                <a:cubicBezTo>
                  <a:pt x="4889" y="12121"/>
                  <a:pt x="4932" y="12161"/>
                  <a:pt x="4961" y="12204"/>
                </a:cubicBezTo>
                <a:cubicBezTo>
                  <a:pt x="4993" y="12252"/>
                  <a:pt x="4987" y="12249"/>
                  <a:pt x="5027" y="12303"/>
                </a:cubicBezTo>
                <a:cubicBezTo>
                  <a:pt x="5066" y="12355"/>
                  <a:pt x="5103" y="12401"/>
                  <a:pt x="5126" y="12435"/>
                </a:cubicBezTo>
                <a:cubicBezTo>
                  <a:pt x="5126" y="12402"/>
                  <a:pt x="5126" y="12391"/>
                  <a:pt x="5093" y="12402"/>
                </a:cubicBezTo>
              </a:path>
              <a:path w="15314" h="11279">
                <a:moveTo>
                  <a:pt x="1422" y="12402"/>
                </a:moveTo>
                <a:cubicBezTo>
                  <a:pt x="1559" y="12402"/>
                  <a:pt x="1731" y="12417"/>
                  <a:pt x="1819" y="12435"/>
                </a:cubicBezTo>
                <a:cubicBezTo>
                  <a:pt x="2009" y="12473"/>
                  <a:pt x="2234" y="12425"/>
                  <a:pt x="2414" y="12402"/>
                </a:cubicBezTo>
                <a:cubicBezTo>
                  <a:pt x="2763" y="12357"/>
                  <a:pt x="3179" y="12401"/>
                  <a:pt x="3506" y="12435"/>
                </a:cubicBezTo>
                <a:cubicBezTo>
                  <a:pt x="3683" y="12453"/>
                  <a:pt x="3874" y="12441"/>
                  <a:pt x="4035" y="12468"/>
                </a:cubicBezTo>
                <a:cubicBezTo>
                  <a:pt x="4110" y="12481"/>
                  <a:pt x="4191" y="12493"/>
                  <a:pt x="4266" y="12502"/>
                </a:cubicBezTo>
                <a:cubicBezTo>
                  <a:pt x="4351" y="12512"/>
                  <a:pt x="4432" y="12509"/>
                  <a:pt x="4498" y="12468"/>
                </a:cubicBezTo>
                <a:cubicBezTo>
                  <a:pt x="4541" y="12441"/>
                  <a:pt x="4563" y="12455"/>
                  <a:pt x="4630" y="12435"/>
                </a:cubicBezTo>
                <a:cubicBezTo>
                  <a:pt x="4674" y="12422"/>
                  <a:pt x="4717" y="12417"/>
                  <a:pt x="4763" y="12402"/>
                </a:cubicBezTo>
                <a:cubicBezTo>
                  <a:pt x="4793" y="12372"/>
                  <a:pt x="4799" y="12361"/>
                  <a:pt x="4829" y="12369"/>
                </a:cubicBezTo>
              </a:path>
              <a:path w="15314" h="11279">
                <a:moveTo>
                  <a:pt x="992" y="12700"/>
                </a:moveTo>
                <a:cubicBezTo>
                  <a:pt x="1060" y="12700"/>
                  <a:pt x="1063" y="12681"/>
                  <a:pt x="1091" y="12667"/>
                </a:cubicBezTo>
                <a:cubicBezTo>
                  <a:pt x="1111" y="12657"/>
                  <a:pt x="1168" y="12667"/>
                  <a:pt x="1191" y="12667"/>
                </a:cubicBezTo>
                <a:cubicBezTo>
                  <a:pt x="1191" y="12803"/>
                  <a:pt x="1182" y="12783"/>
                  <a:pt x="1124" y="12898"/>
                </a:cubicBezTo>
                <a:cubicBezTo>
                  <a:pt x="1104" y="12938"/>
                  <a:pt x="1100" y="12951"/>
                  <a:pt x="1058" y="12998"/>
                </a:cubicBezTo>
                <a:cubicBezTo>
                  <a:pt x="1033" y="13026"/>
                  <a:pt x="987" y="13108"/>
                  <a:pt x="1058" y="13130"/>
                </a:cubicBezTo>
                <a:cubicBezTo>
                  <a:pt x="1161" y="13162"/>
                  <a:pt x="1311" y="13130"/>
                  <a:pt x="1422" y="13130"/>
                </a:cubicBezTo>
              </a:path>
              <a:path w="15314" h="11279">
                <a:moveTo>
                  <a:pt x="4994" y="12733"/>
                </a:moveTo>
                <a:cubicBezTo>
                  <a:pt x="4994" y="12800"/>
                  <a:pt x="4979" y="12811"/>
                  <a:pt x="4961" y="12865"/>
                </a:cubicBezTo>
                <a:cubicBezTo>
                  <a:pt x="4943" y="12919"/>
                  <a:pt x="4938" y="13016"/>
                  <a:pt x="4928" y="13064"/>
                </a:cubicBezTo>
                <a:cubicBezTo>
                  <a:pt x="4907" y="13163"/>
                  <a:pt x="4925" y="13311"/>
                  <a:pt x="4961" y="13361"/>
                </a:cubicBezTo>
                <a:cubicBezTo>
                  <a:pt x="5018" y="13440"/>
                  <a:pt x="5000" y="13428"/>
                  <a:pt x="5093" y="13428"/>
                </a:cubicBezTo>
                <a:cubicBezTo>
                  <a:pt x="5150" y="13428"/>
                  <a:pt x="5172" y="13421"/>
                  <a:pt x="5192" y="13361"/>
                </a:cubicBezTo>
                <a:cubicBezTo>
                  <a:pt x="5209" y="13310"/>
                  <a:pt x="5226" y="13334"/>
                  <a:pt x="5226" y="13262"/>
                </a:cubicBezTo>
                <a:cubicBezTo>
                  <a:pt x="5226" y="13183"/>
                  <a:pt x="5208" y="13133"/>
                  <a:pt x="5192" y="13097"/>
                </a:cubicBezTo>
                <a:cubicBezTo>
                  <a:pt x="5165" y="13036"/>
                  <a:pt x="5167" y="13031"/>
                  <a:pt x="5093" y="13031"/>
                </a:cubicBezTo>
                <a:cubicBezTo>
                  <a:pt x="5010" y="13031"/>
                  <a:pt x="4826" y="12992"/>
                  <a:pt x="4763" y="13064"/>
                </a:cubicBezTo>
                <a:cubicBezTo>
                  <a:pt x="4741" y="13089"/>
                  <a:pt x="4708" y="13114"/>
                  <a:pt x="4696" y="13163"/>
                </a:cubicBezTo>
              </a:path>
              <a:path w="15314" h="11279">
                <a:moveTo>
                  <a:pt x="2943" y="11741"/>
                </a:moveTo>
                <a:lnTo>
                  <a:pt x="2943" y="11741"/>
                </a:lnTo>
              </a:path>
              <a:path w="15314" h="11279">
                <a:moveTo>
                  <a:pt x="2547" y="12468"/>
                </a:moveTo>
                <a:cubicBezTo>
                  <a:pt x="2547" y="12545"/>
                  <a:pt x="2547" y="12623"/>
                  <a:pt x="2547" y="12700"/>
                </a:cubicBezTo>
                <a:cubicBezTo>
                  <a:pt x="2631" y="12700"/>
                  <a:pt x="2676" y="12690"/>
                  <a:pt x="2745" y="12667"/>
                </a:cubicBezTo>
                <a:cubicBezTo>
                  <a:pt x="2778" y="12667"/>
                  <a:pt x="2789" y="12667"/>
                  <a:pt x="2778" y="12634"/>
                </a:cubicBezTo>
              </a:path>
              <a:path w="15314" h="11279">
                <a:moveTo>
                  <a:pt x="2778" y="12402"/>
                </a:moveTo>
                <a:cubicBezTo>
                  <a:pt x="2778" y="12530"/>
                  <a:pt x="2772" y="12688"/>
                  <a:pt x="2811" y="12766"/>
                </a:cubicBezTo>
                <a:cubicBezTo>
                  <a:pt x="2848" y="12839"/>
                  <a:pt x="2804" y="12947"/>
                  <a:pt x="2844" y="13031"/>
                </a:cubicBezTo>
                <a:cubicBezTo>
                  <a:pt x="2871" y="13085"/>
                  <a:pt x="2868" y="13107"/>
                  <a:pt x="2910" y="13097"/>
                </a:cubicBezTo>
                <a:cubicBezTo>
                  <a:pt x="2998" y="13031"/>
                  <a:pt x="3059" y="12818"/>
                  <a:pt x="3109" y="12700"/>
                </a:cubicBezTo>
              </a:path>
              <a:path w="15314" h="11279">
                <a:moveTo>
                  <a:pt x="3274" y="9955"/>
                </a:moveTo>
                <a:cubicBezTo>
                  <a:pt x="3274" y="10243"/>
                  <a:pt x="3261" y="10538"/>
                  <a:pt x="3307" y="10815"/>
                </a:cubicBezTo>
                <a:cubicBezTo>
                  <a:pt x="3401" y="11381"/>
                  <a:pt x="3307" y="13042"/>
                  <a:pt x="3307" y="12468"/>
                </a:cubicBezTo>
                <a:cubicBezTo>
                  <a:pt x="3307" y="12457"/>
                  <a:pt x="3307" y="12446"/>
                  <a:pt x="3307" y="12435"/>
                </a:cubicBezTo>
              </a:path>
              <a:path w="15314" h="11279">
                <a:moveTo>
                  <a:pt x="2877" y="11576"/>
                </a:moveTo>
                <a:cubicBezTo>
                  <a:pt x="2921" y="11576"/>
                  <a:pt x="2966" y="11576"/>
                  <a:pt x="3010" y="11576"/>
                </a:cubicBezTo>
                <a:cubicBezTo>
                  <a:pt x="3027" y="11626"/>
                  <a:pt x="3043" y="11604"/>
                  <a:pt x="3043" y="11675"/>
                </a:cubicBezTo>
                <a:cubicBezTo>
                  <a:pt x="3043" y="11768"/>
                  <a:pt x="3036" y="11829"/>
                  <a:pt x="3010" y="11906"/>
                </a:cubicBezTo>
                <a:cubicBezTo>
                  <a:pt x="3010" y="11939"/>
                  <a:pt x="3010" y="11950"/>
                  <a:pt x="3010" y="11972"/>
                </a:cubicBezTo>
                <a:cubicBezTo>
                  <a:pt x="2938" y="11996"/>
                  <a:pt x="2993" y="12005"/>
                  <a:pt x="3043" y="12005"/>
                </a:cubicBezTo>
                <a:cubicBezTo>
                  <a:pt x="3113" y="12005"/>
                  <a:pt x="3173" y="11983"/>
                  <a:pt x="3241" y="11972"/>
                </a:cubicBezTo>
              </a:path>
              <a:path w="15314" h="11279">
                <a:moveTo>
                  <a:pt x="5689" y="10418"/>
                </a:moveTo>
                <a:cubicBezTo>
                  <a:pt x="5705" y="10483"/>
                  <a:pt x="5725" y="10547"/>
                  <a:pt x="5755" y="10616"/>
                </a:cubicBezTo>
                <a:cubicBezTo>
                  <a:pt x="5782" y="10678"/>
                  <a:pt x="5779" y="10735"/>
                  <a:pt x="5821" y="10782"/>
                </a:cubicBezTo>
                <a:cubicBezTo>
                  <a:pt x="5867" y="10833"/>
                  <a:pt x="5854" y="10881"/>
                  <a:pt x="5854" y="10947"/>
                </a:cubicBezTo>
                <a:cubicBezTo>
                  <a:pt x="5854" y="11003"/>
                  <a:pt x="5840" y="10997"/>
                  <a:pt x="5887" y="11013"/>
                </a:cubicBezTo>
              </a:path>
              <a:path w="15314" h="11279">
                <a:moveTo>
                  <a:pt x="5722" y="11311"/>
                </a:moveTo>
                <a:cubicBezTo>
                  <a:pt x="5887" y="11311"/>
                  <a:pt x="6518" y="11253"/>
                  <a:pt x="6548" y="11344"/>
                </a:cubicBezTo>
              </a:path>
              <a:path w="15314" h="11279">
                <a:moveTo>
                  <a:pt x="5953" y="11873"/>
                </a:moveTo>
                <a:cubicBezTo>
                  <a:pt x="6008" y="11873"/>
                  <a:pt x="6063" y="11873"/>
                  <a:pt x="6118" y="11873"/>
                </a:cubicBezTo>
                <a:cubicBezTo>
                  <a:pt x="6118" y="11951"/>
                  <a:pt x="6105" y="11978"/>
                  <a:pt x="6085" y="12039"/>
                </a:cubicBezTo>
                <a:cubicBezTo>
                  <a:pt x="6069" y="12088"/>
                  <a:pt x="6057" y="12101"/>
                  <a:pt x="6052" y="12138"/>
                </a:cubicBezTo>
                <a:cubicBezTo>
                  <a:pt x="6048" y="12170"/>
                  <a:pt x="6052" y="12205"/>
                  <a:pt x="6052" y="12237"/>
                </a:cubicBezTo>
                <a:cubicBezTo>
                  <a:pt x="6150" y="12237"/>
                  <a:pt x="6705" y="12274"/>
                  <a:pt x="6714" y="12204"/>
                </a:cubicBezTo>
                <a:cubicBezTo>
                  <a:pt x="6714" y="12193"/>
                  <a:pt x="6714" y="12182"/>
                  <a:pt x="6714" y="12171"/>
                </a:cubicBezTo>
              </a:path>
              <a:path w="15314" h="11279">
                <a:moveTo>
                  <a:pt x="7111" y="10848"/>
                </a:moveTo>
                <a:cubicBezTo>
                  <a:pt x="7111" y="10926"/>
                  <a:pt x="7118" y="10972"/>
                  <a:pt x="7144" y="11046"/>
                </a:cubicBezTo>
                <a:cubicBezTo>
                  <a:pt x="7186" y="11169"/>
                  <a:pt x="7177" y="11280"/>
                  <a:pt x="7177" y="11410"/>
                </a:cubicBezTo>
                <a:cubicBezTo>
                  <a:pt x="7177" y="11528"/>
                  <a:pt x="7184" y="11523"/>
                  <a:pt x="7210" y="11576"/>
                </a:cubicBezTo>
                <a:cubicBezTo>
                  <a:pt x="7210" y="11609"/>
                  <a:pt x="7210" y="11620"/>
                  <a:pt x="7243" y="11609"/>
                </a:cubicBezTo>
                <a:cubicBezTo>
                  <a:pt x="7258" y="11533"/>
                  <a:pt x="7320" y="11482"/>
                  <a:pt x="7342" y="11443"/>
                </a:cubicBezTo>
                <a:cubicBezTo>
                  <a:pt x="7360" y="11412"/>
                  <a:pt x="7420" y="11383"/>
                  <a:pt x="7474" y="11377"/>
                </a:cubicBezTo>
                <a:cubicBezTo>
                  <a:pt x="7581" y="11365"/>
                  <a:pt x="7574" y="11474"/>
                  <a:pt x="7574" y="11542"/>
                </a:cubicBezTo>
                <a:cubicBezTo>
                  <a:pt x="7574" y="11636"/>
                  <a:pt x="7610" y="11737"/>
                  <a:pt x="7508" y="11774"/>
                </a:cubicBezTo>
                <a:cubicBezTo>
                  <a:pt x="7431" y="11802"/>
                  <a:pt x="7353" y="11806"/>
                  <a:pt x="7276" y="11840"/>
                </a:cubicBezTo>
                <a:cubicBezTo>
                  <a:pt x="7229" y="11861"/>
                  <a:pt x="7154" y="11952"/>
                  <a:pt x="7144" y="11873"/>
                </a:cubicBezTo>
                <a:cubicBezTo>
                  <a:pt x="7144" y="11840"/>
                  <a:pt x="7144" y="11829"/>
                  <a:pt x="7111" y="11840"/>
                </a:cubicBezTo>
              </a:path>
              <a:path w="15314" h="11279">
                <a:moveTo>
                  <a:pt x="7904" y="10649"/>
                </a:moveTo>
                <a:cubicBezTo>
                  <a:pt x="7904" y="10722"/>
                  <a:pt x="7960" y="10759"/>
                  <a:pt x="7971" y="10815"/>
                </a:cubicBezTo>
                <a:cubicBezTo>
                  <a:pt x="7998" y="10949"/>
                  <a:pt x="7965" y="11076"/>
                  <a:pt x="8004" y="11212"/>
                </a:cubicBezTo>
                <a:cubicBezTo>
                  <a:pt x="8025" y="11287"/>
                  <a:pt x="8031" y="11412"/>
                  <a:pt x="8070" y="11476"/>
                </a:cubicBezTo>
                <a:cubicBezTo>
                  <a:pt x="8103" y="11531"/>
                  <a:pt x="8128" y="11619"/>
                  <a:pt x="8136" y="11675"/>
                </a:cubicBezTo>
                <a:cubicBezTo>
                  <a:pt x="8150" y="11775"/>
                  <a:pt x="8141" y="11854"/>
                  <a:pt x="8169" y="11939"/>
                </a:cubicBezTo>
                <a:cubicBezTo>
                  <a:pt x="8169" y="11972"/>
                  <a:pt x="8169" y="11983"/>
                  <a:pt x="8202" y="11972"/>
                </a:cubicBezTo>
                <a:cubicBezTo>
                  <a:pt x="8202" y="11861"/>
                  <a:pt x="8195" y="11778"/>
                  <a:pt x="8169" y="11675"/>
                </a:cubicBezTo>
                <a:cubicBezTo>
                  <a:pt x="8156" y="11624"/>
                  <a:pt x="8187" y="11564"/>
                  <a:pt x="8235" y="11542"/>
                </a:cubicBezTo>
                <a:cubicBezTo>
                  <a:pt x="8280" y="11522"/>
                  <a:pt x="8267" y="11509"/>
                  <a:pt x="8334" y="11509"/>
                </a:cubicBezTo>
                <a:cubicBezTo>
                  <a:pt x="8372" y="11509"/>
                  <a:pt x="8444" y="11543"/>
                  <a:pt x="8467" y="11576"/>
                </a:cubicBezTo>
                <a:cubicBezTo>
                  <a:pt x="8517" y="11648"/>
                  <a:pt x="8513" y="11675"/>
                  <a:pt x="8566" y="11741"/>
                </a:cubicBezTo>
                <a:cubicBezTo>
                  <a:pt x="8602" y="11786"/>
                  <a:pt x="8599" y="11783"/>
                  <a:pt x="8599" y="11840"/>
                </a:cubicBezTo>
              </a:path>
              <a:path w="15314" h="11279">
                <a:moveTo>
                  <a:pt x="9029" y="11476"/>
                </a:moveTo>
                <a:cubicBezTo>
                  <a:pt x="9152" y="11476"/>
                  <a:pt x="9291" y="11494"/>
                  <a:pt x="9393" y="11443"/>
                </a:cubicBezTo>
              </a:path>
              <a:path w="15314" h="11279">
                <a:moveTo>
                  <a:pt x="8996" y="11774"/>
                </a:moveTo>
                <a:cubicBezTo>
                  <a:pt x="9067" y="11792"/>
                  <a:pt x="9110" y="11834"/>
                  <a:pt x="9194" y="11840"/>
                </a:cubicBezTo>
                <a:cubicBezTo>
                  <a:pt x="9292" y="11848"/>
                  <a:pt x="9361" y="11818"/>
                  <a:pt x="9459" y="11807"/>
                </a:cubicBezTo>
                <a:cubicBezTo>
                  <a:pt x="9533" y="11799"/>
                  <a:pt x="9668" y="11841"/>
                  <a:pt x="9690" y="11774"/>
                </a:cubicBezTo>
              </a:path>
              <a:path w="15314" h="11279">
                <a:moveTo>
                  <a:pt x="9988" y="10914"/>
                </a:moveTo>
                <a:cubicBezTo>
                  <a:pt x="9999" y="10914"/>
                  <a:pt x="10010" y="10914"/>
                  <a:pt x="10021" y="10914"/>
                </a:cubicBezTo>
                <a:cubicBezTo>
                  <a:pt x="10053" y="10994"/>
                  <a:pt x="10105" y="11038"/>
                  <a:pt x="10153" y="11113"/>
                </a:cubicBezTo>
                <a:cubicBezTo>
                  <a:pt x="10205" y="11193"/>
                  <a:pt x="10260" y="11224"/>
                  <a:pt x="10286" y="11311"/>
                </a:cubicBezTo>
                <a:cubicBezTo>
                  <a:pt x="10301" y="11361"/>
                  <a:pt x="10336" y="11396"/>
                  <a:pt x="10352" y="11443"/>
                </a:cubicBezTo>
                <a:cubicBezTo>
                  <a:pt x="10352" y="11476"/>
                  <a:pt x="10352" y="11487"/>
                  <a:pt x="10352" y="11509"/>
                </a:cubicBezTo>
              </a:path>
              <a:path w="15314" h="11279">
                <a:moveTo>
                  <a:pt x="10186" y="11873"/>
                </a:moveTo>
                <a:cubicBezTo>
                  <a:pt x="10351" y="11873"/>
                  <a:pt x="11002" y="11821"/>
                  <a:pt x="11013" y="11906"/>
                </a:cubicBezTo>
                <a:cubicBezTo>
                  <a:pt x="11013" y="11917"/>
                  <a:pt x="11013" y="11928"/>
                  <a:pt x="11013" y="11939"/>
                </a:cubicBezTo>
              </a:path>
              <a:path w="15314" h="11279">
                <a:moveTo>
                  <a:pt x="10649" y="12171"/>
                </a:moveTo>
                <a:cubicBezTo>
                  <a:pt x="10692" y="12171"/>
                  <a:pt x="10792" y="12172"/>
                  <a:pt x="10815" y="12138"/>
                </a:cubicBezTo>
                <a:cubicBezTo>
                  <a:pt x="10815" y="12105"/>
                  <a:pt x="10815" y="12094"/>
                  <a:pt x="10848" y="12105"/>
                </a:cubicBezTo>
                <a:cubicBezTo>
                  <a:pt x="10861" y="12157"/>
                  <a:pt x="10881" y="12178"/>
                  <a:pt x="10881" y="12237"/>
                </a:cubicBezTo>
                <a:cubicBezTo>
                  <a:pt x="10881" y="12322"/>
                  <a:pt x="10791" y="12350"/>
                  <a:pt x="10749" y="12402"/>
                </a:cubicBezTo>
                <a:cubicBezTo>
                  <a:pt x="10682" y="12485"/>
                  <a:pt x="10641" y="12525"/>
                  <a:pt x="10616" y="12634"/>
                </a:cubicBezTo>
                <a:cubicBezTo>
                  <a:pt x="10606" y="12679"/>
                  <a:pt x="10609" y="12739"/>
                  <a:pt x="10649" y="12766"/>
                </a:cubicBezTo>
                <a:cubicBezTo>
                  <a:pt x="10678" y="12786"/>
                  <a:pt x="10774" y="12822"/>
                  <a:pt x="10815" y="12799"/>
                </a:cubicBezTo>
                <a:cubicBezTo>
                  <a:pt x="10857" y="12775"/>
                  <a:pt x="10917" y="12804"/>
                  <a:pt x="10947" y="12766"/>
                </a:cubicBezTo>
                <a:cubicBezTo>
                  <a:pt x="10947" y="12755"/>
                  <a:pt x="10947" y="12744"/>
                  <a:pt x="10947" y="12733"/>
                </a:cubicBezTo>
              </a:path>
              <a:path w="15314" h="11279">
                <a:moveTo>
                  <a:pt x="11774" y="11311"/>
                </a:moveTo>
                <a:cubicBezTo>
                  <a:pt x="11774" y="11418"/>
                  <a:pt x="11758" y="11518"/>
                  <a:pt x="11741" y="11609"/>
                </a:cubicBezTo>
                <a:cubicBezTo>
                  <a:pt x="11727" y="11686"/>
                  <a:pt x="11716" y="11772"/>
                  <a:pt x="11708" y="11840"/>
                </a:cubicBezTo>
                <a:cubicBezTo>
                  <a:pt x="11702" y="11893"/>
                  <a:pt x="11708" y="11951"/>
                  <a:pt x="11708" y="12005"/>
                </a:cubicBezTo>
                <a:cubicBezTo>
                  <a:pt x="11808" y="12005"/>
                  <a:pt x="11880" y="11995"/>
                  <a:pt x="11972" y="11972"/>
                </a:cubicBezTo>
                <a:cubicBezTo>
                  <a:pt x="12005" y="11972"/>
                  <a:pt x="12016" y="11972"/>
                  <a:pt x="12005" y="11939"/>
                </a:cubicBezTo>
              </a:path>
              <a:path w="15314" h="11279">
                <a:moveTo>
                  <a:pt x="12005" y="11609"/>
                </a:moveTo>
                <a:cubicBezTo>
                  <a:pt x="12005" y="11726"/>
                  <a:pt x="11984" y="11824"/>
                  <a:pt x="11972" y="11939"/>
                </a:cubicBezTo>
                <a:cubicBezTo>
                  <a:pt x="11959" y="12064"/>
                  <a:pt x="11924" y="12182"/>
                  <a:pt x="11906" y="12303"/>
                </a:cubicBezTo>
                <a:cubicBezTo>
                  <a:pt x="11905" y="12309"/>
                  <a:pt x="11891" y="12513"/>
                  <a:pt x="11939" y="12402"/>
                </a:cubicBezTo>
                <a:cubicBezTo>
                  <a:pt x="11939" y="12364"/>
                  <a:pt x="11942" y="12350"/>
                  <a:pt x="11972" y="12336"/>
                </a:cubicBezTo>
              </a:path>
              <a:path w="15314" h="11279">
                <a:moveTo>
                  <a:pt x="12468" y="11972"/>
                </a:moveTo>
                <a:cubicBezTo>
                  <a:pt x="12519" y="11989"/>
                  <a:pt x="12502" y="12011"/>
                  <a:pt x="12502" y="12072"/>
                </a:cubicBezTo>
                <a:cubicBezTo>
                  <a:pt x="12502" y="12083"/>
                  <a:pt x="12502" y="12094"/>
                  <a:pt x="12502" y="12105"/>
                </a:cubicBezTo>
                <a:cubicBezTo>
                  <a:pt x="12492" y="12036"/>
                  <a:pt x="12468" y="12008"/>
                  <a:pt x="12468" y="11939"/>
                </a:cubicBezTo>
                <a:cubicBezTo>
                  <a:pt x="12468" y="11999"/>
                  <a:pt x="12441" y="12018"/>
                  <a:pt x="12435" y="12072"/>
                </a:cubicBezTo>
                <a:cubicBezTo>
                  <a:pt x="12429" y="12124"/>
                  <a:pt x="12400" y="12163"/>
                  <a:pt x="12369" y="12204"/>
                </a:cubicBezTo>
                <a:cubicBezTo>
                  <a:pt x="12395" y="12143"/>
                  <a:pt x="12421" y="12096"/>
                  <a:pt x="12435" y="12039"/>
                </a:cubicBezTo>
              </a:path>
              <a:path w="15314" h="11279">
                <a:moveTo>
                  <a:pt x="12998" y="11675"/>
                </a:moveTo>
                <a:cubicBezTo>
                  <a:pt x="13018" y="11639"/>
                  <a:pt x="13084" y="11544"/>
                  <a:pt x="13097" y="11509"/>
                </a:cubicBezTo>
                <a:cubicBezTo>
                  <a:pt x="13127" y="11431"/>
                  <a:pt x="13186" y="11382"/>
                  <a:pt x="13262" y="11311"/>
                </a:cubicBezTo>
                <a:cubicBezTo>
                  <a:pt x="13273" y="11300"/>
                  <a:pt x="13284" y="11289"/>
                  <a:pt x="13295" y="11278"/>
                </a:cubicBezTo>
                <a:cubicBezTo>
                  <a:pt x="13326" y="11340"/>
                  <a:pt x="13324" y="11364"/>
                  <a:pt x="13328" y="11443"/>
                </a:cubicBezTo>
                <a:cubicBezTo>
                  <a:pt x="13334" y="11568"/>
                  <a:pt x="13305" y="11609"/>
                  <a:pt x="13229" y="11708"/>
                </a:cubicBezTo>
                <a:cubicBezTo>
                  <a:pt x="13146" y="11816"/>
                  <a:pt x="13079" y="11933"/>
                  <a:pt x="12998" y="12039"/>
                </a:cubicBezTo>
                <a:cubicBezTo>
                  <a:pt x="12942" y="12113"/>
                  <a:pt x="12931" y="12144"/>
                  <a:pt x="12898" y="12204"/>
                </a:cubicBezTo>
                <a:cubicBezTo>
                  <a:pt x="12887" y="12215"/>
                  <a:pt x="12876" y="12226"/>
                  <a:pt x="12865" y="12237"/>
                </a:cubicBezTo>
                <a:cubicBezTo>
                  <a:pt x="13012" y="12228"/>
                  <a:pt x="13147" y="12206"/>
                  <a:pt x="13295" y="12204"/>
                </a:cubicBezTo>
                <a:cubicBezTo>
                  <a:pt x="13557" y="12200"/>
                  <a:pt x="14012" y="12241"/>
                  <a:pt x="14221" y="12171"/>
                </a:cubicBezTo>
                <a:cubicBezTo>
                  <a:pt x="14210" y="12171"/>
                  <a:pt x="14199" y="12171"/>
                  <a:pt x="14188" y="12171"/>
                </a:cubicBezTo>
              </a:path>
              <a:path w="15314" h="11279">
                <a:moveTo>
                  <a:pt x="11311" y="11609"/>
                </a:moveTo>
                <a:cubicBezTo>
                  <a:pt x="11363" y="11626"/>
                  <a:pt x="11344" y="11741"/>
                  <a:pt x="11344" y="11741"/>
                </a:cubicBezTo>
                <a:cubicBezTo>
                  <a:pt x="11344" y="11741"/>
                  <a:pt x="11419" y="11598"/>
                  <a:pt x="11443" y="11509"/>
                </a:cubicBezTo>
              </a:path>
              <a:path w="15314" h="11279">
                <a:moveTo>
                  <a:pt x="14519" y="11642"/>
                </a:moveTo>
                <a:cubicBezTo>
                  <a:pt x="14595" y="11642"/>
                  <a:pt x="14651" y="11653"/>
                  <a:pt x="14717" y="11609"/>
                </a:cubicBezTo>
                <a:cubicBezTo>
                  <a:pt x="14801" y="11554"/>
                  <a:pt x="14911" y="11576"/>
                  <a:pt x="15015" y="11576"/>
                </a:cubicBezTo>
                <a:cubicBezTo>
                  <a:pt x="15074" y="11576"/>
                  <a:pt x="15097" y="11559"/>
                  <a:pt x="15114" y="11609"/>
                </a:cubicBezTo>
              </a:path>
              <a:path w="15314" h="11279">
                <a:moveTo>
                  <a:pt x="14651" y="12072"/>
                </a:moveTo>
                <a:cubicBezTo>
                  <a:pt x="14747" y="12072"/>
                  <a:pt x="14826" y="12058"/>
                  <a:pt x="14916" y="12039"/>
                </a:cubicBezTo>
                <a:cubicBezTo>
                  <a:pt x="14990" y="12023"/>
                  <a:pt x="15035" y="12005"/>
                  <a:pt x="15114" y="12005"/>
                </a:cubicBezTo>
                <a:cubicBezTo>
                  <a:pt x="15125" y="12005"/>
                  <a:pt x="15136" y="12005"/>
                  <a:pt x="15147" y="12005"/>
                </a:cubicBezTo>
              </a:path>
              <a:path w="15314" h="11279">
                <a:moveTo>
                  <a:pt x="15544" y="11344"/>
                </a:moveTo>
                <a:cubicBezTo>
                  <a:pt x="15544" y="11508"/>
                  <a:pt x="15529" y="11728"/>
                  <a:pt x="15577" y="11840"/>
                </a:cubicBezTo>
                <a:cubicBezTo>
                  <a:pt x="15603" y="11902"/>
                  <a:pt x="15603" y="11906"/>
                  <a:pt x="15677" y="11906"/>
                </a:cubicBezTo>
                <a:cubicBezTo>
                  <a:pt x="15815" y="11906"/>
                  <a:pt x="15940" y="11890"/>
                  <a:pt x="16073" y="11873"/>
                </a:cubicBezTo>
                <a:cubicBezTo>
                  <a:pt x="16152" y="11863"/>
                  <a:pt x="16225" y="11840"/>
                  <a:pt x="16305" y="11840"/>
                </a:cubicBezTo>
              </a:path>
              <a:path w="15314" h="11279">
                <a:moveTo>
                  <a:pt x="16206" y="11609"/>
                </a:moveTo>
                <a:cubicBezTo>
                  <a:pt x="16187" y="11704"/>
                  <a:pt x="16173" y="11769"/>
                  <a:pt x="16173" y="11873"/>
                </a:cubicBezTo>
                <a:cubicBezTo>
                  <a:pt x="16173" y="12008"/>
                  <a:pt x="16236" y="12701"/>
                  <a:pt x="16140" y="12733"/>
                </a:cubicBezTo>
              </a:path>
              <a:path w="15314" h="11279">
                <a:moveTo>
                  <a:pt x="6747" y="18984"/>
                </a:moveTo>
                <a:lnTo>
                  <a:pt x="6747" y="18984"/>
                </a:ln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Ink 7"/>
          <p:cNvSpPr/>
          <p:nvPr/>
        </p:nvSpPr>
        <p:spPr>
          <a:xfrm>
            <a:off x="4452840" y="5191200"/>
            <a:ext cx="1143000" cy="500040"/>
          </a:xfrm>
          <a:custGeom>
            <a:avLst/>
            <a:gdLst/>
            <a:ahLst/>
            <a:rect l="l" t="t" r="r" b="b"/>
            <a:pathLst>
              <a:path w="3176" h="1390">
                <a:moveTo>
                  <a:pt x="12369" y="14618"/>
                </a:moveTo>
                <a:cubicBezTo>
                  <a:pt x="12369" y="14721"/>
                  <a:pt x="12368" y="14789"/>
                  <a:pt x="12402" y="14883"/>
                </a:cubicBezTo>
                <a:cubicBezTo>
                  <a:pt x="12445" y="15002"/>
                  <a:pt x="12433" y="15131"/>
                  <a:pt x="12468" y="15247"/>
                </a:cubicBezTo>
                <a:cubicBezTo>
                  <a:pt x="12500" y="15353"/>
                  <a:pt x="12583" y="15587"/>
                  <a:pt x="12601" y="15478"/>
                </a:cubicBezTo>
                <a:cubicBezTo>
                  <a:pt x="12601" y="15467"/>
                  <a:pt x="12601" y="15456"/>
                  <a:pt x="12601" y="15445"/>
                </a:cubicBezTo>
              </a:path>
              <a:path w="3176" h="1390">
                <a:moveTo>
                  <a:pt x="13163" y="15114"/>
                </a:moveTo>
                <a:cubicBezTo>
                  <a:pt x="13234" y="15114"/>
                  <a:pt x="13272" y="15093"/>
                  <a:pt x="13328" y="15081"/>
                </a:cubicBezTo>
                <a:cubicBezTo>
                  <a:pt x="13439" y="15057"/>
                  <a:pt x="13577" y="15081"/>
                  <a:pt x="13692" y="15081"/>
                </a:cubicBezTo>
              </a:path>
              <a:path w="3176" h="1390">
                <a:moveTo>
                  <a:pt x="13461" y="15577"/>
                </a:moveTo>
                <a:cubicBezTo>
                  <a:pt x="13508" y="15565"/>
                  <a:pt x="13550" y="15520"/>
                  <a:pt x="13593" y="15511"/>
                </a:cubicBezTo>
                <a:cubicBezTo>
                  <a:pt x="13668" y="15495"/>
                  <a:pt x="13726" y="15500"/>
                  <a:pt x="13791" y="15478"/>
                </a:cubicBezTo>
                <a:cubicBezTo>
                  <a:pt x="13838" y="15462"/>
                  <a:pt x="13912" y="15450"/>
                  <a:pt x="13957" y="15445"/>
                </a:cubicBezTo>
                <a:cubicBezTo>
                  <a:pt x="13968" y="15445"/>
                  <a:pt x="13979" y="15445"/>
                  <a:pt x="13990" y="15445"/>
                </a:cubicBezTo>
              </a:path>
              <a:path w="3176" h="1390">
                <a:moveTo>
                  <a:pt x="14288" y="15147"/>
                </a:moveTo>
                <a:cubicBezTo>
                  <a:pt x="14374" y="15147"/>
                  <a:pt x="14439" y="15127"/>
                  <a:pt x="14519" y="15114"/>
                </a:cubicBezTo>
                <a:cubicBezTo>
                  <a:pt x="14595" y="15101"/>
                  <a:pt x="14678" y="15088"/>
                  <a:pt x="14751" y="15081"/>
                </a:cubicBezTo>
                <a:cubicBezTo>
                  <a:pt x="14784" y="15081"/>
                  <a:pt x="14795" y="15081"/>
                  <a:pt x="14784" y="15048"/>
                </a:cubicBezTo>
              </a:path>
              <a:path w="3176" h="1390">
                <a:moveTo>
                  <a:pt x="15478" y="14453"/>
                </a:moveTo>
                <a:cubicBezTo>
                  <a:pt x="15448" y="14423"/>
                  <a:pt x="15442" y="14412"/>
                  <a:pt x="15412" y="14420"/>
                </a:cubicBezTo>
                <a:cubicBezTo>
                  <a:pt x="15361" y="14539"/>
                  <a:pt x="15339" y="14659"/>
                  <a:pt x="15313" y="14784"/>
                </a:cubicBezTo>
                <a:cubicBezTo>
                  <a:pt x="15286" y="14914"/>
                  <a:pt x="15252" y="15049"/>
                  <a:pt x="15247" y="15180"/>
                </a:cubicBezTo>
                <a:cubicBezTo>
                  <a:pt x="15241" y="15322"/>
                  <a:pt x="15232" y="15489"/>
                  <a:pt x="15280" y="15610"/>
                </a:cubicBezTo>
                <a:cubicBezTo>
                  <a:pt x="15323" y="15718"/>
                  <a:pt x="15346" y="15700"/>
                  <a:pt x="15346" y="15809"/>
                </a:cubicBezTo>
                <a:cubicBezTo>
                  <a:pt x="15405" y="15809"/>
                  <a:pt x="15428" y="15826"/>
                  <a:pt x="15445" y="15776"/>
                </a:cubicBezTo>
              </a:path>
              <a:path w="3176" h="1390">
                <a:moveTo>
                  <a:pt x="15544" y="15015"/>
                </a:moveTo>
                <a:cubicBezTo>
                  <a:pt x="15544" y="15158"/>
                  <a:pt x="15544" y="15302"/>
                  <a:pt x="15544" y="15445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Ink 8"/>
          <p:cNvSpPr/>
          <p:nvPr/>
        </p:nvSpPr>
        <p:spPr>
          <a:xfrm>
            <a:off x="3011400" y="5130720"/>
            <a:ext cx="1179720" cy="263520"/>
          </a:xfrm>
          <a:custGeom>
            <a:avLst/>
            <a:gdLst/>
            <a:ahLst/>
            <a:rect l="l" t="t" r="r" b="b"/>
            <a:pathLst>
              <a:path w="3276" h="729">
                <a:moveTo>
                  <a:pt x="8367" y="14618"/>
                </a:moveTo>
                <a:cubicBezTo>
                  <a:pt x="8709" y="14618"/>
                  <a:pt x="9051" y="14618"/>
                  <a:pt x="9393" y="14618"/>
                </a:cubicBezTo>
              </a:path>
              <a:path w="3276" h="729">
                <a:moveTo>
                  <a:pt x="9459" y="14420"/>
                </a:moveTo>
                <a:cubicBezTo>
                  <a:pt x="9504" y="14405"/>
                  <a:pt x="9500" y="14373"/>
                  <a:pt x="9558" y="14354"/>
                </a:cubicBezTo>
                <a:cubicBezTo>
                  <a:pt x="9595" y="14342"/>
                  <a:pt x="9619" y="14330"/>
                  <a:pt x="9657" y="14321"/>
                </a:cubicBezTo>
                <a:cubicBezTo>
                  <a:pt x="9657" y="14369"/>
                  <a:pt x="9666" y="14418"/>
                  <a:pt x="9690" y="14453"/>
                </a:cubicBezTo>
                <a:cubicBezTo>
                  <a:pt x="9731" y="14514"/>
                  <a:pt x="9723" y="14538"/>
                  <a:pt x="9723" y="14618"/>
                </a:cubicBezTo>
                <a:cubicBezTo>
                  <a:pt x="9723" y="14684"/>
                  <a:pt x="9664" y="14731"/>
                  <a:pt x="9657" y="14751"/>
                </a:cubicBezTo>
                <a:cubicBezTo>
                  <a:pt x="9633" y="14823"/>
                  <a:pt x="9617" y="14838"/>
                  <a:pt x="9558" y="14916"/>
                </a:cubicBezTo>
                <a:cubicBezTo>
                  <a:pt x="9522" y="14964"/>
                  <a:pt x="9536" y="14967"/>
                  <a:pt x="9492" y="14982"/>
                </a:cubicBezTo>
                <a:cubicBezTo>
                  <a:pt x="9585" y="14982"/>
                  <a:pt x="9668" y="14991"/>
                  <a:pt x="9757" y="14949"/>
                </a:cubicBezTo>
                <a:cubicBezTo>
                  <a:pt x="9781" y="14938"/>
                  <a:pt x="9853" y="14888"/>
                  <a:pt x="9856" y="14883"/>
                </a:cubicBezTo>
                <a:cubicBezTo>
                  <a:pt x="9856" y="14872"/>
                  <a:pt x="9856" y="14861"/>
                  <a:pt x="9856" y="14850"/>
                </a:cubicBezTo>
              </a:path>
              <a:path w="3276" h="729">
                <a:moveTo>
                  <a:pt x="10220" y="14288"/>
                </a:moveTo>
                <a:cubicBezTo>
                  <a:pt x="10220" y="14428"/>
                  <a:pt x="10225" y="14552"/>
                  <a:pt x="10253" y="14684"/>
                </a:cubicBezTo>
                <a:cubicBezTo>
                  <a:pt x="10266" y="14743"/>
                  <a:pt x="10286" y="14788"/>
                  <a:pt x="10286" y="14850"/>
                </a:cubicBezTo>
                <a:cubicBezTo>
                  <a:pt x="10286" y="14883"/>
                  <a:pt x="10286" y="14916"/>
                  <a:pt x="10286" y="14949"/>
                </a:cubicBezTo>
              </a:path>
              <a:path w="3276" h="729">
                <a:moveTo>
                  <a:pt x="10484" y="14453"/>
                </a:moveTo>
                <a:cubicBezTo>
                  <a:pt x="10559" y="14478"/>
                  <a:pt x="10513" y="14587"/>
                  <a:pt x="10550" y="14651"/>
                </a:cubicBezTo>
                <a:cubicBezTo>
                  <a:pt x="10609" y="14753"/>
                  <a:pt x="10616" y="14759"/>
                  <a:pt x="10616" y="14883"/>
                </a:cubicBezTo>
                <a:cubicBezTo>
                  <a:pt x="10616" y="14963"/>
                  <a:pt x="10639" y="14946"/>
                  <a:pt x="10550" y="14916"/>
                </a:cubicBezTo>
              </a:path>
              <a:path w="3276" h="729">
                <a:moveTo>
                  <a:pt x="9988" y="14321"/>
                </a:moveTo>
                <a:cubicBezTo>
                  <a:pt x="10171" y="14321"/>
                  <a:pt x="10344" y="14317"/>
                  <a:pt x="10517" y="14288"/>
                </a:cubicBezTo>
                <a:cubicBezTo>
                  <a:pt x="10598" y="14275"/>
                  <a:pt x="10671" y="14270"/>
                  <a:pt x="10749" y="14254"/>
                </a:cubicBezTo>
              </a:path>
              <a:path w="3276" h="729">
                <a:moveTo>
                  <a:pt x="11179" y="14817"/>
                </a:moveTo>
                <a:cubicBezTo>
                  <a:pt x="11237" y="14817"/>
                  <a:pt x="11293" y="14805"/>
                  <a:pt x="11344" y="14784"/>
                </a:cubicBezTo>
                <a:cubicBezTo>
                  <a:pt x="11458" y="14738"/>
                  <a:pt x="11515" y="14717"/>
                  <a:pt x="11642" y="14717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Ink 9"/>
          <p:cNvSpPr/>
          <p:nvPr/>
        </p:nvSpPr>
        <p:spPr>
          <a:xfrm>
            <a:off x="5630760" y="5214960"/>
            <a:ext cx="930240" cy="774720"/>
          </a:xfrm>
          <a:custGeom>
            <a:avLst/>
            <a:gdLst/>
            <a:ahLst/>
            <a:rect l="l" t="t" r="r" b="b"/>
            <a:pathLst>
              <a:path w="2581" h="2151">
                <a:moveTo>
                  <a:pt x="15809" y="14949"/>
                </a:moveTo>
                <a:cubicBezTo>
                  <a:pt x="15809" y="15147"/>
                  <a:pt x="15723" y="15670"/>
                  <a:pt x="15842" y="15511"/>
                </a:cubicBezTo>
                <a:cubicBezTo>
                  <a:pt x="15842" y="15500"/>
                  <a:pt x="15842" y="15489"/>
                  <a:pt x="15842" y="15478"/>
                </a:cubicBezTo>
              </a:path>
              <a:path w="2581" h="2151">
                <a:moveTo>
                  <a:pt x="15643" y="15313"/>
                </a:moveTo>
                <a:cubicBezTo>
                  <a:pt x="15846" y="15313"/>
                  <a:pt x="16047" y="15321"/>
                  <a:pt x="16239" y="15280"/>
                </a:cubicBezTo>
                <a:cubicBezTo>
                  <a:pt x="16272" y="15280"/>
                  <a:pt x="16283" y="15280"/>
                  <a:pt x="16272" y="15247"/>
                </a:cubicBezTo>
              </a:path>
              <a:path w="2581" h="2151">
                <a:moveTo>
                  <a:pt x="16470" y="15048"/>
                </a:moveTo>
                <a:cubicBezTo>
                  <a:pt x="16516" y="15048"/>
                  <a:pt x="16578" y="15031"/>
                  <a:pt x="16603" y="15081"/>
                </a:cubicBezTo>
                <a:cubicBezTo>
                  <a:pt x="16625" y="15124"/>
                  <a:pt x="16636" y="15114"/>
                  <a:pt x="16636" y="15180"/>
                </a:cubicBezTo>
                <a:cubicBezTo>
                  <a:pt x="16636" y="15241"/>
                  <a:pt x="16609" y="15259"/>
                  <a:pt x="16603" y="15313"/>
                </a:cubicBezTo>
                <a:cubicBezTo>
                  <a:pt x="16597" y="15367"/>
                  <a:pt x="16570" y="15338"/>
                  <a:pt x="16570" y="15412"/>
                </a:cubicBezTo>
                <a:cubicBezTo>
                  <a:pt x="16570" y="15466"/>
                  <a:pt x="16553" y="15429"/>
                  <a:pt x="16536" y="15478"/>
                </a:cubicBezTo>
                <a:cubicBezTo>
                  <a:pt x="16571" y="15529"/>
                  <a:pt x="16654" y="15511"/>
                  <a:pt x="16735" y="15511"/>
                </a:cubicBezTo>
                <a:cubicBezTo>
                  <a:pt x="16801" y="15511"/>
                  <a:pt x="16867" y="15511"/>
                  <a:pt x="16933" y="15511"/>
                </a:cubicBezTo>
                <a:cubicBezTo>
                  <a:pt x="16933" y="15453"/>
                  <a:pt x="16935" y="15459"/>
                  <a:pt x="16900" y="15412"/>
                </a:cubicBezTo>
              </a:path>
              <a:path w="2581" h="2151">
                <a:moveTo>
                  <a:pt x="17033" y="15081"/>
                </a:moveTo>
                <a:cubicBezTo>
                  <a:pt x="17033" y="15225"/>
                  <a:pt x="17026" y="15418"/>
                  <a:pt x="17066" y="15511"/>
                </a:cubicBezTo>
                <a:cubicBezTo>
                  <a:pt x="17092" y="15571"/>
                  <a:pt x="17066" y="15486"/>
                  <a:pt x="17066" y="15445"/>
                </a:cubicBezTo>
              </a:path>
              <a:path w="2581" h="2151">
                <a:moveTo>
                  <a:pt x="17231" y="15048"/>
                </a:moveTo>
                <a:cubicBezTo>
                  <a:pt x="17231" y="15092"/>
                  <a:pt x="17231" y="15136"/>
                  <a:pt x="17231" y="15180"/>
                </a:cubicBezTo>
                <a:cubicBezTo>
                  <a:pt x="17286" y="15199"/>
                  <a:pt x="17264" y="15245"/>
                  <a:pt x="17264" y="15313"/>
                </a:cubicBezTo>
                <a:cubicBezTo>
                  <a:pt x="17264" y="15388"/>
                  <a:pt x="17277" y="15417"/>
                  <a:pt x="17297" y="15478"/>
                </a:cubicBezTo>
                <a:cubicBezTo>
                  <a:pt x="17297" y="15489"/>
                  <a:pt x="17297" y="15500"/>
                  <a:pt x="17297" y="15511"/>
                </a:cubicBezTo>
              </a:path>
              <a:path w="2581" h="2151">
                <a:moveTo>
                  <a:pt x="16834" y="15081"/>
                </a:moveTo>
                <a:cubicBezTo>
                  <a:pt x="16834" y="15070"/>
                  <a:pt x="16834" y="15059"/>
                  <a:pt x="16834" y="15048"/>
                </a:cubicBezTo>
                <a:cubicBezTo>
                  <a:pt x="16847" y="15044"/>
                  <a:pt x="16919" y="14971"/>
                  <a:pt x="16933" y="14949"/>
                </a:cubicBezTo>
                <a:cubicBezTo>
                  <a:pt x="16960" y="14909"/>
                  <a:pt x="17005" y="14866"/>
                  <a:pt x="17033" y="14817"/>
                </a:cubicBezTo>
                <a:cubicBezTo>
                  <a:pt x="17050" y="14786"/>
                  <a:pt x="17067" y="14715"/>
                  <a:pt x="17132" y="14751"/>
                </a:cubicBezTo>
                <a:cubicBezTo>
                  <a:pt x="17162" y="14781"/>
                  <a:pt x="17168" y="14792"/>
                  <a:pt x="17198" y="14784"/>
                </a:cubicBezTo>
                <a:cubicBezTo>
                  <a:pt x="17205" y="14805"/>
                  <a:pt x="17229" y="14865"/>
                  <a:pt x="17264" y="14883"/>
                </a:cubicBezTo>
                <a:cubicBezTo>
                  <a:pt x="17299" y="14900"/>
                  <a:pt x="17389" y="14883"/>
                  <a:pt x="17429" y="14883"/>
                </a:cubicBezTo>
                <a:cubicBezTo>
                  <a:pt x="17439" y="14843"/>
                  <a:pt x="17453" y="14824"/>
                  <a:pt x="17463" y="14784"/>
                </a:cubicBezTo>
              </a:path>
              <a:path w="2581" h="2151">
                <a:moveTo>
                  <a:pt x="17529" y="14486"/>
                </a:moveTo>
                <a:cubicBezTo>
                  <a:pt x="17631" y="14509"/>
                  <a:pt x="17594" y="14463"/>
                  <a:pt x="17694" y="14552"/>
                </a:cubicBezTo>
                <a:cubicBezTo>
                  <a:pt x="17777" y="14626"/>
                  <a:pt x="17919" y="14778"/>
                  <a:pt x="17959" y="14883"/>
                </a:cubicBezTo>
                <a:cubicBezTo>
                  <a:pt x="18021" y="15045"/>
                  <a:pt x="18099" y="15235"/>
                  <a:pt x="18124" y="15412"/>
                </a:cubicBezTo>
                <a:cubicBezTo>
                  <a:pt x="18153" y="15621"/>
                  <a:pt x="18300" y="16168"/>
                  <a:pt x="18223" y="16371"/>
                </a:cubicBezTo>
                <a:cubicBezTo>
                  <a:pt x="18143" y="16583"/>
                  <a:pt x="18019" y="16547"/>
                  <a:pt x="17859" y="16603"/>
                </a:cubicBezTo>
                <a:cubicBezTo>
                  <a:pt x="17846" y="16608"/>
                  <a:pt x="17843" y="16630"/>
                  <a:pt x="17793" y="1663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Ink 10"/>
          <p:cNvSpPr/>
          <p:nvPr/>
        </p:nvSpPr>
        <p:spPr>
          <a:xfrm>
            <a:off x="690480" y="2809800"/>
            <a:ext cx="547920" cy="131760"/>
          </a:xfrm>
          <a:custGeom>
            <a:avLst/>
            <a:gdLst/>
            <a:ahLst/>
            <a:rect l="l" t="t" r="r" b="b"/>
            <a:pathLst>
              <a:path w="1523" h="365">
                <a:moveTo>
                  <a:pt x="1918" y="8169"/>
                </a:moveTo>
                <a:cubicBezTo>
                  <a:pt x="1992" y="8169"/>
                  <a:pt x="1963" y="8140"/>
                  <a:pt x="2017" y="8136"/>
                </a:cubicBezTo>
                <a:cubicBezTo>
                  <a:pt x="2126" y="8128"/>
                  <a:pt x="2239" y="8136"/>
                  <a:pt x="2348" y="8136"/>
                </a:cubicBezTo>
              </a:path>
              <a:path w="1523" h="365">
                <a:moveTo>
                  <a:pt x="2646" y="7871"/>
                </a:moveTo>
                <a:cubicBezTo>
                  <a:pt x="2691" y="7856"/>
                  <a:pt x="2687" y="7824"/>
                  <a:pt x="2745" y="7805"/>
                </a:cubicBezTo>
                <a:cubicBezTo>
                  <a:pt x="2780" y="7793"/>
                  <a:pt x="2840" y="7805"/>
                  <a:pt x="2877" y="7805"/>
                </a:cubicBezTo>
                <a:cubicBezTo>
                  <a:pt x="2877" y="7908"/>
                  <a:pt x="2873" y="7984"/>
                  <a:pt x="2844" y="8070"/>
                </a:cubicBezTo>
                <a:cubicBezTo>
                  <a:pt x="2829" y="8114"/>
                  <a:pt x="2791" y="8109"/>
                  <a:pt x="2778" y="8136"/>
                </a:cubicBezTo>
                <a:cubicBezTo>
                  <a:pt x="2778" y="8147"/>
                  <a:pt x="2778" y="8158"/>
                  <a:pt x="2778" y="8169"/>
                </a:cubicBezTo>
                <a:cubicBezTo>
                  <a:pt x="2999" y="8169"/>
                  <a:pt x="3219" y="8169"/>
                  <a:pt x="3440" y="816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Ink 11"/>
          <p:cNvSpPr/>
          <p:nvPr/>
        </p:nvSpPr>
        <p:spPr>
          <a:xfrm>
            <a:off x="3963960" y="333360"/>
            <a:ext cx="1440" cy="12600"/>
          </a:xfrm>
          <a:custGeom>
            <a:avLst/>
            <a:gdLst/>
            <a:ahLst/>
            <a:rect l="l" t="t" r="r" b="b"/>
            <a:pathLst>
              <a:path w="1" h="34">
                <a:moveTo>
                  <a:pt x="11013" y="959"/>
                </a:moveTo>
                <a:cubicBezTo>
                  <a:pt x="11013" y="948"/>
                  <a:pt x="11013" y="937"/>
                  <a:pt x="11013" y="92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Ink 12"/>
          <p:cNvSpPr/>
          <p:nvPr/>
        </p:nvSpPr>
        <p:spPr>
          <a:xfrm>
            <a:off x="3297240" y="177840"/>
            <a:ext cx="1584360" cy="430200"/>
          </a:xfrm>
          <a:custGeom>
            <a:avLst/>
            <a:gdLst/>
            <a:ahLst/>
            <a:rect l="l" t="t" r="r" b="b"/>
            <a:pathLst>
              <a:path w="4400" h="1192">
                <a:moveTo>
                  <a:pt x="9161" y="1654"/>
                </a:moveTo>
                <a:cubicBezTo>
                  <a:pt x="9161" y="1591"/>
                  <a:pt x="9190" y="1548"/>
                  <a:pt x="9194" y="1488"/>
                </a:cubicBezTo>
                <a:cubicBezTo>
                  <a:pt x="9203" y="1346"/>
                  <a:pt x="9246" y="1207"/>
                  <a:pt x="9260" y="1058"/>
                </a:cubicBezTo>
                <a:cubicBezTo>
                  <a:pt x="9272" y="938"/>
                  <a:pt x="9298" y="810"/>
                  <a:pt x="9327" y="695"/>
                </a:cubicBezTo>
                <a:cubicBezTo>
                  <a:pt x="9345" y="623"/>
                  <a:pt x="9352" y="550"/>
                  <a:pt x="9393" y="496"/>
                </a:cubicBezTo>
                <a:cubicBezTo>
                  <a:pt x="9425" y="512"/>
                  <a:pt x="9498" y="556"/>
                  <a:pt x="9525" y="595"/>
                </a:cubicBezTo>
                <a:cubicBezTo>
                  <a:pt x="9601" y="704"/>
                  <a:pt x="9685" y="811"/>
                  <a:pt x="9757" y="926"/>
                </a:cubicBezTo>
                <a:cubicBezTo>
                  <a:pt x="9826" y="1036"/>
                  <a:pt x="9880" y="1127"/>
                  <a:pt x="9889" y="1257"/>
                </a:cubicBezTo>
                <a:cubicBezTo>
                  <a:pt x="9894" y="1332"/>
                  <a:pt x="9949" y="1343"/>
                  <a:pt x="9955" y="1389"/>
                </a:cubicBezTo>
                <a:cubicBezTo>
                  <a:pt x="9955" y="1400"/>
                  <a:pt x="9955" y="1411"/>
                  <a:pt x="9955" y="1422"/>
                </a:cubicBezTo>
              </a:path>
              <a:path w="4400" h="1192">
                <a:moveTo>
                  <a:pt x="9393" y="1191"/>
                </a:moveTo>
                <a:cubicBezTo>
                  <a:pt x="9464" y="1191"/>
                  <a:pt x="9499" y="1165"/>
                  <a:pt x="9558" y="1158"/>
                </a:cubicBezTo>
                <a:cubicBezTo>
                  <a:pt x="9590" y="1154"/>
                  <a:pt x="9625" y="1158"/>
                  <a:pt x="9657" y="1158"/>
                </a:cubicBezTo>
                <a:cubicBezTo>
                  <a:pt x="9674" y="1107"/>
                  <a:pt x="9696" y="1124"/>
                  <a:pt x="9757" y="1124"/>
                </a:cubicBezTo>
                <a:cubicBezTo>
                  <a:pt x="9790" y="1124"/>
                  <a:pt x="9801" y="1124"/>
                  <a:pt x="9823" y="1124"/>
                </a:cubicBezTo>
              </a:path>
              <a:path w="4400" h="1192">
                <a:moveTo>
                  <a:pt x="10352" y="1091"/>
                </a:moveTo>
                <a:cubicBezTo>
                  <a:pt x="10414" y="1091"/>
                  <a:pt x="10436" y="1068"/>
                  <a:pt x="10484" y="1058"/>
                </a:cubicBezTo>
                <a:cubicBezTo>
                  <a:pt x="10628" y="1027"/>
                  <a:pt x="10765" y="1067"/>
                  <a:pt x="10914" y="1025"/>
                </a:cubicBezTo>
                <a:cubicBezTo>
                  <a:pt x="10968" y="998"/>
                  <a:pt x="10976" y="987"/>
                  <a:pt x="11013" y="992"/>
                </a:cubicBezTo>
              </a:path>
              <a:path w="4400" h="1192">
                <a:moveTo>
                  <a:pt x="10451" y="1422"/>
                </a:moveTo>
                <a:cubicBezTo>
                  <a:pt x="10579" y="1422"/>
                  <a:pt x="10689" y="1411"/>
                  <a:pt x="10815" y="1389"/>
                </a:cubicBezTo>
                <a:cubicBezTo>
                  <a:pt x="10877" y="1378"/>
                  <a:pt x="10950" y="1389"/>
                  <a:pt x="11013" y="1389"/>
                </a:cubicBezTo>
              </a:path>
              <a:path w="4400" h="1192">
                <a:moveTo>
                  <a:pt x="11476" y="827"/>
                </a:moveTo>
                <a:cubicBezTo>
                  <a:pt x="11476" y="933"/>
                  <a:pt x="11420" y="1377"/>
                  <a:pt x="11509" y="1422"/>
                </a:cubicBezTo>
                <a:cubicBezTo>
                  <a:pt x="11520" y="1422"/>
                  <a:pt x="11531" y="1422"/>
                  <a:pt x="11542" y="1422"/>
                </a:cubicBezTo>
              </a:path>
              <a:path w="4400" h="1192">
                <a:moveTo>
                  <a:pt x="11807" y="926"/>
                </a:moveTo>
                <a:cubicBezTo>
                  <a:pt x="11824" y="993"/>
                  <a:pt x="11840" y="1011"/>
                  <a:pt x="11840" y="1091"/>
                </a:cubicBezTo>
                <a:cubicBezTo>
                  <a:pt x="11840" y="1223"/>
                  <a:pt x="11844" y="1331"/>
                  <a:pt x="11873" y="1455"/>
                </a:cubicBezTo>
                <a:cubicBezTo>
                  <a:pt x="11891" y="1532"/>
                  <a:pt x="11926" y="1606"/>
                  <a:pt x="11939" y="1687"/>
                </a:cubicBezTo>
                <a:cubicBezTo>
                  <a:pt x="12019" y="1667"/>
                  <a:pt x="12005" y="1634"/>
                  <a:pt x="12005" y="1554"/>
                </a:cubicBezTo>
                <a:cubicBezTo>
                  <a:pt x="12005" y="1521"/>
                  <a:pt x="12005" y="1510"/>
                  <a:pt x="12005" y="1488"/>
                </a:cubicBezTo>
              </a:path>
              <a:path w="4400" h="1192">
                <a:moveTo>
                  <a:pt x="11046" y="926"/>
                </a:moveTo>
                <a:cubicBezTo>
                  <a:pt x="11053" y="904"/>
                  <a:pt x="11077" y="845"/>
                  <a:pt x="11113" y="827"/>
                </a:cubicBezTo>
                <a:cubicBezTo>
                  <a:pt x="11150" y="808"/>
                  <a:pt x="11157" y="752"/>
                  <a:pt x="11212" y="728"/>
                </a:cubicBezTo>
                <a:cubicBezTo>
                  <a:pt x="11266" y="704"/>
                  <a:pt x="11286" y="662"/>
                  <a:pt x="11311" y="628"/>
                </a:cubicBezTo>
                <a:cubicBezTo>
                  <a:pt x="11336" y="595"/>
                  <a:pt x="11384" y="565"/>
                  <a:pt x="11410" y="562"/>
                </a:cubicBezTo>
                <a:cubicBezTo>
                  <a:pt x="11477" y="554"/>
                  <a:pt x="11515" y="577"/>
                  <a:pt x="11542" y="595"/>
                </a:cubicBezTo>
                <a:cubicBezTo>
                  <a:pt x="11580" y="620"/>
                  <a:pt x="11655" y="654"/>
                  <a:pt x="11675" y="695"/>
                </a:cubicBezTo>
                <a:cubicBezTo>
                  <a:pt x="11687" y="719"/>
                  <a:pt x="11739" y="810"/>
                  <a:pt x="11774" y="827"/>
                </a:cubicBezTo>
                <a:cubicBezTo>
                  <a:pt x="11816" y="848"/>
                  <a:pt x="11853" y="860"/>
                  <a:pt x="11906" y="860"/>
                </a:cubicBezTo>
                <a:cubicBezTo>
                  <a:pt x="12034" y="860"/>
                  <a:pt x="12159" y="864"/>
                  <a:pt x="12270" y="827"/>
                </a:cubicBezTo>
                <a:cubicBezTo>
                  <a:pt x="12338" y="804"/>
                  <a:pt x="12335" y="779"/>
                  <a:pt x="12369" y="728"/>
                </a:cubicBezTo>
                <a:cubicBezTo>
                  <a:pt x="12399" y="698"/>
                  <a:pt x="12405" y="687"/>
                  <a:pt x="12435" y="695"/>
                </a:cubicBezTo>
              </a:path>
              <a:path w="4400" h="1192">
                <a:moveTo>
                  <a:pt x="12568" y="1224"/>
                </a:moveTo>
                <a:cubicBezTo>
                  <a:pt x="12568" y="1317"/>
                  <a:pt x="12578" y="1377"/>
                  <a:pt x="12601" y="1455"/>
                </a:cubicBezTo>
                <a:cubicBezTo>
                  <a:pt x="12615" y="1503"/>
                  <a:pt x="12634" y="1509"/>
                  <a:pt x="12634" y="1588"/>
                </a:cubicBezTo>
                <a:cubicBezTo>
                  <a:pt x="12634" y="1643"/>
                  <a:pt x="12623" y="1665"/>
                  <a:pt x="12667" y="1654"/>
                </a:cubicBezTo>
                <a:cubicBezTo>
                  <a:pt x="12667" y="1367"/>
                  <a:pt x="12667" y="1081"/>
                  <a:pt x="12667" y="794"/>
                </a:cubicBezTo>
                <a:cubicBezTo>
                  <a:pt x="12789" y="794"/>
                  <a:pt x="12811" y="797"/>
                  <a:pt x="12898" y="860"/>
                </a:cubicBezTo>
                <a:cubicBezTo>
                  <a:pt x="12920" y="871"/>
                  <a:pt x="12943" y="882"/>
                  <a:pt x="12965" y="893"/>
                </a:cubicBezTo>
              </a:path>
              <a:path w="4400" h="1192">
                <a:moveTo>
                  <a:pt x="13163" y="595"/>
                </a:moveTo>
                <a:cubicBezTo>
                  <a:pt x="13173" y="565"/>
                  <a:pt x="13219" y="543"/>
                  <a:pt x="13262" y="529"/>
                </a:cubicBezTo>
                <a:cubicBezTo>
                  <a:pt x="13306" y="529"/>
                  <a:pt x="13328" y="529"/>
                  <a:pt x="13361" y="529"/>
                </a:cubicBezTo>
                <a:cubicBezTo>
                  <a:pt x="13361" y="604"/>
                  <a:pt x="13363" y="634"/>
                  <a:pt x="13328" y="695"/>
                </a:cubicBezTo>
                <a:cubicBezTo>
                  <a:pt x="13298" y="748"/>
                  <a:pt x="13235" y="804"/>
                  <a:pt x="13229" y="860"/>
                </a:cubicBezTo>
                <a:cubicBezTo>
                  <a:pt x="13223" y="913"/>
                  <a:pt x="13197" y="982"/>
                  <a:pt x="13163" y="1025"/>
                </a:cubicBezTo>
                <a:cubicBezTo>
                  <a:pt x="13133" y="1055"/>
                  <a:pt x="13122" y="1061"/>
                  <a:pt x="13130" y="1091"/>
                </a:cubicBezTo>
                <a:cubicBezTo>
                  <a:pt x="13238" y="1091"/>
                  <a:pt x="13367" y="1088"/>
                  <a:pt x="13428" y="1058"/>
                </a:cubicBezTo>
                <a:cubicBezTo>
                  <a:pt x="13455" y="1044"/>
                  <a:pt x="13529" y="1058"/>
                  <a:pt x="13560" y="105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Ink 13"/>
          <p:cNvSpPr/>
          <p:nvPr/>
        </p:nvSpPr>
        <p:spPr>
          <a:xfrm>
            <a:off x="274680" y="5060880"/>
            <a:ext cx="2273400" cy="1452600"/>
          </a:xfrm>
          <a:custGeom>
            <a:avLst/>
            <a:gdLst/>
            <a:ahLst/>
            <a:rect l="l" t="t" r="r" b="b"/>
            <a:pathLst>
              <a:path w="6318" h="4036">
                <a:moveTo>
                  <a:pt x="5093" y="14056"/>
                </a:moveTo>
                <a:cubicBezTo>
                  <a:pt x="5093" y="14760"/>
                  <a:pt x="5065" y="15475"/>
                  <a:pt x="5126" y="16173"/>
                </a:cubicBezTo>
                <a:cubicBezTo>
                  <a:pt x="5141" y="16348"/>
                  <a:pt x="5192" y="16491"/>
                  <a:pt x="5192" y="16669"/>
                </a:cubicBezTo>
                <a:cubicBezTo>
                  <a:pt x="5192" y="16752"/>
                  <a:pt x="5223" y="16815"/>
                  <a:pt x="5226" y="16900"/>
                </a:cubicBezTo>
                <a:cubicBezTo>
                  <a:pt x="5237" y="17186"/>
                  <a:pt x="5331" y="17867"/>
                  <a:pt x="5192" y="18091"/>
                </a:cubicBezTo>
              </a:path>
              <a:path w="6318" h="4036">
                <a:moveTo>
                  <a:pt x="761" y="16470"/>
                </a:moveTo>
                <a:cubicBezTo>
                  <a:pt x="871" y="16470"/>
                  <a:pt x="981" y="16470"/>
                  <a:pt x="1091" y="16470"/>
                </a:cubicBezTo>
              </a:path>
              <a:path w="6318" h="4036">
                <a:moveTo>
                  <a:pt x="1158" y="16173"/>
                </a:moveTo>
                <a:cubicBezTo>
                  <a:pt x="1158" y="16261"/>
                  <a:pt x="1158" y="16349"/>
                  <a:pt x="1158" y="16437"/>
                </a:cubicBezTo>
                <a:cubicBezTo>
                  <a:pt x="1257" y="16437"/>
                  <a:pt x="1356" y="16437"/>
                  <a:pt x="1455" y="16437"/>
                </a:cubicBezTo>
                <a:cubicBezTo>
                  <a:pt x="1455" y="16404"/>
                  <a:pt x="1455" y="16393"/>
                  <a:pt x="1488" y="16404"/>
                </a:cubicBezTo>
              </a:path>
              <a:path w="6318" h="4036">
                <a:moveTo>
                  <a:pt x="1488" y="16173"/>
                </a:moveTo>
                <a:cubicBezTo>
                  <a:pt x="1488" y="16292"/>
                  <a:pt x="1500" y="16403"/>
                  <a:pt x="1521" y="16503"/>
                </a:cubicBezTo>
                <a:cubicBezTo>
                  <a:pt x="1533" y="16562"/>
                  <a:pt x="1521" y="16641"/>
                  <a:pt x="1521" y="16702"/>
                </a:cubicBezTo>
              </a:path>
              <a:path w="6318" h="4036">
                <a:moveTo>
                  <a:pt x="6879" y="15610"/>
                </a:moveTo>
                <a:cubicBezTo>
                  <a:pt x="6879" y="15654"/>
                  <a:pt x="6879" y="15699"/>
                  <a:pt x="6879" y="15743"/>
                </a:cubicBezTo>
                <a:cubicBezTo>
                  <a:pt x="6955" y="15768"/>
                  <a:pt x="6866" y="15806"/>
                  <a:pt x="6912" y="15842"/>
                </a:cubicBezTo>
                <a:cubicBezTo>
                  <a:pt x="6923" y="15842"/>
                  <a:pt x="6934" y="15842"/>
                  <a:pt x="6945" y="15842"/>
                </a:cubicBezTo>
              </a:path>
              <a:path w="6318" h="4036">
                <a:moveTo>
                  <a:pt x="6846" y="16338"/>
                </a:moveTo>
                <a:cubicBezTo>
                  <a:pt x="6901" y="16338"/>
                  <a:pt x="6956" y="16338"/>
                  <a:pt x="7011" y="16338"/>
                </a:cubicBezTo>
                <a:cubicBezTo>
                  <a:pt x="7011" y="16419"/>
                  <a:pt x="7032" y="16508"/>
                  <a:pt x="6978" y="16570"/>
                </a:cubicBezTo>
                <a:cubicBezTo>
                  <a:pt x="6941" y="16612"/>
                  <a:pt x="6939" y="16661"/>
                  <a:pt x="6912" y="16702"/>
                </a:cubicBezTo>
                <a:cubicBezTo>
                  <a:pt x="6874" y="16759"/>
                  <a:pt x="6861" y="16777"/>
                  <a:pt x="6912" y="16834"/>
                </a:cubicBezTo>
                <a:cubicBezTo>
                  <a:pt x="6952" y="16879"/>
                  <a:pt x="6988" y="16867"/>
                  <a:pt x="7045" y="16867"/>
                </a:cubicBezTo>
                <a:cubicBezTo>
                  <a:pt x="7056" y="16867"/>
                  <a:pt x="7067" y="16867"/>
                  <a:pt x="7078" y="16867"/>
                </a:cubicBezTo>
              </a:path>
              <a:path w="6318" h="4036">
                <a:moveTo>
                  <a:pt x="3539" y="15743"/>
                </a:moveTo>
                <a:cubicBezTo>
                  <a:pt x="3583" y="15799"/>
                  <a:pt x="3571" y="15747"/>
                  <a:pt x="3605" y="15842"/>
                </a:cubicBezTo>
                <a:cubicBezTo>
                  <a:pt x="3628" y="15908"/>
                  <a:pt x="3667" y="15994"/>
                  <a:pt x="3704" y="16040"/>
                </a:cubicBezTo>
                <a:cubicBezTo>
                  <a:pt x="3764" y="16114"/>
                  <a:pt x="3788" y="16162"/>
                  <a:pt x="3836" y="16239"/>
                </a:cubicBezTo>
                <a:cubicBezTo>
                  <a:pt x="3873" y="16298"/>
                  <a:pt x="3934" y="16367"/>
                  <a:pt x="3969" y="16404"/>
                </a:cubicBezTo>
                <a:cubicBezTo>
                  <a:pt x="4026" y="16465"/>
                  <a:pt x="4043" y="16507"/>
                  <a:pt x="4101" y="16570"/>
                </a:cubicBezTo>
                <a:cubicBezTo>
                  <a:pt x="4131" y="16603"/>
                  <a:pt x="4126" y="16610"/>
                  <a:pt x="4167" y="16636"/>
                </a:cubicBezTo>
                <a:cubicBezTo>
                  <a:pt x="4216" y="16668"/>
                  <a:pt x="4220" y="16714"/>
                  <a:pt x="4266" y="16735"/>
                </a:cubicBezTo>
                <a:cubicBezTo>
                  <a:pt x="4325" y="16762"/>
                  <a:pt x="4368" y="16751"/>
                  <a:pt x="4432" y="16801"/>
                </a:cubicBezTo>
                <a:cubicBezTo>
                  <a:pt x="4474" y="16833"/>
                  <a:pt x="4530" y="16871"/>
                  <a:pt x="4597" y="16900"/>
                </a:cubicBezTo>
                <a:cubicBezTo>
                  <a:pt x="4674" y="16933"/>
                  <a:pt x="4685" y="16958"/>
                  <a:pt x="4763" y="16966"/>
                </a:cubicBezTo>
                <a:cubicBezTo>
                  <a:pt x="5009" y="16992"/>
                  <a:pt x="5289" y="16970"/>
                  <a:pt x="5523" y="16933"/>
                </a:cubicBezTo>
                <a:cubicBezTo>
                  <a:pt x="5608" y="16920"/>
                  <a:pt x="5676" y="16904"/>
                  <a:pt x="5755" y="16867"/>
                </a:cubicBezTo>
                <a:cubicBezTo>
                  <a:pt x="5815" y="16838"/>
                  <a:pt x="5865" y="16822"/>
                  <a:pt x="5920" y="16801"/>
                </a:cubicBezTo>
                <a:cubicBezTo>
                  <a:pt x="5972" y="16781"/>
                  <a:pt x="6023" y="16759"/>
                  <a:pt x="6052" y="16735"/>
                </a:cubicBezTo>
                <a:cubicBezTo>
                  <a:pt x="6080" y="16713"/>
                  <a:pt x="6109" y="16692"/>
                  <a:pt x="6152" y="16669"/>
                </a:cubicBezTo>
                <a:cubicBezTo>
                  <a:pt x="6185" y="16652"/>
                  <a:pt x="6209" y="16615"/>
                  <a:pt x="6251" y="16570"/>
                </a:cubicBezTo>
                <a:cubicBezTo>
                  <a:pt x="6296" y="16522"/>
                  <a:pt x="6345" y="16514"/>
                  <a:pt x="6383" y="16470"/>
                </a:cubicBezTo>
                <a:cubicBezTo>
                  <a:pt x="6412" y="16436"/>
                  <a:pt x="6466" y="16406"/>
                  <a:pt x="6482" y="16371"/>
                </a:cubicBezTo>
                <a:cubicBezTo>
                  <a:pt x="6505" y="16322"/>
                  <a:pt x="6484" y="16307"/>
                  <a:pt x="6515" y="16272"/>
                </a:cubicBezTo>
                <a:cubicBezTo>
                  <a:pt x="6564" y="16216"/>
                  <a:pt x="6554" y="16192"/>
                  <a:pt x="6582" y="16140"/>
                </a:cubicBezTo>
                <a:cubicBezTo>
                  <a:pt x="6598" y="16110"/>
                  <a:pt x="6611" y="16108"/>
                  <a:pt x="6615" y="16040"/>
                </a:cubicBezTo>
                <a:cubicBezTo>
                  <a:pt x="6618" y="15986"/>
                  <a:pt x="6646" y="15917"/>
                  <a:pt x="6648" y="15908"/>
                </a:cubicBezTo>
                <a:cubicBezTo>
                  <a:pt x="6660" y="15849"/>
                  <a:pt x="6662" y="15828"/>
                  <a:pt x="6681" y="15776"/>
                </a:cubicBezTo>
              </a:path>
              <a:path w="6318" h="4036">
                <a:moveTo>
                  <a:pt x="7078" y="15710"/>
                </a:moveTo>
                <a:cubicBezTo>
                  <a:pt x="7049" y="15777"/>
                  <a:pt x="7003" y="15845"/>
                  <a:pt x="6978" y="15908"/>
                </a:cubicBezTo>
                <a:cubicBezTo>
                  <a:pt x="6954" y="15968"/>
                  <a:pt x="6924" y="16005"/>
                  <a:pt x="6879" y="16040"/>
                </a:cubicBezTo>
                <a:cubicBezTo>
                  <a:pt x="6834" y="16075"/>
                  <a:pt x="6840" y="16133"/>
                  <a:pt x="6813" y="16173"/>
                </a:cubicBezTo>
                <a:cubicBezTo>
                  <a:pt x="6783" y="16203"/>
                  <a:pt x="6777" y="16214"/>
                  <a:pt x="6747" y="16206"/>
                </a:cubicBezTo>
                <a:cubicBezTo>
                  <a:pt x="6735" y="16242"/>
                  <a:pt x="6699" y="16294"/>
                  <a:pt x="6648" y="16305"/>
                </a:cubicBezTo>
                <a:cubicBezTo>
                  <a:pt x="6594" y="16317"/>
                  <a:pt x="6595" y="16318"/>
                  <a:pt x="6582" y="16371"/>
                </a:cubicBezTo>
                <a:cubicBezTo>
                  <a:pt x="6531" y="16387"/>
                  <a:pt x="6553" y="16404"/>
                  <a:pt x="6482" y="16404"/>
                </a:cubicBezTo>
                <a:cubicBezTo>
                  <a:pt x="6471" y="16404"/>
                  <a:pt x="6460" y="16404"/>
                  <a:pt x="6449" y="16404"/>
                </a:cubicBezTo>
              </a:path>
              <a:path w="6318" h="4036">
                <a:moveTo>
                  <a:pt x="3572" y="15809"/>
                </a:moveTo>
                <a:cubicBezTo>
                  <a:pt x="3545" y="15831"/>
                  <a:pt x="3519" y="15850"/>
                  <a:pt x="3473" y="15875"/>
                </a:cubicBezTo>
                <a:cubicBezTo>
                  <a:pt x="3363" y="15933"/>
                  <a:pt x="3303" y="16001"/>
                  <a:pt x="3208" y="16073"/>
                </a:cubicBezTo>
                <a:cubicBezTo>
                  <a:pt x="3101" y="16154"/>
                  <a:pt x="2978" y="16221"/>
                  <a:pt x="2877" y="16305"/>
                </a:cubicBezTo>
                <a:cubicBezTo>
                  <a:pt x="2796" y="16372"/>
                  <a:pt x="2759" y="16408"/>
                  <a:pt x="2679" y="16470"/>
                </a:cubicBezTo>
                <a:cubicBezTo>
                  <a:pt x="2604" y="16528"/>
                  <a:pt x="2523" y="16577"/>
                  <a:pt x="2447" y="16636"/>
                </a:cubicBezTo>
                <a:cubicBezTo>
                  <a:pt x="2371" y="16696"/>
                  <a:pt x="2296" y="16750"/>
                  <a:pt x="2216" y="16801"/>
                </a:cubicBezTo>
                <a:cubicBezTo>
                  <a:pt x="2156" y="16839"/>
                  <a:pt x="2104" y="16884"/>
                  <a:pt x="2051" y="16933"/>
                </a:cubicBezTo>
                <a:cubicBezTo>
                  <a:pt x="1993" y="16987"/>
                  <a:pt x="1949" y="17018"/>
                  <a:pt x="1885" y="17066"/>
                </a:cubicBezTo>
                <a:cubicBezTo>
                  <a:pt x="1823" y="17112"/>
                  <a:pt x="1723" y="17142"/>
                  <a:pt x="1654" y="17198"/>
                </a:cubicBezTo>
                <a:cubicBezTo>
                  <a:pt x="1611" y="17233"/>
                  <a:pt x="1556" y="17270"/>
                  <a:pt x="1521" y="17297"/>
                </a:cubicBezTo>
                <a:cubicBezTo>
                  <a:pt x="1500" y="17313"/>
                  <a:pt x="1483" y="17359"/>
                  <a:pt x="1455" y="17396"/>
                </a:cubicBezTo>
                <a:cubicBezTo>
                  <a:pt x="1444" y="17411"/>
                  <a:pt x="1405" y="17416"/>
                  <a:pt x="1389" y="17429"/>
                </a:cubicBezTo>
                <a:cubicBezTo>
                  <a:pt x="1389" y="16990"/>
                  <a:pt x="1199" y="15976"/>
                  <a:pt x="1422" y="15610"/>
                </a:cubicBezTo>
                <a:cubicBezTo>
                  <a:pt x="1426" y="15603"/>
                  <a:pt x="1470" y="15569"/>
                  <a:pt x="1488" y="15544"/>
                </a:cubicBezTo>
              </a:path>
              <a:path w="6318" h="4036">
                <a:moveTo>
                  <a:pt x="1885" y="15147"/>
                </a:moveTo>
                <a:cubicBezTo>
                  <a:pt x="1937" y="15134"/>
                  <a:pt x="1964" y="15091"/>
                  <a:pt x="1984" y="15081"/>
                </a:cubicBezTo>
                <a:cubicBezTo>
                  <a:pt x="2028" y="15059"/>
                  <a:pt x="2002" y="15064"/>
                  <a:pt x="2051" y="15048"/>
                </a:cubicBezTo>
                <a:cubicBezTo>
                  <a:pt x="2089" y="15061"/>
                  <a:pt x="2111" y="15093"/>
                  <a:pt x="2117" y="15147"/>
                </a:cubicBezTo>
                <a:cubicBezTo>
                  <a:pt x="2129" y="15254"/>
                  <a:pt x="2111" y="15356"/>
                  <a:pt x="2084" y="15445"/>
                </a:cubicBezTo>
                <a:cubicBezTo>
                  <a:pt x="2073" y="15482"/>
                  <a:pt x="2059" y="15506"/>
                  <a:pt x="2017" y="15511"/>
                </a:cubicBezTo>
                <a:cubicBezTo>
                  <a:pt x="2006" y="15511"/>
                  <a:pt x="1995" y="15511"/>
                  <a:pt x="1984" y="15511"/>
                </a:cubicBezTo>
                <a:cubicBezTo>
                  <a:pt x="1993" y="15476"/>
                  <a:pt x="2036" y="15419"/>
                  <a:pt x="2051" y="15412"/>
                </a:cubicBezTo>
                <a:cubicBezTo>
                  <a:pt x="2108" y="15383"/>
                  <a:pt x="2166" y="15422"/>
                  <a:pt x="2183" y="15445"/>
                </a:cubicBezTo>
                <a:cubicBezTo>
                  <a:pt x="2213" y="15485"/>
                  <a:pt x="2249" y="15540"/>
                  <a:pt x="2282" y="15544"/>
                </a:cubicBezTo>
                <a:cubicBezTo>
                  <a:pt x="2293" y="15544"/>
                  <a:pt x="2304" y="15544"/>
                  <a:pt x="2315" y="15544"/>
                </a:cubicBezTo>
              </a:path>
              <a:path w="6318" h="4036">
                <a:moveTo>
                  <a:pt x="5755" y="16470"/>
                </a:moveTo>
                <a:cubicBezTo>
                  <a:pt x="5857" y="16526"/>
                  <a:pt x="5946" y="16591"/>
                  <a:pt x="6019" y="16702"/>
                </a:cubicBezTo>
                <a:cubicBezTo>
                  <a:pt x="6173" y="16937"/>
                  <a:pt x="6389" y="17127"/>
                  <a:pt x="6548" y="17363"/>
                </a:cubicBezTo>
                <a:cubicBezTo>
                  <a:pt x="6630" y="17485"/>
                  <a:pt x="6707" y="17629"/>
                  <a:pt x="6780" y="17760"/>
                </a:cubicBezTo>
                <a:cubicBezTo>
                  <a:pt x="6732" y="17688"/>
                  <a:pt x="6711" y="17687"/>
                  <a:pt x="6648" y="17628"/>
                </a:cubicBezTo>
                <a:cubicBezTo>
                  <a:pt x="6604" y="17584"/>
                  <a:pt x="6559" y="17540"/>
                  <a:pt x="6515" y="17496"/>
                </a:cubicBezTo>
              </a:path>
              <a:path w="6318" h="4036">
                <a:moveTo>
                  <a:pt x="5655" y="16470"/>
                </a:moveTo>
                <a:cubicBezTo>
                  <a:pt x="5689" y="16470"/>
                  <a:pt x="5700" y="16470"/>
                  <a:pt x="5722" y="16470"/>
                </a:cubicBezTo>
                <a:cubicBezTo>
                  <a:pt x="5722" y="16396"/>
                  <a:pt x="5748" y="16425"/>
                  <a:pt x="5755" y="16371"/>
                </a:cubicBezTo>
                <a:cubicBezTo>
                  <a:pt x="5755" y="16360"/>
                  <a:pt x="5755" y="16349"/>
                  <a:pt x="5755" y="16338"/>
                </a:cubicBezTo>
                <a:cubicBezTo>
                  <a:pt x="5801" y="16368"/>
                  <a:pt x="5791" y="16417"/>
                  <a:pt x="5755" y="16470"/>
                </a:cubicBezTo>
                <a:cubicBezTo>
                  <a:pt x="5744" y="16487"/>
                  <a:pt x="5725" y="16600"/>
                  <a:pt x="5722" y="16603"/>
                </a:cubicBezTo>
                <a:cubicBezTo>
                  <a:pt x="5684" y="16633"/>
                  <a:pt x="5689" y="16632"/>
                  <a:pt x="5689" y="16702"/>
                </a:cubicBezTo>
                <a:cubicBezTo>
                  <a:pt x="5653" y="16644"/>
                  <a:pt x="5655" y="16607"/>
                  <a:pt x="5655" y="16536"/>
                </a:cubicBezTo>
                <a:cubicBezTo>
                  <a:pt x="5655" y="16459"/>
                  <a:pt x="5655" y="16382"/>
                  <a:pt x="5655" y="16305"/>
                </a:cubicBezTo>
                <a:cubicBezTo>
                  <a:pt x="5720" y="16305"/>
                  <a:pt x="5772" y="16334"/>
                  <a:pt x="5788" y="16338"/>
                </a:cubicBezTo>
                <a:cubicBezTo>
                  <a:pt x="5854" y="16356"/>
                  <a:pt x="5891" y="16388"/>
                  <a:pt x="5953" y="16404"/>
                </a:cubicBezTo>
              </a:path>
              <a:path w="6318" h="4036">
                <a:moveTo>
                  <a:pt x="4266" y="16371"/>
                </a:moveTo>
                <a:cubicBezTo>
                  <a:pt x="4325" y="16430"/>
                  <a:pt x="4238" y="16599"/>
                  <a:pt x="4200" y="16702"/>
                </a:cubicBezTo>
                <a:cubicBezTo>
                  <a:pt x="4151" y="16835"/>
                  <a:pt x="4042" y="16951"/>
                  <a:pt x="3969" y="17066"/>
                </a:cubicBezTo>
                <a:cubicBezTo>
                  <a:pt x="3909" y="17161"/>
                  <a:pt x="3885" y="17279"/>
                  <a:pt x="3836" y="17363"/>
                </a:cubicBezTo>
                <a:cubicBezTo>
                  <a:pt x="3818" y="17394"/>
                  <a:pt x="3716" y="17523"/>
                  <a:pt x="3704" y="17529"/>
                </a:cubicBezTo>
                <a:cubicBezTo>
                  <a:pt x="3659" y="17552"/>
                  <a:pt x="3639" y="17559"/>
                  <a:pt x="3671" y="17429"/>
                </a:cubicBezTo>
                <a:cubicBezTo>
                  <a:pt x="3707" y="17357"/>
                  <a:pt x="3723" y="17331"/>
                  <a:pt x="3770" y="17297"/>
                </a:cubicBezTo>
              </a:path>
              <a:path w="6318" h="4036">
                <a:moveTo>
                  <a:pt x="4399" y="16338"/>
                </a:moveTo>
                <a:cubicBezTo>
                  <a:pt x="4338" y="16338"/>
                  <a:pt x="4313" y="16330"/>
                  <a:pt x="4266" y="16371"/>
                </a:cubicBezTo>
                <a:cubicBezTo>
                  <a:pt x="4220" y="16412"/>
                  <a:pt x="4189" y="16437"/>
                  <a:pt x="4167" y="16470"/>
                </a:cubicBezTo>
                <a:cubicBezTo>
                  <a:pt x="4136" y="16439"/>
                  <a:pt x="4235" y="16434"/>
                  <a:pt x="4299" y="16404"/>
                </a:cubicBezTo>
                <a:cubicBezTo>
                  <a:pt x="4346" y="16382"/>
                  <a:pt x="4415" y="16346"/>
                  <a:pt x="4432" y="16338"/>
                </a:cubicBezTo>
                <a:cubicBezTo>
                  <a:pt x="4443" y="16338"/>
                  <a:pt x="4454" y="16338"/>
                  <a:pt x="4465" y="16338"/>
                </a:cubicBezTo>
                <a:cubicBezTo>
                  <a:pt x="4515" y="16355"/>
                  <a:pt x="4498" y="16378"/>
                  <a:pt x="4498" y="16437"/>
                </a:cubicBezTo>
                <a:cubicBezTo>
                  <a:pt x="4498" y="16511"/>
                  <a:pt x="4515" y="16537"/>
                  <a:pt x="4531" y="16570"/>
                </a:cubicBezTo>
                <a:cubicBezTo>
                  <a:pt x="4531" y="16603"/>
                  <a:pt x="4531" y="16614"/>
                  <a:pt x="4531" y="1657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Ink 14"/>
          <p:cNvSpPr/>
          <p:nvPr/>
        </p:nvSpPr>
        <p:spPr>
          <a:xfrm>
            <a:off x="380880" y="6405480"/>
            <a:ext cx="1190880" cy="560520"/>
          </a:xfrm>
          <a:custGeom>
            <a:avLst/>
            <a:gdLst/>
            <a:ahLst/>
            <a:rect l="l" t="t" r="r" b="b"/>
            <a:pathLst>
              <a:path w="3309" h="1556">
                <a:moveTo>
                  <a:pt x="1058" y="17793"/>
                </a:moveTo>
                <a:cubicBezTo>
                  <a:pt x="1069" y="17793"/>
                  <a:pt x="1080" y="17793"/>
                  <a:pt x="1091" y="17793"/>
                </a:cubicBezTo>
                <a:cubicBezTo>
                  <a:pt x="1091" y="17872"/>
                  <a:pt x="1127" y="17884"/>
                  <a:pt x="1158" y="17959"/>
                </a:cubicBezTo>
                <a:cubicBezTo>
                  <a:pt x="1196" y="18052"/>
                  <a:pt x="1191" y="18126"/>
                  <a:pt x="1191" y="18223"/>
                </a:cubicBezTo>
                <a:cubicBezTo>
                  <a:pt x="1224" y="18223"/>
                  <a:pt x="1235" y="18223"/>
                  <a:pt x="1224" y="18256"/>
                </a:cubicBezTo>
              </a:path>
              <a:path w="3309" h="1556">
                <a:moveTo>
                  <a:pt x="1091" y="18521"/>
                </a:moveTo>
                <a:cubicBezTo>
                  <a:pt x="1178" y="18521"/>
                  <a:pt x="1464" y="18483"/>
                  <a:pt x="1488" y="18554"/>
                </a:cubicBezTo>
              </a:path>
              <a:path w="3309" h="1556">
                <a:moveTo>
                  <a:pt x="1091" y="19116"/>
                </a:moveTo>
                <a:cubicBezTo>
                  <a:pt x="1104" y="19076"/>
                  <a:pt x="1119" y="19061"/>
                  <a:pt x="1158" y="19017"/>
                </a:cubicBezTo>
                <a:cubicBezTo>
                  <a:pt x="1215" y="18953"/>
                  <a:pt x="1238" y="18951"/>
                  <a:pt x="1323" y="18951"/>
                </a:cubicBezTo>
                <a:cubicBezTo>
                  <a:pt x="1356" y="18951"/>
                  <a:pt x="1367" y="18951"/>
                  <a:pt x="1389" y="18951"/>
                </a:cubicBezTo>
                <a:cubicBezTo>
                  <a:pt x="1389" y="19012"/>
                  <a:pt x="1416" y="19029"/>
                  <a:pt x="1422" y="19083"/>
                </a:cubicBezTo>
                <a:cubicBezTo>
                  <a:pt x="1426" y="19118"/>
                  <a:pt x="1386" y="19145"/>
                  <a:pt x="1356" y="19149"/>
                </a:cubicBezTo>
                <a:cubicBezTo>
                  <a:pt x="1320" y="19154"/>
                  <a:pt x="1311" y="19212"/>
                  <a:pt x="1257" y="19182"/>
                </a:cubicBezTo>
                <a:cubicBezTo>
                  <a:pt x="1246" y="19171"/>
                  <a:pt x="1235" y="19160"/>
                  <a:pt x="1224" y="19149"/>
                </a:cubicBezTo>
                <a:cubicBezTo>
                  <a:pt x="1274" y="19132"/>
                  <a:pt x="1252" y="19116"/>
                  <a:pt x="1323" y="19116"/>
                </a:cubicBezTo>
                <a:cubicBezTo>
                  <a:pt x="1396" y="19116"/>
                  <a:pt x="1423" y="19107"/>
                  <a:pt x="1455" y="19149"/>
                </a:cubicBezTo>
                <a:cubicBezTo>
                  <a:pt x="1479" y="19181"/>
                  <a:pt x="1511" y="19263"/>
                  <a:pt x="1521" y="19182"/>
                </a:cubicBezTo>
                <a:cubicBezTo>
                  <a:pt x="1521" y="19171"/>
                  <a:pt x="1521" y="19160"/>
                  <a:pt x="1521" y="19149"/>
                </a:cubicBezTo>
              </a:path>
              <a:path w="3309" h="1556">
                <a:moveTo>
                  <a:pt x="2084" y="18190"/>
                </a:moveTo>
                <a:cubicBezTo>
                  <a:pt x="2018" y="18239"/>
                  <a:pt x="1986" y="18264"/>
                  <a:pt x="1951" y="18355"/>
                </a:cubicBezTo>
                <a:cubicBezTo>
                  <a:pt x="1906" y="18471"/>
                  <a:pt x="1858" y="18556"/>
                  <a:pt x="1852" y="18686"/>
                </a:cubicBezTo>
                <a:cubicBezTo>
                  <a:pt x="1848" y="18759"/>
                  <a:pt x="1838" y="18831"/>
                  <a:pt x="1885" y="18885"/>
                </a:cubicBezTo>
                <a:cubicBezTo>
                  <a:pt x="1925" y="18930"/>
                  <a:pt x="1961" y="18918"/>
                  <a:pt x="2017" y="18918"/>
                </a:cubicBezTo>
              </a:path>
              <a:path w="3309" h="1556">
                <a:moveTo>
                  <a:pt x="2051" y="18653"/>
                </a:moveTo>
                <a:cubicBezTo>
                  <a:pt x="2105" y="18626"/>
                  <a:pt x="2113" y="18615"/>
                  <a:pt x="2150" y="18620"/>
                </a:cubicBezTo>
                <a:cubicBezTo>
                  <a:pt x="2177" y="18579"/>
                  <a:pt x="2184" y="18587"/>
                  <a:pt x="2249" y="18587"/>
                </a:cubicBezTo>
                <a:cubicBezTo>
                  <a:pt x="2249" y="18686"/>
                  <a:pt x="2249" y="18786"/>
                  <a:pt x="2249" y="18885"/>
                </a:cubicBezTo>
                <a:cubicBezTo>
                  <a:pt x="2315" y="18885"/>
                  <a:pt x="2381" y="18885"/>
                  <a:pt x="2447" y="18885"/>
                </a:cubicBezTo>
              </a:path>
              <a:path w="3309" h="1556">
                <a:moveTo>
                  <a:pt x="2381" y="18322"/>
                </a:moveTo>
                <a:cubicBezTo>
                  <a:pt x="2418" y="18334"/>
                  <a:pt x="2454" y="18407"/>
                  <a:pt x="2480" y="18422"/>
                </a:cubicBezTo>
                <a:cubicBezTo>
                  <a:pt x="2539" y="18455"/>
                  <a:pt x="2553" y="18512"/>
                  <a:pt x="2580" y="18587"/>
                </a:cubicBezTo>
                <a:cubicBezTo>
                  <a:pt x="2623" y="18705"/>
                  <a:pt x="2672" y="18826"/>
                  <a:pt x="2679" y="18951"/>
                </a:cubicBezTo>
                <a:cubicBezTo>
                  <a:pt x="2685" y="19074"/>
                  <a:pt x="2680" y="19179"/>
                  <a:pt x="2646" y="19282"/>
                </a:cubicBezTo>
                <a:cubicBezTo>
                  <a:pt x="2634" y="19318"/>
                  <a:pt x="2591" y="19400"/>
                  <a:pt x="2580" y="19315"/>
                </a:cubicBezTo>
                <a:cubicBezTo>
                  <a:pt x="2580" y="19304"/>
                  <a:pt x="2580" y="19293"/>
                  <a:pt x="2580" y="19282"/>
                </a:cubicBezTo>
              </a:path>
              <a:path w="3309" h="1556">
                <a:moveTo>
                  <a:pt x="2943" y="18719"/>
                </a:moveTo>
                <a:cubicBezTo>
                  <a:pt x="2943" y="18653"/>
                  <a:pt x="2935" y="18647"/>
                  <a:pt x="2977" y="18620"/>
                </a:cubicBezTo>
                <a:cubicBezTo>
                  <a:pt x="2977" y="18653"/>
                  <a:pt x="2977" y="18686"/>
                  <a:pt x="2977" y="18719"/>
                </a:cubicBezTo>
              </a:path>
              <a:path w="3309" h="1556">
                <a:moveTo>
                  <a:pt x="3208" y="18719"/>
                </a:moveTo>
                <a:cubicBezTo>
                  <a:pt x="3293" y="18719"/>
                  <a:pt x="3351" y="18689"/>
                  <a:pt x="3440" y="18686"/>
                </a:cubicBezTo>
                <a:cubicBezTo>
                  <a:pt x="3583" y="18681"/>
                  <a:pt x="3727" y="18686"/>
                  <a:pt x="3870" y="18686"/>
                </a:cubicBezTo>
              </a:path>
              <a:path w="3309" h="1556">
                <a:moveTo>
                  <a:pt x="4299" y="18091"/>
                </a:moveTo>
                <a:cubicBezTo>
                  <a:pt x="4299" y="18319"/>
                  <a:pt x="4250" y="18690"/>
                  <a:pt x="4333" y="18852"/>
                </a:cubicBezTo>
                <a:cubicBezTo>
                  <a:pt x="4373" y="18931"/>
                  <a:pt x="4338" y="19092"/>
                  <a:pt x="4366" y="19149"/>
                </a:cubicBezTo>
                <a:cubicBezTo>
                  <a:pt x="4376" y="19168"/>
                  <a:pt x="4366" y="19226"/>
                  <a:pt x="4366" y="19248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Ink 15"/>
          <p:cNvSpPr/>
          <p:nvPr/>
        </p:nvSpPr>
        <p:spPr>
          <a:xfrm>
            <a:off x="500040" y="8263080"/>
            <a:ext cx="1452600" cy="333360"/>
          </a:xfrm>
          <a:custGeom>
            <a:avLst/>
            <a:gdLst/>
            <a:ahLst/>
            <a:rect l="l" t="t" r="r" b="b"/>
            <a:pathLst>
              <a:path w="4036" h="927">
                <a:moveTo>
                  <a:pt x="1389" y="23085"/>
                </a:moveTo>
                <a:cubicBezTo>
                  <a:pt x="1400" y="23081"/>
                  <a:pt x="1481" y="23030"/>
                  <a:pt x="1488" y="23019"/>
                </a:cubicBezTo>
                <a:cubicBezTo>
                  <a:pt x="1516" y="22977"/>
                  <a:pt x="1520" y="22986"/>
                  <a:pt x="1588" y="22986"/>
                </a:cubicBezTo>
                <a:cubicBezTo>
                  <a:pt x="1642" y="22986"/>
                  <a:pt x="1757" y="22961"/>
                  <a:pt x="1786" y="23019"/>
                </a:cubicBezTo>
                <a:cubicBezTo>
                  <a:pt x="1821" y="23088"/>
                  <a:pt x="1819" y="23171"/>
                  <a:pt x="1819" y="23250"/>
                </a:cubicBezTo>
                <a:cubicBezTo>
                  <a:pt x="1819" y="23339"/>
                  <a:pt x="1777" y="23332"/>
                  <a:pt x="1753" y="23416"/>
                </a:cubicBezTo>
                <a:cubicBezTo>
                  <a:pt x="1669" y="23440"/>
                  <a:pt x="1644" y="23494"/>
                  <a:pt x="1621" y="23548"/>
                </a:cubicBezTo>
                <a:cubicBezTo>
                  <a:pt x="1618" y="23554"/>
                  <a:pt x="1593" y="23643"/>
                  <a:pt x="1588" y="23647"/>
                </a:cubicBezTo>
                <a:cubicBezTo>
                  <a:pt x="1556" y="23672"/>
                  <a:pt x="1527" y="23661"/>
                  <a:pt x="1521" y="23713"/>
                </a:cubicBezTo>
                <a:cubicBezTo>
                  <a:pt x="1521" y="23746"/>
                  <a:pt x="1521" y="23757"/>
                  <a:pt x="1521" y="23779"/>
                </a:cubicBezTo>
                <a:cubicBezTo>
                  <a:pt x="1786" y="23779"/>
                  <a:pt x="2050" y="23779"/>
                  <a:pt x="2315" y="23779"/>
                </a:cubicBezTo>
              </a:path>
              <a:path w="4036" h="927">
                <a:moveTo>
                  <a:pt x="2514" y="23416"/>
                </a:moveTo>
                <a:cubicBezTo>
                  <a:pt x="2559" y="23401"/>
                  <a:pt x="2555" y="23369"/>
                  <a:pt x="2613" y="23349"/>
                </a:cubicBezTo>
                <a:cubicBezTo>
                  <a:pt x="2920" y="23244"/>
                  <a:pt x="3565" y="23521"/>
                  <a:pt x="3770" y="23316"/>
                </a:cubicBezTo>
              </a:path>
              <a:path w="4036" h="927">
                <a:moveTo>
                  <a:pt x="3770" y="23052"/>
                </a:moveTo>
                <a:cubicBezTo>
                  <a:pt x="3837" y="23052"/>
                  <a:pt x="3848" y="23054"/>
                  <a:pt x="3903" y="23085"/>
                </a:cubicBezTo>
                <a:cubicBezTo>
                  <a:pt x="4029" y="23157"/>
                  <a:pt x="4171" y="23184"/>
                  <a:pt x="4299" y="23250"/>
                </a:cubicBezTo>
                <a:cubicBezTo>
                  <a:pt x="4365" y="23284"/>
                  <a:pt x="4426" y="23304"/>
                  <a:pt x="4498" y="23316"/>
                </a:cubicBezTo>
                <a:cubicBezTo>
                  <a:pt x="4481" y="23385"/>
                  <a:pt x="4370" y="23463"/>
                  <a:pt x="4299" y="23482"/>
                </a:cubicBezTo>
                <a:cubicBezTo>
                  <a:pt x="4181" y="23514"/>
                  <a:pt x="4175" y="23582"/>
                  <a:pt x="4101" y="23614"/>
                </a:cubicBezTo>
                <a:cubicBezTo>
                  <a:pt x="4077" y="23624"/>
                  <a:pt x="4021" y="23671"/>
                  <a:pt x="4002" y="23713"/>
                </a:cubicBezTo>
                <a:cubicBezTo>
                  <a:pt x="3981" y="23761"/>
                  <a:pt x="3925" y="23797"/>
                  <a:pt x="3903" y="23846"/>
                </a:cubicBezTo>
                <a:cubicBezTo>
                  <a:pt x="3903" y="23857"/>
                  <a:pt x="3903" y="23868"/>
                  <a:pt x="3903" y="23879"/>
                </a:cubicBezTo>
              </a:path>
              <a:path w="4036" h="927">
                <a:moveTo>
                  <a:pt x="5126" y="22953"/>
                </a:moveTo>
                <a:cubicBezTo>
                  <a:pt x="5126" y="23111"/>
                  <a:pt x="5052" y="23666"/>
                  <a:pt x="5159" y="23746"/>
                </a:cubicBezTo>
                <a:cubicBezTo>
                  <a:pt x="5190" y="23769"/>
                  <a:pt x="5280" y="23811"/>
                  <a:pt x="5325" y="23779"/>
                </a:cubicBezTo>
                <a:cubicBezTo>
                  <a:pt x="5361" y="23753"/>
                  <a:pt x="5374" y="23649"/>
                  <a:pt x="5391" y="23614"/>
                </a:cubicBezTo>
                <a:cubicBezTo>
                  <a:pt x="5419" y="23558"/>
                  <a:pt x="5424" y="23550"/>
                  <a:pt x="5424" y="23482"/>
                </a:cubicBezTo>
                <a:cubicBezTo>
                  <a:pt x="5424" y="23471"/>
                  <a:pt x="5424" y="23460"/>
                  <a:pt x="5424" y="23449"/>
                </a:cubicBezTo>
                <a:cubicBezTo>
                  <a:pt x="5381" y="23458"/>
                  <a:pt x="5282" y="23469"/>
                  <a:pt x="5259" y="23515"/>
                </a:cubicBezTo>
                <a:cubicBezTo>
                  <a:pt x="5230" y="23573"/>
                  <a:pt x="5251" y="23765"/>
                  <a:pt x="5292" y="23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Ink 16"/>
          <p:cNvSpPr/>
          <p:nvPr/>
        </p:nvSpPr>
        <p:spPr>
          <a:xfrm>
            <a:off x="2976480" y="8238960"/>
            <a:ext cx="166680" cy="262080"/>
          </a:xfrm>
          <a:custGeom>
            <a:avLst/>
            <a:gdLst/>
            <a:ahLst/>
            <a:rect l="l" t="t" r="r" b="b"/>
            <a:pathLst>
              <a:path w="464" h="729">
                <a:moveTo>
                  <a:pt x="8268" y="22886"/>
                </a:moveTo>
                <a:cubicBezTo>
                  <a:pt x="8268" y="23018"/>
                  <a:pt x="8268" y="23151"/>
                  <a:pt x="8268" y="23283"/>
                </a:cubicBezTo>
                <a:cubicBezTo>
                  <a:pt x="8349" y="23283"/>
                  <a:pt x="8383" y="23267"/>
                  <a:pt x="8467" y="23250"/>
                </a:cubicBezTo>
                <a:cubicBezTo>
                  <a:pt x="8537" y="23236"/>
                  <a:pt x="8625" y="23250"/>
                  <a:pt x="8698" y="23250"/>
                </a:cubicBezTo>
              </a:path>
              <a:path w="464" h="729">
                <a:moveTo>
                  <a:pt x="8632" y="22920"/>
                </a:moveTo>
                <a:cubicBezTo>
                  <a:pt x="8632" y="22996"/>
                  <a:pt x="8642" y="23081"/>
                  <a:pt x="8665" y="23151"/>
                </a:cubicBezTo>
                <a:cubicBezTo>
                  <a:pt x="8703" y="23266"/>
                  <a:pt x="8722" y="23395"/>
                  <a:pt x="8731" y="23515"/>
                </a:cubicBezTo>
                <a:cubicBezTo>
                  <a:pt x="8731" y="23559"/>
                  <a:pt x="8731" y="23581"/>
                  <a:pt x="8731" y="23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Ink 17"/>
          <p:cNvSpPr/>
          <p:nvPr/>
        </p:nvSpPr>
        <p:spPr>
          <a:xfrm>
            <a:off x="3381480" y="7416720"/>
            <a:ext cx="488880" cy="1168560"/>
          </a:xfrm>
          <a:custGeom>
            <a:avLst/>
            <a:gdLst/>
            <a:ahLst/>
            <a:rect l="l" t="t" r="r" b="b"/>
            <a:pathLst>
              <a:path w="1357" h="3243">
                <a:moveTo>
                  <a:pt x="9393" y="20803"/>
                </a:moveTo>
                <a:cubicBezTo>
                  <a:pt x="9418" y="20790"/>
                  <a:pt x="9465" y="20790"/>
                  <a:pt x="9492" y="20770"/>
                </a:cubicBezTo>
                <a:cubicBezTo>
                  <a:pt x="9518" y="20750"/>
                  <a:pt x="9539" y="20724"/>
                  <a:pt x="9591" y="20704"/>
                </a:cubicBezTo>
                <a:cubicBezTo>
                  <a:pt x="9627" y="20690"/>
                  <a:pt x="9687" y="20675"/>
                  <a:pt x="9723" y="20671"/>
                </a:cubicBezTo>
                <a:cubicBezTo>
                  <a:pt x="9810" y="20660"/>
                  <a:pt x="9903" y="20647"/>
                  <a:pt x="9988" y="20638"/>
                </a:cubicBezTo>
                <a:cubicBezTo>
                  <a:pt x="10085" y="20627"/>
                  <a:pt x="10186" y="20587"/>
                  <a:pt x="10286" y="20604"/>
                </a:cubicBezTo>
                <a:cubicBezTo>
                  <a:pt x="10345" y="20614"/>
                  <a:pt x="10350" y="20609"/>
                  <a:pt x="10385" y="20638"/>
                </a:cubicBezTo>
                <a:cubicBezTo>
                  <a:pt x="10411" y="20659"/>
                  <a:pt x="10437" y="20770"/>
                  <a:pt x="10451" y="20803"/>
                </a:cubicBezTo>
                <a:cubicBezTo>
                  <a:pt x="10487" y="20887"/>
                  <a:pt x="10481" y="20943"/>
                  <a:pt x="10484" y="21034"/>
                </a:cubicBezTo>
                <a:cubicBezTo>
                  <a:pt x="10490" y="21216"/>
                  <a:pt x="10463" y="21470"/>
                  <a:pt x="10451" y="21597"/>
                </a:cubicBezTo>
                <a:cubicBezTo>
                  <a:pt x="10443" y="21685"/>
                  <a:pt x="10424" y="21862"/>
                  <a:pt x="10484" y="21927"/>
                </a:cubicBezTo>
                <a:cubicBezTo>
                  <a:pt x="10500" y="21944"/>
                  <a:pt x="10539" y="21984"/>
                  <a:pt x="10583" y="21993"/>
                </a:cubicBezTo>
                <a:cubicBezTo>
                  <a:pt x="10635" y="22004"/>
                  <a:pt x="10696" y="21989"/>
                  <a:pt x="10749" y="21993"/>
                </a:cubicBezTo>
                <a:cubicBezTo>
                  <a:pt x="10739" y="22099"/>
                  <a:pt x="10745" y="22152"/>
                  <a:pt x="10649" y="22225"/>
                </a:cubicBezTo>
                <a:cubicBezTo>
                  <a:pt x="10570" y="22285"/>
                  <a:pt x="10531" y="22363"/>
                  <a:pt x="10484" y="22457"/>
                </a:cubicBezTo>
                <a:cubicBezTo>
                  <a:pt x="10459" y="22507"/>
                  <a:pt x="10411" y="22538"/>
                  <a:pt x="10385" y="22589"/>
                </a:cubicBezTo>
                <a:cubicBezTo>
                  <a:pt x="10367" y="22624"/>
                  <a:pt x="10369" y="22684"/>
                  <a:pt x="10352" y="22721"/>
                </a:cubicBezTo>
                <a:cubicBezTo>
                  <a:pt x="10443" y="22738"/>
                  <a:pt x="10441" y="22743"/>
                  <a:pt x="10517" y="22787"/>
                </a:cubicBezTo>
                <a:cubicBezTo>
                  <a:pt x="10552" y="22807"/>
                  <a:pt x="10600" y="22816"/>
                  <a:pt x="10616" y="22886"/>
                </a:cubicBezTo>
                <a:cubicBezTo>
                  <a:pt x="10630" y="22948"/>
                  <a:pt x="10642" y="23023"/>
                  <a:pt x="10649" y="23085"/>
                </a:cubicBezTo>
                <a:cubicBezTo>
                  <a:pt x="10664" y="23224"/>
                  <a:pt x="10649" y="23262"/>
                  <a:pt x="10583" y="23349"/>
                </a:cubicBezTo>
                <a:cubicBezTo>
                  <a:pt x="10504" y="23454"/>
                  <a:pt x="10479" y="23509"/>
                  <a:pt x="10352" y="23614"/>
                </a:cubicBezTo>
                <a:cubicBezTo>
                  <a:pt x="10265" y="23686"/>
                  <a:pt x="10181" y="23785"/>
                  <a:pt x="10087" y="23846"/>
                </a:cubicBezTo>
                <a:cubicBezTo>
                  <a:pt x="10076" y="23846"/>
                  <a:pt x="10065" y="23846"/>
                  <a:pt x="10054" y="2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Ink 18"/>
          <p:cNvSpPr/>
          <p:nvPr/>
        </p:nvSpPr>
        <p:spPr>
          <a:xfrm>
            <a:off x="4154400" y="7632720"/>
            <a:ext cx="978120" cy="344520"/>
          </a:xfrm>
          <a:custGeom>
            <a:avLst/>
            <a:gdLst/>
            <a:ahLst/>
            <a:rect l="l" t="t" r="r" b="b"/>
            <a:pathLst>
              <a:path w="2713" h="960">
                <a:moveTo>
                  <a:pt x="11609" y="21233"/>
                </a:moveTo>
                <a:cubicBezTo>
                  <a:pt x="11626" y="21183"/>
                  <a:pt x="11649" y="21200"/>
                  <a:pt x="11708" y="21200"/>
                </a:cubicBezTo>
                <a:cubicBezTo>
                  <a:pt x="11741" y="21200"/>
                  <a:pt x="11752" y="21200"/>
                  <a:pt x="11774" y="21200"/>
                </a:cubicBezTo>
                <a:cubicBezTo>
                  <a:pt x="11774" y="21308"/>
                  <a:pt x="11804" y="21377"/>
                  <a:pt x="11708" y="21431"/>
                </a:cubicBezTo>
                <a:cubicBezTo>
                  <a:pt x="11636" y="21472"/>
                  <a:pt x="11559" y="21512"/>
                  <a:pt x="11542" y="21597"/>
                </a:cubicBezTo>
                <a:cubicBezTo>
                  <a:pt x="11542" y="21630"/>
                  <a:pt x="11542" y="21641"/>
                  <a:pt x="11542" y="21663"/>
                </a:cubicBezTo>
                <a:cubicBezTo>
                  <a:pt x="11601" y="21673"/>
                  <a:pt x="11624" y="21692"/>
                  <a:pt x="11642" y="21729"/>
                </a:cubicBezTo>
                <a:cubicBezTo>
                  <a:pt x="11671" y="21787"/>
                  <a:pt x="11708" y="21736"/>
                  <a:pt x="11708" y="21828"/>
                </a:cubicBezTo>
                <a:cubicBezTo>
                  <a:pt x="11708" y="21888"/>
                  <a:pt x="11736" y="22052"/>
                  <a:pt x="11675" y="22060"/>
                </a:cubicBezTo>
                <a:cubicBezTo>
                  <a:pt x="11642" y="22060"/>
                  <a:pt x="11631" y="22060"/>
                  <a:pt x="11609" y="22060"/>
                </a:cubicBezTo>
              </a:path>
              <a:path w="2713" h="960">
                <a:moveTo>
                  <a:pt x="12171" y="21663"/>
                </a:moveTo>
                <a:cubicBezTo>
                  <a:pt x="12347" y="21663"/>
                  <a:pt x="12524" y="21663"/>
                  <a:pt x="12700" y="21663"/>
                </a:cubicBezTo>
              </a:path>
              <a:path w="2713" h="960">
                <a:moveTo>
                  <a:pt x="13097" y="21431"/>
                </a:moveTo>
                <a:cubicBezTo>
                  <a:pt x="13097" y="21398"/>
                  <a:pt x="13097" y="21387"/>
                  <a:pt x="13097" y="21365"/>
                </a:cubicBezTo>
                <a:cubicBezTo>
                  <a:pt x="13151" y="21365"/>
                  <a:pt x="13240" y="21368"/>
                  <a:pt x="13262" y="21431"/>
                </a:cubicBezTo>
                <a:cubicBezTo>
                  <a:pt x="13297" y="21529"/>
                  <a:pt x="13237" y="21621"/>
                  <a:pt x="13196" y="21696"/>
                </a:cubicBezTo>
                <a:cubicBezTo>
                  <a:pt x="13129" y="21818"/>
                  <a:pt x="12981" y="21934"/>
                  <a:pt x="12932" y="22060"/>
                </a:cubicBezTo>
                <a:cubicBezTo>
                  <a:pt x="12896" y="22154"/>
                  <a:pt x="12945" y="22099"/>
                  <a:pt x="12865" y="22159"/>
                </a:cubicBezTo>
                <a:cubicBezTo>
                  <a:pt x="12985" y="22159"/>
                  <a:pt x="13094" y="22160"/>
                  <a:pt x="13196" y="22126"/>
                </a:cubicBezTo>
                <a:cubicBezTo>
                  <a:pt x="13200" y="22125"/>
                  <a:pt x="13291" y="22098"/>
                  <a:pt x="13295" y="22093"/>
                </a:cubicBezTo>
                <a:cubicBezTo>
                  <a:pt x="13295" y="22082"/>
                  <a:pt x="13295" y="22071"/>
                  <a:pt x="13295" y="22060"/>
                </a:cubicBezTo>
              </a:path>
              <a:path w="2713" h="960">
                <a:moveTo>
                  <a:pt x="13758" y="21398"/>
                </a:moveTo>
                <a:cubicBezTo>
                  <a:pt x="13758" y="21508"/>
                  <a:pt x="13772" y="21602"/>
                  <a:pt x="13791" y="21696"/>
                </a:cubicBezTo>
                <a:cubicBezTo>
                  <a:pt x="13808" y="21783"/>
                  <a:pt x="13824" y="21870"/>
                  <a:pt x="13824" y="21960"/>
                </a:cubicBezTo>
                <a:cubicBezTo>
                  <a:pt x="13824" y="22034"/>
                  <a:pt x="13824" y="22096"/>
                  <a:pt x="13824" y="21993"/>
                </a:cubicBezTo>
              </a:path>
              <a:path w="2713" h="960">
                <a:moveTo>
                  <a:pt x="13924" y="21299"/>
                </a:moveTo>
                <a:cubicBezTo>
                  <a:pt x="13961" y="21311"/>
                  <a:pt x="13986" y="21344"/>
                  <a:pt x="13990" y="21398"/>
                </a:cubicBezTo>
                <a:cubicBezTo>
                  <a:pt x="13998" y="21503"/>
                  <a:pt x="14067" y="21564"/>
                  <a:pt x="14089" y="21663"/>
                </a:cubicBezTo>
                <a:cubicBezTo>
                  <a:pt x="14107" y="21744"/>
                  <a:pt x="14109" y="21848"/>
                  <a:pt x="14122" y="21927"/>
                </a:cubicBezTo>
                <a:cubicBezTo>
                  <a:pt x="14122" y="21987"/>
                  <a:pt x="14118" y="22004"/>
                  <a:pt x="14155" y="22027"/>
                </a:cubicBezTo>
                <a:cubicBezTo>
                  <a:pt x="14155" y="21969"/>
                  <a:pt x="14157" y="21974"/>
                  <a:pt x="14122" y="21927"/>
                </a:cubicBezTo>
              </a:path>
              <a:path w="2713" h="960">
                <a:moveTo>
                  <a:pt x="13560" y="21564"/>
                </a:moveTo>
                <a:cubicBezTo>
                  <a:pt x="13560" y="21515"/>
                  <a:pt x="13551" y="21393"/>
                  <a:pt x="13593" y="21365"/>
                </a:cubicBezTo>
                <a:cubicBezTo>
                  <a:pt x="13640" y="21333"/>
                  <a:pt x="13710" y="21323"/>
                  <a:pt x="13758" y="21299"/>
                </a:cubicBezTo>
                <a:cubicBezTo>
                  <a:pt x="13797" y="21279"/>
                  <a:pt x="13837" y="21176"/>
                  <a:pt x="13891" y="21200"/>
                </a:cubicBezTo>
                <a:cubicBezTo>
                  <a:pt x="13953" y="21228"/>
                  <a:pt x="13980" y="21319"/>
                  <a:pt x="14023" y="21365"/>
                </a:cubicBezTo>
                <a:cubicBezTo>
                  <a:pt x="14076" y="21422"/>
                  <a:pt x="14155" y="21608"/>
                  <a:pt x="14155" y="21530"/>
                </a:cubicBezTo>
                <a:cubicBezTo>
                  <a:pt x="14155" y="21441"/>
                  <a:pt x="14182" y="21492"/>
                  <a:pt x="14188" y="21398"/>
                </a:cubicBezTo>
                <a:cubicBezTo>
                  <a:pt x="14193" y="21319"/>
                  <a:pt x="14205" y="21294"/>
                  <a:pt x="14254" y="212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Ink 19"/>
          <p:cNvSpPr/>
          <p:nvPr/>
        </p:nvSpPr>
        <p:spPr>
          <a:xfrm>
            <a:off x="322200" y="7453440"/>
            <a:ext cx="3297240" cy="761760"/>
          </a:xfrm>
          <a:custGeom>
            <a:avLst/>
            <a:gdLst/>
            <a:ahLst/>
            <a:rect l="l" t="t" r="r" b="b"/>
            <a:pathLst>
              <a:path w="9162" h="2117">
                <a:moveTo>
                  <a:pt x="893" y="21200"/>
                </a:moveTo>
                <a:cubicBezTo>
                  <a:pt x="1102" y="21200"/>
                  <a:pt x="1312" y="21200"/>
                  <a:pt x="1521" y="21200"/>
                </a:cubicBezTo>
              </a:path>
              <a:path w="9162" h="2117">
                <a:moveTo>
                  <a:pt x="1687" y="20737"/>
                </a:moveTo>
                <a:cubicBezTo>
                  <a:pt x="1687" y="20957"/>
                  <a:pt x="1687" y="21178"/>
                  <a:pt x="1687" y="21398"/>
                </a:cubicBezTo>
                <a:cubicBezTo>
                  <a:pt x="1856" y="21398"/>
                  <a:pt x="2285" y="21461"/>
                  <a:pt x="2381" y="21365"/>
                </a:cubicBezTo>
              </a:path>
              <a:path w="9162" h="2117">
                <a:moveTo>
                  <a:pt x="2315" y="20836"/>
                </a:moveTo>
                <a:cubicBezTo>
                  <a:pt x="2315" y="20944"/>
                  <a:pt x="2333" y="21030"/>
                  <a:pt x="2348" y="21134"/>
                </a:cubicBezTo>
                <a:cubicBezTo>
                  <a:pt x="2372" y="21301"/>
                  <a:pt x="2409" y="21424"/>
                  <a:pt x="2414" y="21597"/>
                </a:cubicBezTo>
                <a:cubicBezTo>
                  <a:pt x="2418" y="21734"/>
                  <a:pt x="2475" y="21804"/>
                  <a:pt x="2514" y="21927"/>
                </a:cubicBezTo>
                <a:cubicBezTo>
                  <a:pt x="2544" y="22022"/>
                  <a:pt x="2547" y="21982"/>
                  <a:pt x="2547" y="21894"/>
                </a:cubicBezTo>
                <a:cubicBezTo>
                  <a:pt x="2547" y="21883"/>
                  <a:pt x="2547" y="21872"/>
                  <a:pt x="2547" y="21861"/>
                </a:cubicBezTo>
              </a:path>
              <a:path w="9162" h="2117">
                <a:moveTo>
                  <a:pt x="2745" y="21365"/>
                </a:moveTo>
                <a:cubicBezTo>
                  <a:pt x="2864" y="21365"/>
                  <a:pt x="2857" y="21347"/>
                  <a:pt x="2977" y="21299"/>
                </a:cubicBezTo>
                <a:cubicBezTo>
                  <a:pt x="3087" y="21255"/>
                  <a:pt x="3223" y="21266"/>
                  <a:pt x="3340" y="21266"/>
                </a:cubicBezTo>
                <a:cubicBezTo>
                  <a:pt x="3429" y="21266"/>
                  <a:pt x="3470" y="21223"/>
                  <a:pt x="3539" y="21200"/>
                </a:cubicBezTo>
                <a:cubicBezTo>
                  <a:pt x="3600" y="21180"/>
                  <a:pt x="3705" y="21200"/>
                  <a:pt x="3770" y="21200"/>
                </a:cubicBezTo>
              </a:path>
              <a:path w="9162" h="2117">
                <a:moveTo>
                  <a:pt x="3737" y="21001"/>
                </a:moveTo>
                <a:cubicBezTo>
                  <a:pt x="3870" y="21001"/>
                  <a:pt x="3906" y="21070"/>
                  <a:pt x="4035" y="21101"/>
                </a:cubicBezTo>
                <a:cubicBezTo>
                  <a:pt x="4163" y="21132"/>
                  <a:pt x="4300" y="21184"/>
                  <a:pt x="4432" y="21200"/>
                </a:cubicBezTo>
                <a:cubicBezTo>
                  <a:pt x="4432" y="21238"/>
                  <a:pt x="4423" y="21312"/>
                  <a:pt x="4399" y="21332"/>
                </a:cubicBezTo>
                <a:cubicBezTo>
                  <a:pt x="4320" y="21396"/>
                  <a:pt x="4299" y="21471"/>
                  <a:pt x="4233" y="21564"/>
                </a:cubicBezTo>
                <a:cubicBezTo>
                  <a:pt x="4186" y="21630"/>
                  <a:pt x="4197" y="21716"/>
                  <a:pt x="4167" y="21795"/>
                </a:cubicBezTo>
                <a:cubicBezTo>
                  <a:pt x="4139" y="21869"/>
                  <a:pt x="4145" y="21934"/>
                  <a:pt x="4101" y="21993"/>
                </a:cubicBezTo>
              </a:path>
              <a:path w="9162" h="2117">
                <a:moveTo>
                  <a:pt x="4663" y="20869"/>
                </a:moveTo>
                <a:cubicBezTo>
                  <a:pt x="4663" y="20799"/>
                  <a:pt x="4695" y="20764"/>
                  <a:pt x="4763" y="20737"/>
                </a:cubicBezTo>
                <a:cubicBezTo>
                  <a:pt x="4804" y="20721"/>
                  <a:pt x="4876" y="20678"/>
                  <a:pt x="4928" y="20704"/>
                </a:cubicBezTo>
                <a:cubicBezTo>
                  <a:pt x="4971" y="20725"/>
                  <a:pt x="5031" y="20757"/>
                  <a:pt x="5060" y="20803"/>
                </a:cubicBezTo>
                <a:cubicBezTo>
                  <a:pt x="5121" y="20898"/>
                  <a:pt x="5126" y="20957"/>
                  <a:pt x="5126" y="21067"/>
                </a:cubicBezTo>
                <a:cubicBezTo>
                  <a:pt x="5126" y="21242"/>
                  <a:pt x="5163" y="21472"/>
                  <a:pt x="5093" y="21630"/>
                </a:cubicBezTo>
                <a:cubicBezTo>
                  <a:pt x="5058" y="21709"/>
                  <a:pt x="5004" y="21800"/>
                  <a:pt x="4961" y="21861"/>
                </a:cubicBezTo>
                <a:cubicBezTo>
                  <a:pt x="4927" y="21909"/>
                  <a:pt x="4881" y="21894"/>
                  <a:pt x="4829" y="21894"/>
                </a:cubicBezTo>
                <a:cubicBezTo>
                  <a:pt x="4796" y="21894"/>
                  <a:pt x="4762" y="21894"/>
                  <a:pt x="4729" y="21894"/>
                </a:cubicBezTo>
                <a:cubicBezTo>
                  <a:pt x="4729" y="21801"/>
                  <a:pt x="4750" y="21708"/>
                  <a:pt x="4763" y="21663"/>
                </a:cubicBezTo>
                <a:cubicBezTo>
                  <a:pt x="4763" y="21641"/>
                  <a:pt x="4763" y="21619"/>
                  <a:pt x="4763" y="21597"/>
                </a:cubicBezTo>
                <a:cubicBezTo>
                  <a:pt x="4849" y="21597"/>
                  <a:pt x="4963" y="21573"/>
                  <a:pt x="5027" y="21630"/>
                </a:cubicBezTo>
                <a:cubicBezTo>
                  <a:pt x="5068" y="21667"/>
                  <a:pt x="5110" y="21713"/>
                  <a:pt x="5159" y="21729"/>
                </a:cubicBezTo>
                <a:cubicBezTo>
                  <a:pt x="5212" y="21747"/>
                  <a:pt x="5172" y="21744"/>
                  <a:pt x="5226" y="21762"/>
                </a:cubicBezTo>
              </a:path>
              <a:path w="9162" h="2117">
                <a:moveTo>
                  <a:pt x="5887" y="21200"/>
                </a:moveTo>
                <a:cubicBezTo>
                  <a:pt x="6052" y="21200"/>
                  <a:pt x="6218" y="21200"/>
                  <a:pt x="6383" y="21200"/>
                </a:cubicBezTo>
              </a:path>
              <a:path w="9162" h="2117">
                <a:moveTo>
                  <a:pt x="6681" y="20737"/>
                </a:moveTo>
                <a:cubicBezTo>
                  <a:pt x="6594" y="20759"/>
                  <a:pt x="6598" y="20831"/>
                  <a:pt x="6548" y="20902"/>
                </a:cubicBezTo>
                <a:cubicBezTo>
                  <a:pt x="6509" y="20957"/>
                  <a:pt x="6471" y="21061"/>
                  <a:pt x="6449" y="21134"/>
                </a:cubicBezTo>
                <a:cubicBezTo>
                  <a:pt x="6435" y="21180"/>
                  <a:pt x="6412" y="21331"/>
                  <a:pt x="6383" y="21365"/>
                </a:cubicBezTo>
                <a:cubicBezTo>
                  <a:pt x="6354" y="21398"/>
                  <a:pt x="6350" y="21428"/>
                  <a:pt x="6350" y="21497"/>
                </a:cubicBezTo>
                <a:cubicBezTo>
                  <a:pt x="6350" y="21639"/>
                  <a:pt x="6379" y="21643"/>
                  <a:pt x="6416" y="21729"/>
                </a:cubicBezTo>
                <a:cubicBezTo>
                  <a:pt x="6441" y="21787"/>
                  <a:pt x="6459" y="21854"/>
                  <a:pt x="6482" y="21894"/>
                </a:cubicBezTo>
                <a:cubicBezTo>
                  <a:pt x="6507" y="21939"/>
                  <a:pt x="6533" y="21928"/>
                  <a:pt x="6582" y="21960"/>
                </a:cubicBezTo>
                <a:cubicBezTo>
                  <a:pt x="6654" y="22008"/>
                  <a:pt x="6720" y="22084"/>
                  <a:pt x="6780" y="22126"/>
                </a:cubicBezTo>
                <a:cubicBezTo>
                  <a:pt x="6820" y="22154"/>
                  <a:pt x="6857" y="22235"/>
                  <a:pt x="6879" y="22192"/>
                </a:cubicBezTo>
                <a:cubicBezTo>
                  <a:pt x="6879" y="22159"/>
                  <a:pt x="6879" y="22148"/>
                  <a:pt x="6846" y="22159"/>
                </a:cubicBezTo>
              </a:path>
              <a:path w="9162" h="2117">
                <a:moveTo>
                  <a:pt x="7078" y="21233"/>
                </a:moveTo>
                <a:cubicBezTo>
                  <a:pt x="7078" y="21335"/>
                  <a:pt x="7110" y="21399"/>
                  <a:pt x="7144" y="21497"/>
                </a:cubicBezTo>
                <a:cubicBezTo>
                  <a:pt x="7168" y="21568"/>
                  <a:pt x="7177" y="21702"/>
                  <a:pt x="7210" y="21762"/>
                </a:cubicBezTo>
                <a:cubicBezTo>
                  <a:pt x="7221" y="21773"/>
                  <a:pt x="7232" y="21784"/>
                  <a:pt x="7243" y="21795"/>
                </a:cubicBezTo>
              </a:path>
              <a:path w="9162" h="2117">
                <a:moveTo>
                  <a:pt x="7673" y="21365"/>
                </a:moveTo>
                <a:cubicBezTo>
                  <a:pt x="7706" y="21365"/>
                  <a:pt x="7717" y="21365"/>
                  <a:pt x="7739" y="21365"/>
                </a:cubicBezTo>
                <a:cubicBezTo>
                  <a:pt x="7739" y="21426"/>
                  <a:pt x="7766" y="21443"/>
                  <a:pt x="7772" y="21497"/>
                </a:cubicBezTo>
                <a:cubicBezTo>
                  <a:pt x="7780" y="21567"/>
                  <a:pt x="7820" y="21631"/>
                  <a:pt x="7838" y="21696"/>
                </a:cubicBezTo>
                <a:cubicBezTo>
                  <a:pt x="7860" y="21777"/>
                  <a:pt x="7890" y="21865"/>
                  <a:pt x="7938" y="21927"/>
                </a:cubicBezTo>
                <a:cubicBezTo>
                  <a:pt x="7893" y="21927"/>
                  <a:pt x="7882" y="21916"/>
                  <a:pt x="7904" y="21861"/>
                </a:cubicBezTo>
              </a:path>
              <a:path w="9162" h="2117">
                <a:moveTo>
                  <a:pt x="7673" y="21729"/>
                </a:moveTo>
                <a:cubicBezTo>
                  <a:pt x="7762" y="21714"/>
                  <a:pt x="7852" y="21677"/>
                  <a:pt x="7938" y="21663"/>
                </a:cubicBezTo>
                <a:cubicBezTo>
                  <a:pt x="8007" y="21652"/>
                  <a:pt x="8066" y="21630"/>
                  <a:pt x="8136" y="21630"/>
                </a:cubicBezTo>
              </a:path>
              <a:path w="9162" h="2117">
                <a:moveTo>
                  <a:pt x="8103" y="21398"/>
                </a:moveTo>
                <a:cubicBezTo>
                  <a:pt x="8114" y="21364"/>
                  <a:pt x="8128" y="21335"/>
                  <a:pt x="8169" y="21332"/>
                </a:cubicBezTo>
                <a:cubicBezTo>
                  <a:pt x="8269" y="21324"/>
                  <a:pt x="8381" y="21339"/>
                  <a:pt x="8434" y="21365"/>
                </a:cubicBezTo>
                <a:cubicBezTo>
                  <a:pt x="8466" y="21381"/>
                  <a:pt x="8491" y="21472"/>
                  <a:pt x="8467" y="21530"/>
                </a:cubicBezTo>
                <a:cubicBezTo>
                  <a:pt x="8438" y="21601"/>
                  <a:pt x="8354" y="21681"/>
                  <a:pt x="8334" y="21729"/>
                </a:cubicBezTo>
                <a:cubicBezTo>
                  <a:pt x="8316" y="21774"/>
                  <a:pt x="8334" y="21876"/>
                  <a:pt x="8334" y="21927"/>
                </a:cubicBezTo>
                <a:cubicBezTo>
                  <a:pt x="8433" y="21927"/>
                  <a:pt x="8821" y="21965"/>
                  <a:pt x="8830" y="21894"/>
                </a:cubicBezTo>
                <a:cubicBezTo>
                  <a:pt x="8830" y="21883"/>
                  <a:pt x="8830" y="21872"/>
                  <a:pt x="8830" y="21861"/>
                </a:cubicBezTo>
              </a:path>
              <a:path w="9162" h="2117">
                <a:moveTo>
                  <a:pt x="8864" y="21365"/>
                </a:moveTo>
                <a:cubicBezTo>
                  <a:pt x="8904" y="21418"/>
                  <a:pt x="8870" y="21449"/>
                  <a:pt x="8897" y="21497"/>
                </a:cubicBezTo>
                <a:cubicBezTo>
                  <a:pt x="8933" y="21561"/>
                  <a:pt x="8900" y="21635"/>
                  <a:pt x="8930" y="21696"/>
                </a:cubicBezTo>
                <a:cubicBezTo>
                  <a:pt x="8955" y="21747"/>
                  <a:pt x="8963" y="21764"/>
                  <a:pt x="8963" y="21828"/>
                </a:cubicBezTo>
                <a:cubicBezTo>
                  <a:pt x="9007" y="21858"/>
                  <a:pt x="8996" y="21893"/>
                  <a:pt x="8996" y="21960"/>
                </a:cubicBezTo>
              </a:path>
              <a:path w="9162" h="2117">
                <a:moveTo>
                  <a:pt x="9128" y="21398"/>
                </a:moveTo>
                <a:cubicBezTo>
                  <a:pt x="9198" y="21415"/>
                  <a:pt x="9182" y="21447"/>
                  <a:pt x="9227" y="21497"/>
                </a:cubicBezTo>
                <a:cubicBezTo>
                  <a:pt x="9285" y="21562"/>
                  <a:pt x="9280" y="21679"/>
                  <a:pt x="9327" y="21762"/>
                </a:cubicBezTo>
                <a:cubicBezTo>
                  <a:pt x="9360" y="21820"/>
                  <a:pt x="9360" y="21857"/>
                  <a:pt x="9360" y="21927"/>
                </a:cubicBezTo>
                <a:cubicBezTo>
                  <a:pt x="9360" y="21938"/>
                  <a:pt x="9360" y="21949"/>
                  <a:pt x="9360" y="21960"/>
                </a:cubicBezTo>
              </a:path>
              <a:path w="9162" h="2117">
                <a:moveTo>
                  <a:pt x="8698" y="21497"/>
                </a:moveTo>
                <a:cubicBezTo>
                  <a:pt x="8709" y="21464"/>
                  <a:pt x="8776" y="21440"/>
                  <a:pt x="8830" y="21431"/>
                </a:cubicBezTo>
                <a:cubicBezTo>
                  <a:pt x="8954" y="21409"/>
                  <a:pt x="9099" y="21431"/>
                  <a:pt x="9227" y="21431"/>
                </a:cubicBezTo>
              </a:path>
              <a:path w="9162" h="2117">
                <a:moveTo>
                  <a:pt x="9558" y="21034"/>
                </a:moveTo>
                <a:cubicBezTo>
                  <a:pt x="9667" y="21089"/>
                  <a:pt x="9762" y="21159"/>
                  <a:pt x="9856" y="21266"/>
                </a:cubicBezTo>
                <a:cubicBezTo>
                  <a:pt x="9958" y="21382"/>
                  <a:pt x="10033" y="21541"/>
                  <a:pt x="10054" y="21696"/>
                </a:cubicBezTo>
                <a:cubicBezTo>
                  <a:pt x="10080" y="21887"/>
                  <a:pt x="10052" y="22023"/>
                  <a:pt x="9988" y="22192"/>
                </a:cubicBezTo>
                <a:cubicBezTo>
                  <a:pt x="9963" y="22259"/>
                  <a:pt x="9930" y="22445"/>
                  <a:pt x="9889" y="22490"/>
                </a:cubicBezTo>
                <a:cubicBezTo>
                  <a:pt x="9852" y="22531"/>
                  <a:pt x="9783" y="22586"/>
                  <a:pt x="9757" y="22622"/>
                </a:cubicBezTo>
                <a:cubicBezTo>
                  <a:pt x="9718" y="22676"/>
                  <a:pt x="9684" y="22787"/>
                  <a:pt x="9624" y="22820"/>
                </a:cubicBezTo>
                <a:cubicBezTo>
                  <a:pt x="9613" y="22820"/>
                  <a:pt x="9602" y="22820"/>
                  <a:pt x="9591" y="22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Ink 20"/>
          <p:cNvSpPr/>
          <p:nvPr/>
        </p:nvSpPr>
        <p:spPr>
          <a:xfrm>
            <a:off x="368280" y="5537160"/>
            <a:ext cx="3179880" cy="119160"/>
          </a:xfrm>
          <a:custGeom>
            <a:avLst/>
            <a:gdLst/>
            <a:ahLst/>
            <a:rect l="l" t="t" r="r" b="b"/>
            <a:pathLst>
              <a:path w="8832" h="332">
                <a:moveTo>
                  <a:pt x="1025" y="15710"/>
                </a:moveTo>
                <a:cubicBezTo>
                  <a:pt x="1086" y="15692"/>
                  <a:pt x="1078" y="15698"/>
                  <a:pt x="1124" y="15677"/>
                </a:cubicBezTo>
                <a:cubicBezTo>
                  <a:pt x="1188" y="15648"/>
                  <a:pt x="1250" y="15628"/>
                  <a:pt x="1323" y="15610"/>
                </a:cubicBezTo>
                <a:cubicBezTo>
                  <a:pt x="1377" y="15597"/>
                  <a:pt x="1442" y="15588"/>
                  <a:pt x="1488" y="15577"/>
                </a:cubicBezTo>
                <a:cubicBezTo>
                  <a:pt x="1554" y="15561"/>
                  <a:pt x="1622" y="15550"/>
                  <a:pt x="1687" y="15544"/>
                </a:cubicBezTo>
                <a:cubicBezTo>
                  <a:pt x="2004" y="15517"/>
                  <a:pt x="2307" y="15560"/>
                  <a:pt x="2613" y="15610"/>
                </a:cubicBezTo>
                <a:cubicBezTo>
                  <a:pt x="2747" y="15632"/>
                  <a:pt x="2874" y="15640"/>
                  <a:pt x="3010" y="15643"/>
                </a:cubicBezTo>
                <a:cubicBezTo>
                  <a:pt x="3672" y="15655"/>
                  <a:pt x="4334" y="15677"/>
                  <a:pt x="4994" y="15677"/>
                </a:cubicBezTo>
                <a:cubicBezTo>
                  <a:pt x="5858" y="15677"/>
                  <a:pt x="6725" y="15686"/>
                  <a:pt x="7574" y="15610"/>
                </a:cubicBezTo>
                <a:cubicBezTo>
                  <a:pt x="7665" y="15602"/>
                  <a:pt x="7753" y="15584"/>
                  <a:pt x="7838" y="15577"/>
                </a:cubicBezTo>
                <a:cubicBezTo>
                  <a:pt x="8138" y="15554"/>
                  <a:pt x="8439" y="15586"/>
                  <a:pt x="8731" y="15544"/>
                </a:cubicBezTo>
                <a:cubicBezTo>
                  <a:pt x="8875" y="15523"/>
                  <a:pt x="9023" y="15506"/>
                  <a:pt x="9161" y="15478"/>
                </a:cubicBezTo>
                <a:cubicBezTo>
                  <a:pt x="9239" y="15462"/>
                  <a:pt x="9312" y="15420"/>
                  <a:pt x="9393" y="15412"/>
                </a:cubicBezTo>
                <a:cubicBezTo>
                  <a:pt x="9541" y="15397"/>
                  <a:pt x="9756" y="15395"/>
                  <a:pt x="9856" y="153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Ink 2"/>
          <p:cNvSpPr/>
          <p:nvPr/>
        </p:nvSpPr>
        <p:spPr>
          <a:xfrm>
            <a:off x="787320" y="1419120"/>
            <a:ext cx="1452600" cy="333360"/>
          </a:xfrm>
          <a:custGeom>
            <a:avLst/>
            <a:gdLst/>
            <a:ahLst/>
            <a:rect l="l" t="t" r="r" b="b"/>
            <a:pathLst>
              <a:path w="4036" h="927">
                <a:moveTo>
                  <a:pt x="1389" y="23085"/>
                </a:moveTo>
                <a:cubicBezTo>
                  <a:pt x="1400" y="23081"/>
                  <a:pt x="1481" y="23030"/>
                  <a:pt x="1488" y="23019"/>
                </a:cubicBezTo>
                <a:cubicBezTo>
                  <a:pt x="1516" y="22977"/>
                  <a:pt x="1520" y="22986"/>
                  <a:pt x="1588" y="22986"/>
                </a:cubicBezTo>
                <a:cubicBezTo>
                  <a:pt x="1642" y="22986"/>
                  <a:pt x="1757" y="22961"/>
                  <a:pt x="1786" y="23019"/>
                </a:cubicBezTo>
                <a:cubicBezTo>
                  <a:pt x="1821" y="23088"/>
                  <a:pt x="1819" y="23171"/>
                  <a:pt x="1819" y="23250"/>
                </a:cubicBezTo>
                <a:cubicBezTo>
                  <a:pt x="1819" y="23339"/>
                  <a:pt x="1777" y="23332"/>
                  <a:pt x="1753" y="23416"/>
                </a:cubicBezTo>
                <a:cubicBezTo>
                  <a:pt x="1669" y="23440"/>
                  <a:pt x="1644" y="23494"/>
                  <a:pt x="1621" y="23548"/>
                </a:cubicBezTo>
                <a:cubicBezTo>
                  <a:pt x="1618" y="23554"/>
                  <a:pt x="1593" y="23643"/>
                  <a:pt x="1588" y="23647"/>
                </a:cubicBezTo>
                <a:cubicBezTo>
                  <a:pt x="1556" y="23672"/>
                  <a:pt x="1527" y="23661"/>
                  <a:pt x="1521" y="23713"/>
                </a:cubicBezTo>
                <a:cubicBezTo>
                  <a:pt x="1521" y="23746"/>
                  <a:pt x="1521" y="23757"/>
                  <a:pt x="1521" y="23779"/>
                </a:cubicBezTo>
                <a:cubicBezTo>
                  <a:pt x="1786" y="23779"/>
                  <a:pt x="2050" y="23779"/>
                  <a:pt x="2315" y="23779"/>
                </a:cubicBezTo>
              </a:path>
              <a:path w="4036" h="927">
                <a:moveTo>
                  <a:pt x="2514" y="23416"/>
                </a:moveTo>
                <a:cubicBezTo>
                  <a:pt x="2559" y="23401"/>
                  <a:pt x="2555" y="23369"/>
                  <a:pt x="2613" y="23349"/>
                </a:cubicBezTo>
                <a:cubicBezTo>
                  <a:pt x="2920" y="23244"/>
                  <a:pt x="3565" y="23521"/>
                  <a:pt x="3770" y="23316"/>
                </a:cubicBezTo>
              </a:path>
              <a:path w="4036" h="927">
                <a:moveTo>
                  <a:pt x="3770" y="23052"/>
                </a:moveTo>
                <a:cubicBezTo>
                  <a:pt x="3837" y="23052"/>
                  <a:pt x="3848" y="23054"/>
                  <a:pt x="3903" y="23085"/>
                </a:cubicBezTo>
                <a:cubicBezTo>
                  <a:pt x="4029" y="23157"/>
                  <a:pt x="4171" y="23184"/>
                  <a:pt x="4299" y="23250"/>
                </a:cubicBezTo>
                <a:cubicBezTo>
                  <a:pt x="4365" y="23284"/>
                  <a:pt x="4426" y="23304"/>
                  <a:pt x="4498" y="23316"/>
                </a:cubicBezTo>
                <a:cubicBezTo>
                  <a:pt x="4481" y="23385"/>
                  <a:pt x="4370" y="23463"/>
                  <a:pt x="4299" y="23482"/>
                </a:cubicBezTo>
                <a:cubicBezTo>
                  <a:pt x="4181" y="23514"/>
                  <a:pt x="4175" y="23582"/>
                  <a:pt x="4101" y="23614"/>
                </a:cubicBezTo>
                <a:cubicBezTo>
                  <a:pt x="4077" y="23624"/>
                  <a:pt x="4021" y="23671"/>
                  <a:pt x="4002" y="23713"/>
                </a:cubicBezTo>
                <a:cubicBezTo>
                  <a:pt x="3981" y="23761"/>
                  <a:pt x="3925" y="23797"/>
                  <a:pt x="3903" y="23846"/>
                </a:cubicBezTo>
                <a:cubicBezTo>
                  <a:pt x="3903" y="23857"/>
                  <a:pt x="3903" y="23868"/>
                  <a:pt x="3903" y="23879"/>
                </a:cubicBezTo>
              </a:path>
              <a:path w="4036" h="927">
                <a:moveTo>
                  <a:pt x="5126" y="22953"/>
                </a:moveTo>
                <a:cubicBezTo>
                  <a:pt x="5126" y="23111"/>
                  <a:pt x="5052" y="23666"/>
                  <a:pt x="5159" y="23746"/>
                </a:cubicBezTo>
                <a:cubicBezTo>
                  <a:pt x="5190" y="23769"/>
                  <a:pt x="5280" y="23811"/>
                  <a:pt x="5325" y="23779"/>
                </a:cubicBezTo>
                <a:cubicBezTo>
                  <a:pt x="5361" y="23753"/>
                  <a:pt x="5374" y="23649"/>
                  <a:pt x="5391" y="23614"/>
                </a:cubicBezTo>
                <a:cubicBezTo>
                  <a:pt x="5419" y="23558"/>
                  <a:pt x="5424" y="23550"/>
                  <a:pt x="5424" y="23482"/>
                </a:cubicBezTo>
                <a:cubicBezTo>
                  <a:pt x="5424" y="23471"/>
                  <a:pt x="5424" y="23460"/>
                  <a:pt x="5424" y="23449"/>
                </a:cubicBezTo>
                <a:cubicBezTo>
                  <a:pt x="5381" y="23458"/>
                  <a:pt x="5282" y="23469"/>
                  <a:pt x="5259" y="23515"/>
                </a:cubicBezTo>
                <a:cubicBezTo>
                  <a:pt x="5230" y="23573"/>
                  <a:pt x="5251" y="23765"/>
                  <a:pt x="5292" y="23779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Ink 3"/>
          <p:cNvSpPr/>
          <p:nvPr/>
        </p:nvSpPr>
        <p:spPr>
          <a:xfrm>
            <a:off x="3263760" y="1395360"/>
            <a:ext cx="166680" cy="262080"/>
          </a:xfrm>
          <a:custGeom>
            <a:avLst/>
            <a:gdLst/>
            <a:ahLst/>
            <a:rect l="l" t="t" r="r" b="b"/>
            <a:pathLst>
              <a:path w="464" h="729">
                <a:moveTo>
                  <a:pt x="8268" y="22886"/>
                </a:moveTo>
                <a:cubicBezTo>
                  <a:pt x="8268" y="23018"/>
                  <a:pt x="8268" y="23151"/>
                  <a:pt x="8268" y="23283"/>
                </a:cubicBezTo>
                <a:cubicBezTo>
                  <a:pt x="8349" y="23283"/>
                  <a:pt x="8383" y="23267"/>
                  <a:pt x="8467" y="23250"/>
                </a:cubicBezTo>
                <a:cubicBezTo>
                  <a:pt x="8537" y="23236"/>
                  <a:pt x="8625" y="23250"/>
                  <a:pt x="8698" y="23250"/>
                </a:cubicBezTo>
              </a:path>
              <a:path w="464" h="729">
                <a:moveTo>
                  <a:pt x="8632" y="22920"/>
                </a:moveTo>
                <a:cubicBezTo>
                  <a:pt x="8632" y="22996"/>
                  <a:pt x="8642" y="23081"/>
                  <a:pt x="8665" y="23151"/>
                </a:cubicBezTo>
                <a:cubicBezTo>
                  <a:pt x="8703" y="23266"/>
                  <a:pt x="8722" y="23395"/>
                  <a:pt x="8731" y="23515"/>
                </a:cubicBezTo>
                <a:cubicBezTo>
                  <a:pt x="8731" y="23559"/>
                  <a:pt x="8731" y="23581"/>
                  <a:pt x="8731" y="236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Ink 4"/>
          <p:cNvSpPr/>
          <p:nvPr/>
        </p:nvSpPr>
        <p:spPr>
          <a:xfrm>
            <a:off x="3668760" y="573120"/>
            <a:ext cx="488880" cy="1168200"/>
          </a:xfrm>
          <a:custGeom>
            <a:avLst/>
            <a:gdLst/>
            <a:ahLst/>
            <a:rect l="l" t="t" r="r" b="b"/>
            <a:pathLst>
              <a:path w="1357" h="3243">
                <a:moveTo>
                  <a:pt x="9393" y="20803"/>
                </a:moveTo>
                <a:cubicBezTo>
                  <a:pt x="9418" y="20790"/>
                  <a:pt x="9465" y="20790"/>
                  <a:pt x="9492" y="20770"/>
                </a:cubicBezTo>
                <a:cubicBezTo>
                  <a:pt x="9518" y="20750"/>
                  <a:pt x="9539" y="20724"/>
                  <a:pt x="9591" y="20704"/>
                </a:cubicBezTo>
                <a:cubicBezTo>
                  <a:pt x="9627" y="20690"/>
                  <a:pt x="9687" y="20675"/>
                  <a:pt x="9723" y="20671"/>
                </a:cubicBezTo>
                <a:cubicBezTo>
                  <a:pt x="9810" y="20660"/>
                  <a:pt x="9903" y="20647"/>
                  <a:pt x="9988" y="20638"/>
                </a:cubicBezTo>
                <a:cubicBezTo>
                  <a:pt x="10085" y="20627"/>
                  <a:pt x="10186" y="20587"/>
                  <a:pt x="10286" y="20604"/>
                </a:cubicBezTo>
                <a:cubicBezTo>
                  <a:pt x="10345" y="20614"/>
                  <a:pt x="10350" y="20609"/>
                  <a:pt x="10385" y="20638"/>
                </a:cubicBezTo>
                <a:cubicBezTo>
                  <a:pt x="10411" y="20659"/>
                  <a:pt x="10437" y="20770"/>
                  <a:pt x="10451" y="20803"/>
                </a:cubicBezTo>
                <a:cubicBezTo>
                  <a:pt x="10487" y="20887"/>
                  <a:pt x="10481" y="20943"/>
                  <a:pt x="10484" y="21034"/>
                </a:cubicBezTo>
                <a:cubicBezTo>
                  <a:pt x="10490" y="21216"/>
                  <a:pt x="10463" y="21470"/>
                  <a:pt x="10451" y="21597"/>
                </a:cubicBezTo>
                <a:cubicBezTo>
                  <a:pt x="10443" y="21685"/>
                  <a:pt x="10424" y="21862"/>
                  <a:pt x="10484" y="21927"/>
                </a:cubicBezTo>
                <a:cubicBezTo>
                  <a:pt x="10500" y="21944"/>
                  <a:pt x="10539" y="21984"/>
                  <a:pt x="10583" y="21993"/>
                </a:cubicBezTo>
                <a:cubicBezTo>
                  <a:pt x="10635" y="22004"/>
                  <a:pt x="10696" y="21989"/>
                  <a:pt x="10749" y="21993"/>
                </a:cubicBezTo>
                <a:cubicBezTo>
                  <a:pt x="10739" y="22099"/>
                  <a:pt x="10745" y="22152"/>
                  <a:pt x="10649" y="22225"/>
                </a:cubicBezTo>
                <a:cubicBezTo>
                  <a:pt x="10570" y="22285"/>
                  <a:pt x="10531" y="22363"/>
                  <a:pt x="10484" y="22457"/>
                </a:cubicBezTo>
                <a:cubicBezTo>
                  <a:pt x="10459" y="22507"/>
                  <a:pt x="10411" y="22538"/>
                  <a:pt x="10385" y="22589"/>
                </a:cubicBezTo>
                <a:cubicBezTo>
                  <a:pt x="10367" y="22624"/>
                  <a:pt x="10369" y="22684"/>
                  <a:pt x="10352" y="22721"/>
                </a:cubicBezTo>
                <a:cubicBezTo>
                  <a:pt x="10443" y="22738"/>
                  <a:pt x="10441" y="22743"/>
                  <a:pt x="10517" y="22787"/>
                </a:cubicBezTo>
                <a:cubicBezTo>
                  <a:pt x="10552" y="22807"/>
                  <a:pt x="10600" y="22816"/>
                  <a:pt x="10616" y="22886"/>
                </a:cubicBezTo>
                <a:cubicBezTo>
                  <a:pt x="10630" y="22948"/>
                  <a:pt x="10642" y="23023"/>
                  <a:pt x="10649" y="23085"/>
                </a:cubicBezTo>
                <a:cubicBezTo>
                  <a:pt x="10664" y="23224"/>
                  <a:pt x="10649" y="23262"/>
                  <a:pt x="10583" y="23349"/>
                </a:cubicBezTo>
                <a:cubicBezTo>
                  <a:pt x="10504" y="23454"/>
                  <a:pt x="10479" y="23509"/>
                  <a:pt x="10352" y="23614"/>
                </a:cubicBezTo>
                <a:cubicBezTo>
                  <a:pt x="10265" y="23686"/>
                  <a:pt x="10181" y="23785"/>
                  <a:pt x="10087" y="23846"/>
                </a:cubicBezTo>
                <a:cubicBezTo>
                  <a:pt x="10076" y="23846"/>
                  <a:pt x="10065" y="23846"/>
                  <a:pt x="10054" y="238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Ink 5"/>
          <p:cNvSpPr/>
          <p:nvPr/>
        </p:nvSpPr>
        <p:spPr>
          <a:xfrm>
            <a:off x="4441680" y="789120"/>
            <a:ext cx="978120" cy="344520"/>
          </a:xfrm>
          <a:custGeom>
            <a:avLst/>
            <a:gdLst/>
            <a:ahLst/>
            <a:rect l="l" t="t" r="r" b="b"/>
            <a:pathLst>
              <a:path w="2713" h="960">
                <a:moveTo>
                  <a:pt x="11609" y="21233"/>
                </a:moveTo>
                <a:cubicBezTo>
                  <a:pt x="11626" y="21183"/>
                  <a:pt x="11649" y="21200"/>
                  <a:pt x="11708" y="21200"/>
                </a:cubicBezTo>
                <a:cubicBezTo>
                  <a:pt x="11741" y="21200"/>
                  <a:pt x="11752" y="21200"/>
                  <a:pt x="11774" y="21200"/>
                </a:cubicBezTo>
                <a:cubicBezTo>
                  <a:pt x="11774" y="21308"/>
                  <a:pt x="11804" y="21377"/>
                  <a:pt x="11708" y="21431"/>
                </a:cubicBezTo>
                <a:cubicBezTo>
                  <a:pt x="11636" y="21472"/>
                  <a:pt x="11559" y="21512"/>
                  <a:pt x="11542" y="21597"/>
                </a:cubicBezTo>
                <a:cubicBezTo>
                  <a:pt x="11542" y="21630"/>
                  <a:pt x="11542" y="21641"/>
                  <a:pt x="11542" y="21663"/>
                </a:cubicBezTo>
                <a:cubicBezTo>
                  <a:pt x="11601" y="21673"/>
                  <a:pt x="11624" y="21692"/>
                  <a:pt x="11642" y="21729"/>
                </a:cubicBezTo>
                <a:cubicBezTo>
                  <a:pt x="11671" y="21787"/>
                  <a:pt x="11708" y="21736"/>
                  <a:pt x="11708" y="21828"/>
                </a:cubicBezTo>
                <a:cubicBezTo>
                  <a:pt x="11708" y="21888"/>
                  <a:pt x="11736" y="22052"/>
                  <a:pt x="11675" y="22060"/>
                </a:cubicBezTo>
                <a:cubicBezTo>
                  <a:pt x="11642" y="22060"/>
                  <a:pt x="11631" y="22060"/>
                  <a:pt x="11609" y="22060"/>
                </a:cubicBezTo>
              </a:path>
              <a:path w="2713" h="960">
                <a:moveTo>
                  <a:pt x="12171" y="21663"/>
                </a:moveTo>
                <a:cubicBezTo>
                  <a:pt x="12347" y="21663"/>
                  <a:pt x="12524" y="21663"/>
                  <a:pt x="12700" y="21663"/>
                </a:cubicBezTo>
              </a:path>
              <a:path w="2713" h="960">
                <a:moveTo>
                  <a:pt x="13097" y="21431"/>
                </a:moveTo>
                <a:cubicBezTo>
                  <a:pt x="13097" y="21398"/>
                  <a:pt x="13097" y="21387"/>
                  <a:pt x="13097" y="21365"/>
                </a:cubicBezTo>
                <a:cubicBezTo>
                  <a:pt x="13151" y="21365"/>
                  <a:pt x="13240" y="21368"/>
                  <a:pt x="13262" y="21431"/>
                </a:cubicBezTo>
                <a:cubicBezTo>
                  <a:pt x="13297" y="21529"/>
                  <a:pt x="13237" y="21621"/>
                  <a:pt x="13196" y="21696"/>
                </a:cubicBezTo>
                <a:cubicBezTo>
                  <a:pt x="13129" y="21818"/>
                  <a:pt x="12981" y="21934"/>
                  <a:pt x="12932" y="22060"/>
                </a:cubicBezTo>
                <a:cubicBezTo>
                  <a:pt x="12896" y="22154"/>
                  <a:pt x="12945" y="22099"/>
                  <a:pt x="12865" y="22159"/>
                </a:cubicBezTo>
                <a:cubicBezTo>
                  <a:pt x="12985" y="22159"/>
                  <a:pt x="13094" y="22160"/>
                  <a:pt x="13196" y="22126"/>
                </a:cubicBezTo>
                <a:cubicBezTo>
                  <a:pt x="13200" y="22125"/>
                  <a:pt x="13291" y="22098"/>
                  <a:pt x="13295" y="22093"/>
                </a:cubicBezTo>
                <a:cubicBezTo>
                  <a:pt x="13295" y="22082"/>
                  <a:pt x="13295" y="22071"/>
                  <a:pt x="13295" y="22060"/>
                </a:cubicBezTo>
              </a:path>
              <a:path w="2713" h="960">
                <a:moveTo>
                  <a:pt x="13758" y="21398"/>
                </a:moveTo>
                <a:cubicBezTo>
                  <a:pt x="13758" y="21508"/>
                  <a:pt x="13772" y="21602"/>
                  <a:pt x="13791" y="21696"/>
                </a:cubicBezTo>
                <a:cubicBezTo>
                  <a:pt x="13808" y="21783"/>
                  <a:pt x="13824" y="21870"/>
                  <a:pt x="13824" y="21960"/>
                </a:cubicBezTo>
                <a:cubicBezTo>
                  <a:pt x="13824" y="22034"/>
                  <a:pt x="13824" y="22096"/>
                  <a:pt x="13824" y="21993"/>
                </a:cubicBezTo>
              </a:path>
              <a:path w="2713" h="960">
                <a:moveTo>
                  <a:pt x="13924" y="21299"/>
                </a:moveTo>
                <a:cubicBezTo>
                  <a:pt x="13961" y="21311"/>
                  <a:pt x="13986" y="21344"/>
                  <a:pt x="13990" y="21398"/>
                </a:cubicBezTo>
                <a:cubicBezTo>
                  <a:pt x="13998" y="21503"/>
                  <a:pt x="14067" y="21564"/>
                  <a:pt x="14089" y="21663"/>
                </a:cubicBezTo>
                <a:cubicBezTo>
                  <a:pt x="14107" y="21744"/>
                  <a:pt x="14109" y="21848"/>
                  <a:pt x="14122" y="21927"/>
                </a:cubicBezTo>
                <a:cubicBezTo>
                  <a:pt x="14122" y="21987"/>
                  <a:pt x="14118" y="22004"/>
                  <a:pt x="14155" y="22027"/>
                </a:cubicBezTo>
                <a:cubicBezTo>
                  <a:pt x="14155" y="21969"/>
                  <a:pt x="14157" y="21974"/>
                  <a:pt x="14122" y="21927"/>
                </a:cubicBezTo>
              </a:path>
              <a:path w="2713" h="960">
                <a:moveTo>
                  <a:pt x="13560" y="21564"/>
                </a:moveTo>
                <a:cubicBezTo>
                  <a:pt x="13560" y="21515"/>
                  <a:pt x="13551" y="21393"/>
                  <a:pt x="13593" y="21365"/>
                </a:cubicBezTo>
                <a:cubicBezTo>
                  <a:pt x="13640" y="21333"/>
                  <a:pt x="13710" y="21323"/>
                  <a:pt x="13758" y="21299"/>
                </a:cubicBezTo>
                <a:cubicBezTo>
                  <a:pt x="13797" y="21279"/>
                  <a:pt x="13837" y="21176"/>
                  <a:pt x="13891" y="21200"/>
                </a:cubicBezTo>
                <a:cubicBezTo>
                  <a:pt x="13953" y="21228"/>
                  <a:pt x="13980" y="21319"/>
                  <a:pt x="14023" y="21365"/>
                </a:cubicBezTo>
                <a:cubicBezTo>
                  <a:pt x="14076" y="21422"/>
                  <a:pt x="14155" y="21608"/>
                  <a:pt x="14155" y="21530"/>
                </a:cubicBezTo>
                <a:cubicBezTo>
                  <a:pt x="14155" y="21441"/>
                  <a:pt x="14182" y="21492"/>
                  <a:pt x="14188" y="21398"/>
                </a:cubicBezTo>
                <a:cubicBezTo>
                  <a:pt x="14193" y="21319"/>
                  <a:pt x="14205" y="21294"/>
                  <a:pt x="14254" y="21233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Ink 6"/>
          <p:cNvSpPr/>
          <p:nvPr/>
        </p:nvSpPr>
        <p:spPr>
          <a:xfrm>
            <a:off x="609480" y="609480"/>
            <a:ext cx="3297240" cy="762120"/>
          </a:xfrm>
          <a:custGeom>
            <a:avLst/>
            <a:gdLst/>
            <a:ahLst/>
            <a:rect l="l" t="t" r="r" b="b"/>
            <a:pathLst>
              <a:path w="9162" h="2117">
                <a:moveTo>
                  <a:pt x="893" y="21200"/>
                </a:moveTo>
                <a:cubicBezTo>
                  <a:pt x="1102" y="21200"/>
                  <a:pt x="1312" y="21200"/>
                  <a:pt x="1521" y="21200"/>
                </a:cubicBezTo>
              </a:path>
              <a:path w="9162" h="2117">
                <a:moveTo>
                  <a:pt x="1687" y="20737"/>
                </a:moveTo>
                <a:cubicBezTo>
                  <a:pt x="1687" y="20957"/>
                  <a:pt x="1687" y="21178"/>
                  <a:pt x="1687" y="21398"/>
                </a:cubicBezTo>
                <a:cubicBezTo>
                  <a:pt x="1856" y="21398"/>
                  <a:pt x="2285" y="21461"/>
                  <a:pt x="2381" y="21365"/>
                </a:cubicBezTo>
              </a:path>
              <a:path w="9162" h="2117">
                <a:moveTo>
                  <a:pt x="2315" y="20836"/>
                </a:moveTo>
                <a:cubicBezTo>
                  <a:pt x="2315" y="20944"/>
                  <a:pt x="2333" y="21030"/>
                  <a:pt x="2348" y="21134"/>
                </a:cubicBezTo>
                <a:cubicBezTo>
                  <a:pt x="2372" y="21301"/>
                  <a:pt x="2409" y="21424"/>
                  <a:pt x="2414" y="21597"/>
                </a:cubicBezTo>
                <a:cubicBezTo>
                  <a:pt x="2418" y="21734"/>
                  <a:pt x="2475" y="21804"/>
                  <a:pt x="2514" y="21927"/>
                </a:cubicBezTo>
                <a:cubicBezTo>
                  <a:pt x="2544" y="22022"/>
                  <a:pt x="2547" y="21982"/>
                  <a:pt x="2547" y="21894"/>
                </a:cubicBezTo>
                <a:cubicBezTo>
                  <a:pt x="2547" y="21883"/>
                  <a:pt x="2547" y="21872"/>
                  <a:pt x="2547" y="21861"/>
                </a:cubicBezTo>
              </a:path>
              <a:path w="9162" h="2117">
                <a:moveTo>
                  <a:pt x="2745" y="21365"/>
                </a:moveTo>
                <a:cubicBezTo>
                  <a:pt x="2864" y="21365"/>
                  <a:pt x="2857" y="21347"/>
                  <a:pt x="2977" y="21299"/>
                </a:cubicBezTo>
                <a:cubicBezTo>
                  <a:pt x="3087" y="21255"/>
                  <a:pt x="3223" y="21266"/>
                  <a:pt x="3340" y="21266"/>
                </a:cubicBezTo>
                <a:cubicBezTo>
                  <a:pt x="3429" y="21266"/>
                  <a:pt x="3470" y="21223"/>
                  <a:pt x="3539" y="21200"/>
                </a:cubicBezTo>
                <a:cubicBezTo>
                  <a:pt x="3600" y="21180"/>
                  <a:pt x="3705" y="21200"/>
                  <a:pt x="3770" y="21200"/>
                </a:cubicBezTo>
              </a:path>
              <a:path w="9162" h="2117">
                <a:moveTo>
                  <a:pt x="3737" y="21001"/>
                </a:moveTo>
                <a:cubicBezTo>
                  <a:pt x="3870" y="21001"/>
                  <a:pt x="3906" y="21070"/>
                  <a:pt x="4035" y="21101"/>
                </a:cubicBezTo>
                <a:cubicBezTo>
                  <a:pt x="4163" y="21132"/>
                  <a:pt x="4300" y="21184"/>
                  <a:pt x="4432" y="21200"/>
                </a:cubicBezTo>
                <a:cubicBezTo>
                  <a:pt x="4432" y="21238"/>
                  <a:pt x="4423" y="21312"/>
                  <a:pt x="4399" y="21332"/>
                </a:cubicBezTo>
                <a:cubicBezTo>
                  <a:pt x="4320" y="21396"/>
                  <a:pt x="4299" y="21471"/>
                  <a:pt x="4233" y="21564"/>
                </a:cubicBezTo>
                <a:cubicBezTo>
                  <a:pt x="4186" y="21630"/>
                  <a:pt x="4197" y="21716"/>
                  <a:pt x="4167" y="21795"/>
                </a:cubicBezTo>
                <a:cubicBezTo>
                  <a:pt x="4139" y="21869"/>
                  <a:pt x="4145" y="21934"/>
                  <a:pt x="4101" y="21993"/>
                </a:cubicBezTo>
              </a:path>
              <a:path w="9162" h="2117">
                <a:moveTo>
                  <a:pt x="4663" y="20869"/>
                </a:moveTo>
                <a:cubicBezTo>
                  <a:pt x="4663" y="20799"/>
                  <a:pt x="4695" y="20764"/>
                  <a:pt x="4763" y="20737"/>
                </a:cubicBezTo>
                <a:cubicBezTo>
                  <a:pt x="4804" y="20721"/>
                  <a:pt x="4876" y="20678"/>
                  <a:pt x="4928" y="20704"/>
                </a:cubicBezTo>
                <a:cubicBezTo>
                  <a:pt x="4971" y="20725"/>
                  <a:pt x="5031" y="20757"/>
                  <a:pt x="5060" y="20803"/>
                </a:cubicBezTo>
                <a:cubicBezTo>
                  <a:pt x="5121" y="20898"/>
                  <a:pt x="5126" y="20957"/>
                  <a:pt x="5126" y="21067"/>
                </a:cubicBezTo>
                <a:cubicBezTo>
                  <a:pt x="5126" y="21242"/>
                  <a:pt x="5163" y="21472"/>
                  <a:pt x="5093" y="21630"/>
                </a:cubicBezTo>
                <a:cubicBezTo>
                  <a:pt x="5058" y="21709"/>
                  <a:pt x="5004" y="21800"/>
                  <a:pt x="4961" y="21861"/>
                </a:cubicBezTo>
                <a:cubicBezTo>
                  <a:pt x="4927" y="21909"/>
                  <a:pt x="4881" y="21894"/>
                  <a:pt x="4829" y="21894"/>
                </a:cubicBezTo>
                <a:cubicBezTo>
                  <a:pt x="4796" y="21894"/>
                  <a:pt x="4762" y="21894"/>
                  <a:pt x="4729" y="21894"/>
                </a:cubicBezTo>
                <a:cubicBezTo>
                  <a:pt x="4729" y="21801"/>
                  <a:pt x="4750" y="21708"/>
                  <a:pt x="4763" y="21663"/>
                </a:cubicBezTo>
                <a:cubicBezTo>
                  <a:pt x="4763" y="21641"/>
                  <a:pt x="4763" y="21619"/>
                  <a:pt x="4763" y="21597"/>
                </a:cubicBezTo>
                <a:cubicBezTo>
                  <a:pt x="4849" y="21597"/>
                  <a:pt x="4963" y="21573"/>
                  <a:pt x="5027" y="21630"/>
                </a:cubicBezTo>
                <a:cubicBezTo>
                  <a:pt x="5068" y="21667"/>
                  <a:pt x="5110" y="21713"/>
                  <a:pt x="5159" y="21729"/>
                </a:cubicBezTo>
                <a:cubicBezTo>
                  <a:pt x="5212" y="21747"/>
                  <a:pt x="5172" y="21744"/>
                  <a:pt x="5226" y="21762"/>
                </a:cubicBezTo>
              </a:path>
              <a:path w="9162" h="2117">
                <a:moveTo>
                  <a:pt x="5887" y="21200"/>
                </a:moveTo>
                <a:cubicBezTo>
                  <a:pt x="6052" y="21200"/>
                  <a:pt x="6218" y="21200"/>
                  <a:pt x="6383" y="21200"/>
                </a:cubicBezTo>
              </a:path>
              <a:path w="9162" h="2117">
                <a:moveTo>
                  <a:pt x="6681" y="20737"/>
                </a:moveTo>
                <a:cubicBezTo>
                  <a:pt x="6594" y="20759"/>
                  <a:pt x="6598" y="20831"/>
                  <a:pt x="6548" y="20902"/>
                </a:cubicBezTo>
                <a:cubicBezTo>
                  <a:pt x="6509" y="20957"/>
                  <a:pt x="6471" y="21061"/>
                  <a:pt x="6449" y="21134"/>
                </a:cubicBezTo>
                <a:cubicBezTo>
                  <a:pt x="6435" y="21180"/>
                  <a:pt x="6412" y="21331"/>
                  <a:pt x="6383" y="21365"/>
                </a:cubicBezTo>
                <a:cubicBezTo>
                  <a:pt x="6354" y="21398"/>
                  <a:pt x="6350" y="21428"/>
                  <a:pt x="6350" y="21497"/>
                </a:cubicBezTo>
                <a:cubicBezTo>
                  <a:pt x="6350" y="21639"/>
                  <a:pt x="6379" y="21643"/>
                  <a:pt x="6416" y="21729"/>
                </a:cubicBezTo>
                <a:cubicBezTo>
                  <a:pt x="6441" y="21787"/>
                  <a:pt x="6459" y="21854"/>
                  <a:pt x="6482" y="21894"/>
                </a:cubicBezTo>
                <a:cubicBezTo>
                  <a:pt x="6507" y="21939"/>
                  <a:pt x="6533" y="21928"/>
                  <a:pt x="6582" y="21960"/>
                </a:cubicBezTo>
                <a:cubicBezTo>
                  <a:pt x="6654" y="22008"/>
                  <a:pt x="6720" y="22084"/>
                  <a:pt x="6780" y="22126"/>
                </a:cubicBezTo>
                <a:cubicBezTo>
                  <a:pt x="6820" y="22154"/>
                  <a:pt x="6857" y="22235"/>
                  <a:pt x="6879" y="22192"/>
                </a:cubicBezTo>
                <a:cubicBezTo>
                  <a:pt x="6879" y="22159"/>
                  <a:pt x="6879" y="22148"/>
                  <a:pt x="6846" y="22159"/>
                </a:cubicBezTo>
              </a:path>
              <a:path w="9162" h="2117">
                <a:moveTo>
                  <a:pt x="7078" y="21233"/>
                </a:moveTo>
                <a:cubicBezTo>
                  <a:pt x="7078" y="21335"/>
                  <a:pt x="7110" y="21399"/>
                  <a:pt x="7144" y="21497"/>
                </a:cubicBezTo>
                <a:cubicBezTo>
                  <a:pt x="7168" y="21568"/>
                  <a:pt x="7177" y="21702"/>
                  <a:pt x="7210" y="21762"/>
                </a:cubicBezTo>
                <a:cubicBezTo>
                  <a:pt x="7221" y="21773"/>
                  <a:pt x="7232" y="21784"/>
                  <a:pt x="7243" y="21795"/>
                </a:cubicBezTo>
              </a:path>
              <a:path w="9162" h="2117">
                <a:moveTo>
                  <a:pt x="7673" y="21365"/>
                </a:moveTo>
                <a:cubicBezTo>
                  <a:pt x="7706" y="21365"/>
                  <a:pt x="7717" y="21365"/>
                  <a:pt x="7739" y="21365"/>
                </a:cubicBezTo>
                <a:cubicBezTo>
                  <a:pt x="7739" y="21426"/>
                  <a:pt x="7766" y="21443"/>
                  <a:pt x="7772" y="21497"/>
                </a:cubicBezTo>
                <a:cubicBezTo>
                  <a:pt x="7780" y="21567"/>
                  <a:pt x="7820" y="21631"/>
                  <a:pt x="7838" y="21696"/>
                </a:cubicBezTo>
                <a:cubicBezTo>
                  <a:pt x="7860" y="21777"/>
                  <a:pt x="7890" y="21865"/>
                  <a:pt x="7938" y="21927"/>
                </a:cubicBezTo>
                <a:cubicBezTo>
                  <a:pt x="7893" y="21927"/>
                  <a:pt x="7882" y="21916"/>
                  <a:pt x="7904" y="21861"/>
                </a:cubicBezTo>
              </a:path>
              <a:path w="9162" h="2117">
                <a:moveTo>
                  <a:pt x="7673" y="21729"/>
                </a:moveTo>
                <a:cubicBezTo>
                  <a:pt x="7762" y="21714"/>
                  <a:pt x="7852" y="21677"/>
                  <a:pt x="7938" y="21663"/>
                </a:cubicBezTo>
                <a:cubicBezTo>
                  <a:pt x="8007" y="21652"/>
                  <a:pt x="8066" y="21630"/>
                  <a:pt x="8136" y="21630"/>
                </a:cubicBezTo>
              </a:path>
              <a:path w="9162" h="2117">
                <a:moveTo>
                  <a:pt x="8103" y="21398"/>
                </a:moveTo>
                <a:cubicBezTo>
                  <a:pt x="8114" y="21364"/>
                  <a:pt x="8128" y="21335"/>
                  <a:pt x="8169" y="21332"/>
                </a:cubicBezTo>
                <a:cubicBezTo>
                  <a:pt x="8269" y="21324"/>
                  <a:pt x="8381" y="21339"/>
                  <a:pt x="8434" y="21365"/>
                </a:cubicBezTo>
                <a:cubicBezTo>
                  <a:pt x="8466" y="21381"/>
                  <a:pt x="8491" y="21472"/>
                  <a:pt x="8467" y="21530"/>
                </a:cubicBezTo>
                <a:cubicBezTo>
                  <a:pt x="8438" y="21601"/>
                  <a:pt x="8354" y="21681"/>
                  <a:pt x="8334" y="21729"/>
                </a:cubicBezTo>
                <a:cubicBezTo>
                  <a:pt x="8316" y="21774"/>
                  <a:pt x="8334" y="21876"/>
                  <a:pt x="8334" y="21927"/>
                </a:cubicBezTo>
                <a:cubicBezTo>
                  <a:pt x="8433" y="21927"/>
                  <a:pt x="8821" y="21965"/>
                  <a:pt x="8830" y="21894"/>
                </a:cubicBezTo>
                <a:cubicBezTo>
                  <a:pt x="8830" y="21883"/>
                  <a:pt x="8830" y="21872"/>
                  <a:pt x="8830" y="21861"/>
                </a:cubicBezTo>
              </a:path>
              <a:path w="9162" h="2117">
                <a:moveTo>
                  <a:pt x="8864" y="21365"/>
                </a:moveTo>
                <a:cubicBezTo>
                  <a:pt x="8904" y="21418"/>
                  <a:pt x="8870" y="21449"/>
                  <a:pt x="8897" y="21497"/>
                </a:cubicBezTo>
                <a:cubicBezTo>
                  <a:pt x="8933" y="21561"/>
                  <a:pt x="8900" y="21635"/>
                  <a:pt x="8930" y="21696"/>
                </a:cubicBezTo>
                <a:cubicBezTo>
                  <a:pt x="8955" y="21747"/>
                  <a:pt x="8963" y="21764"/>
                  <a:pt x="8963" y="21828"/>
                </a:cubicBezTo>
                <a:cubicBezTo>
                  <a:pt x="9007" y="21858"/>
                  <a:pt x="8996" y="21893"/>
                  <a:pt x="8996" y="21960"/>
                </a:cubicBezTo>
              </a:path>
              <a:path w="9162" h="2117">
                <a:moveTo>
                  <a:pt x="9128" y="21398"/>
                </a:moveTo>
                <a:cubicBezTo>
                  <a:pt x="9198" y="21415"/>
                  <a:pt x="9182" y="21447"/>
                  <a:pt x="9227" y="21497"/>
                </a:cubicBezTo>
                <a:cubicBezTo>
                  <a:pt x="9285" y="21562"/>
                  <a:pt x="9280" y="21679"/>
                  <a:pt x="9327" y="21762"/>
                </a:cubicBezTo>
                <a:cubicBezTo>
                  <a:pt x="9360" y="21820"/>
                  <a:pt x="9360" y="21857"/>
                  <a:pt x="9360" y="21927"/>
                </a:cubicBezTo>
                <a:cubicBezTo>
                  <a:pt x="9360" y="21938"/>
                  <a:pt x="9360" y="21949"/>
                  <a:pt x="9360" y="21960"/>
                </a:cubicBezTo>
              </a:path>
              <a:path w="9162" h="2117">
                <a:moveTo>
                  <a:pt x="8698" y="21497"/>
                </a:moveTo>
                <a:cubicBezTo>
                  <a:pt x="8709" y="21464"/>
                  <a:pt x="8776" y="21440"/>
                  <a:pt x="8830" y="21431"/>
                </a:cubicBezTo>
                <a:cubicBezTo>
                  <a:pt x="8954" y="21409"/>
                  <a:pt x="9099" y="21431"/>
                  <a:pt x="9227" y="21431"/>
                </a:cubicBezTo>
              </a:path>
              <a:path w="9162" h="2117">
                <a:moveTo>
                  <a:pt x="9558" y="21034"/>
                </a:moveTo>
                <a:cubicBezTo>
                  <a:pt x="9667" y="21089"/>
                  <a:pt x="9762" y="21159"/>
                  <a:pt x="9856" y="21266"/>
                </a:cubicBezTo>
                <a:cubicBezTo>
                  <a:pt x="9958" y="21382"/>
                  <a:pt x="10033" y="21541"/>
                  <a:pt x="10054" y="21696"/>
                </a:cubicBezTo>
                <a:cubicBezTo>
                  <a:pt x="10080" y="21887"/>
                  <a:pt x="10052" y="22023"/>
                  <a:pt x="9988" y="22192"/>
                </a:cubicBezTo>
                <a:cubicBezTo>
                  <a:pt x="9963" y="22259"/>
                  <a:pt x="9930" y="22445"/>
                  <a:pt x="9889" y="22490"/>
                </a:cubicBezTo>
                <a:cubicBezTo>
                  <a:pt x="9852" y="22531"/>
                  <a:pt x="9783" y="22586"/>
                  <a:pt x="9757" y="22622"/>
                </a:cubicBezTo>
                <a:cubicBezTo>
                  <a:pt x="9718" y="22676"/>
                  <a:pt x="9684" y="22787"/>
                  <a:pt x="9624" y="22820"/>
                </a:cubicBezTo>
                <a:cubicBezTo>
                  <a:pt x="9613" y="22820"/>
                  <a:pt x="9602" y="22820"/>
                  <a:pt x="9591" y="22820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Ink 7"/>
          <p:cNvSpPr/>
          <p:nvPr/>
        </p:nvSpPr>
        <p:spPr>
          <a:xfrm>
            <a:off x="2048040" y="2714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5689" y="7541"/>
                </a:moveTo>
                <a:lnTo>
                  <a:pt x="5689" y="7541"/>
                </a:ln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Ink 8"/>
          <p:cNvSpPr/>
          <p:nvPr/>
        </p:nvSpPr>
        <p:spPr>
          <a:xfrm>
            <a:off x="488880" y="2417760"/>
            <a:ext cx="1800" cy="344520"/>
          </a:xfrm>
          <a:custGeom>
            <a:avLst/>
            <a:gdLst/>
            <a:ahLst/>
            <a:rect l="l" t="t" r="r" b="b"/>
            <a:pathLst>
              <a:path w="1" h="960">
                <a:moveTo>
                  <a:pt x="1356" y="6714"/>
                </a:moveTo>
                <a:cubicBezTo>
                  <a:pt x="1356" y="7045"/>
                  <a:pt x="1356" y="7971"/>
                  <a:pt x="1356" y="7640"/>
                </a:cubicBezTo>
                <a:cubicBezTo>
                  <a:pt x="1356" y="7629"/>
                  <a:pt x="1356" y="7618"/>
                  <a:pt x="1356" y="7607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Ink 9"/>
          <p:cNvSpPr/>
          <p:nvPr/>
        </p:nvSpPr>
        <p:spPr>
          <a:xfrm>
            <a:off x="750960" y="2463840"/>
            <a:ext cx="1047600" cy="334800"/>
          </a:xfrm>
          <a:custGeom>
            <a:avLst/>
            <a:gdLst/>
            <a:ahLst/>
            <a:rect l="l" t="t" r="r" b="b"/>
            <a:pathLst>
              <a:path w="2911" h="927">
                <a:moveTo>
                  <a:pt x="2183" y="6879"/>
                </a:moveTo>
                <a:cubicBezTo>
                  <a:pt x="2183" y="6978"/>
                  <a:pt x="2202" y="7048"/>
                  <a:pt x="2216" y="7144"/>
                </a:cubicBezTo>
                <a:cubicBezTo>
                  <a:pt x="2234" y="7267"/>
                  <a:pt x="2259" y="7387"/>
                  <a:pt x="2282" y="7508"/>
                </a:cubicBezTo>
                <a:cubicBezTo>
                  <a:pt x="2288" y="7541"/>
                  <a:pt x="2304" y="7631"/>
                  <a:pt x="2315" y="7541"/>
                </a:cubicBezTo>
                <a:cubicBezTo>
                  <a:pt x="2315" y="7530"/>
                  <a:pt x="2315" y="7519"/>
                  <a:pt x="2315" y="7508"/>
                </a:cubicBezTo>
              </a:path>
              <a:path w="2911" h="927">
                <a:moveTo>
                  <a:pt x="2084" y="7276"/>
                </a:moveTo>
                <a:cubicBezTo>
                  <a:pt x="2103" y="7219"/>
                  <a:pt x="2176" y="7243"/>
                  <a:pt x="2249" y="7243"/>
                </a:cubicBezTo>
                <a:cubicBezTo>
                  <a:pt x="2383" y="7243"/>
                  <a:pt x="2519" y="7228"/>
                  <a:pt x="2646" y="7276"/>
                </a:cubicBezTo>
                <a:cubicBezTo>
                  <a:pt x="2720" y="7313"/>
                  <a:pt x="2750" y="7324"/>
                  <a:pt x="2811" y="7309"/>
                </a:cubicBezTo>
              </a:path>
              <a:path w="2911" h="927">
                <a:moveTo>
                  <a:pt x="3109" y="6945"/>
                </a:moveTo>
                <a:cubicBezTo>
                  <a:pt x="3214" y="6945"/>
                  <a:pt x="3433" y="6898"/>
                  <a:pt x="3473" y="7011"/>
                </a:cubicBezTo>
                <a:cubicBezTo>
                  <a:pt x="3496" y="7074"/>
                  <a:pt x="3506" y="7100"/>
                  <a:pt x="3506" y="7177"/>
                </a:cubicBezTo>
                <a:cubicBezTo>
                  <a:pt x="3506" y="7239"/>
                  <a:pt x="3499" y="7323"/>
                  <a:pt x="3473" y="7375"/>
                </a:cubicBezTo>
                <a:cubicBezTo>
                  <a:pt x="3436" y="7449"/>
                  <a:pt x="3349" y="7526"/>
                  <a:pt x="3340" y="7607"/>
                </a:cubicBezTo>
                <a:cubicBezTo>
                  <a:pt x="3332" y="7676"/>
                  <a:pt x="3543" y="7762"/>
                  <a:pt x="3605" y="7772"/>
                </a:cubicBezTo>
                <a:cubicBezTo>
                  <a:pt x="3676" y="7783"/>
                  <a:pt x="3947" y="7805"/>
                  <a:pt x="3969" y="7739"/>
                </a:cubicBezTo>
              </a:path>
              <a:path w="2911" h="927">
                <a:moveTo>
                  <a:pt x="4200" y="7078"/>
                </a:moveTo>
                <a:cubicBezTo>
                  <a:pt x="4211" y="7078"/>
                  <a:pt x="4222" y="7078"/>
                  <a:pt x="4233" y="7078"/>
                </a:cubicBezTo>
                <a:cubicBezTo>
                  <a:pt x="4233" y="7158"/>
                  <a:pt x="4253" y="7201"/>
                  <a:pt x="4266" y="7276"/>
                </a:cubicBezTo>
                <a:cubicBezTo>
                  <a:pt x="4282" y="7366"/>
                  <a:pt x="4282" y="7463"/>
                  <a:pt x="4299" y="7541"/>
                </a:cubicBezTo>
                <a:cubicBezTo>
                  <a:pt x="4299" y="7596"/>
                  <a:pt x="4299" y="7607"/>
                  <a:pt x="4299" y="7640"/>
                </a:cubicBezTo>
              </a:path>
              <a:path w="2911" h="927">
                <a:moveTo>
                  <a:pt x="4597" y="7011"/>
                </a:moveTo>
                <a:cubicBezTo>
                  <a:pt x="4608" y="7096"/>
                  <a:pt x="4634" y="7232"/>
                  <a:pt x="4663" y="7309"/>
                </a:cubicBezTo>
                <a:cubicBezTo>
                  <a:pt x="4685" y="7369"/>
                  <a:pt x="4663" y="7521"/>
                  <a:pt x="4696" y="7574"/>
                </a:cubicBezTo>
                <a:cubicBezTo>
                  <a:pt x="4715" y="7604"/>
                  <a:pt x="4729" y="7639"/>
                  <a:pt x="4729" y="7706"/>
                </a:cubicBezTo>
              </a:path>
              <a:path w="2911" h="927">
                <a:moveTo>
                  <a:pt x="4233" y="7210"/>
                </a:moveTo>
                <a:cubicBezTo>
                  <a:pt x="4193" y="7143"/>
                  <a:pt x="4200" y="7093"/>
                  <a:pt x="4200" y="7011"/>
                </a:cubicBezTo>
                <a:cubicBezTo>
                  <a:pt x="4200" y="6914"/>
                  <a:pt x="4251" y="6944"/>
                  <a:pt x="4299" y="6912"/>
                </a:cubicBezTo>
                <a:cubicBezTo>
                  <a:pt x="4391" y="6849"/>
                  <a:pt x="4364" y="6846"/>
                  <a:pt x="4465" y="6846"/>
                </a:cubicBezTo>
                <a:cubicBezTo>
                  <a:pt x="4571" y="6846"/>
                  <a:pt x="4523" y="6888"/>
                  <a:pt x="4597" y="6945"/>
                </a:cubicBezTo>
                <a:cubicBezTo>
                  <a:pt x="4642" y="6980"/>
                  <a:pt x="4768" y="7066"/>
                  <a:pt x="4796" y="7078"/>
                </a:cubicBezTo>
                <a:cubicBezTo>
                  <a:pt x="4860" y="7105"/>
                  <a:pt x="4910" y="7054"/>
                  <a:pt x="4928" y="7045"/>
                </a:cubicBezTo>
                <a:cubicBezTo>
                  <a:pt x="4970" y="7024"/>
                  <a:pt x="4956" y="7029"/>
                  <a:pt x="4994" y="6978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Ink 10"/>
          <p:cNvSpPr/>
          <p:nvPr/>
        </p:nvSpPr>
        <p:spPr>
          <a:xfrm>
            <a:off x="2048040" y="2595600"/>
            <a:ext cx="833400" cy="417600"/>
          </a:xfrm>
          <a:custGeom>
            <a:avLst/>
            <a:gdLst/>
            <a:ahLst/>
            <a:rect l="l" t="t" r="r" b="b"/>
            <a:pathLst>
              <a:path w="2316" h="1158">
                <a:moveTo>
                  <a:pt x="5854" y="7441"/>
                </a:moveTo>
                <a:cubicBezTo>
                  <a:pt x="5872" y="7494"/>
                  <a:pt x="5887" y="7516"/>
                  <a:pt x="5887" y="7607"/>
                </a:cubicBezTo>
                <a:cubicBezTo>
                  <a:pt x="5887" y="7697"/>
                  <a:pt x="5933" y="7780"/>
                  <a:pt x="5953" y="7871"/>
                </a:cubicBezTo>
                <a:cubicBezTo>
                  <a:pt x="5966" y="7931"/>
                  <a:pt x="5953" y="8008"/>
                  <a:pt x="5953" y="8070"/>
                </a:cubicBezTo>
                <a:cubicBezTo>
                  <a:pt x="6022" y="8024"/>
                  <a:pt x="5971" y="7960"/>
                  <a:pt x="5953" y="7871"/>
                </a:cubicBezTo>
                <a:cubicBezTo>
                  <a:pt x="5953" y="7860"/>
                  <a:pt x="5953" y="7849"/>
                  <a:pt x="5953" y="7838"/>
                </a:cubicBezTo>
              </a:path>
              <a:path w="2316" h="1158">
                <a:moveTo>
                  <a:pt x="5689" y="7640"/>
                </a:moveTo>
                <a:cubicBezTo>
                  <a:pt x="5839" y="7640"/>
                  <a:pt x="5976" y="7637"/>
                  <a:pt x="6118" y="7607"/>
                </a:cubicBezTo>
                <a:cubicBezTo>
                  <a:pt x="6173" y="7595"/>
                  <a:pt x="6201" y="7558"/>
                  <a:pt x="6251" y="7541"/>
                </a:cubicBezTo>
                <a:cubicBezTo>
                  <a:pt x="6276" y="7533"/>
                  <a:pt x="6323" y="7541"/>
                  <a:pt x="6350" y="7541"/>
                </a:cubicBezTo>
              </a:path>
              <a:path w="2316" h="1158">
                <a:moveTo>
                  <a:pt x="6747" y="7210"/>
                </a:moveTo>
                <a:cubicBezTo>
                  <a:pt x="6747" y="7331"/>
                  <a:pt x="6747" y="7453"/>
                  <a:pt x="6747" y="7574"/>
                </a:cubicBezTo>
                <a:cubicBezTo>
                  <a:pt x="6916" y="7574"/>
                  <a:pt x="7079" y="7558"/>
                  <a:pt x="7243" y="7541"/>
                </a:cubicBezTo>
                <a:cubicBezTo>
                  <a:pt x="7325" y="7533"/>
                  <a:pt x="7429" y="7581"/>
                  <a:pt x="7441" y="7474"/>
                </a:cubicBezTo>
                <a:cubicBezTo>
                  <a:pt x="7441" y="7463"/>
                  <a:pt x="7441" y="7452"/>
                  <a:pt x="7441" y="7441"/>
                </a:cubicBezTo>
              </a:path>
              <a:path w="2316" h="1158">
                <a:moveTo>
                  <a:pt x="7375" y="7243"/>
                </a:moveTo>
                <a:cubicBezTo>
                  <a:pt x="7320" y="7261"/>
                  <a:pt x="7342" y="7307"/>
                  <a:pt x="7342" y="7375"/>
                </a:cubicBezTo>
                <a:cubicBezTo>
                  <a:pt x="7342" y="7442"/>
                  <a:pt x="7353" y="7514"/>
                  <a:pt x="7375" y="7574"/>
                </a:cubicBezTo>
                <a:cubicBezTo>
                  <a:pt x="7434" y="7731"/>
                  <a:pt x="7492" y="7878"/>
                  <a:pt x="7574" y="8037"/>
                </a:cubicBezTo>
                <a:cubicBezTo>
                  <a:pt x="7614" y="8114"/>
                  <a:pt x="7683" y="8329"/>
                  <a:pt x="7739" y="8367"/>
                </a:cubicBezTo>
                <a:cubicBezTo>
                  <a:pt x="7750" y="8367"/>
                  <a:pt x="7761" y="8367"/>
                  <a:pt x="7772" y="8367"/>
                </a:cubicBezTo>
                <a:cubicBezTo>
                  <a:pt x="7836" y="8324"/>
                  <a:pt x="7817" y="8223"/>
                  <a:pt x="7871" y="8136"/>
                </a:cubicBezTo>
                <a:cubicBezTo>
                  <a:pt x="7890" y="8105"/>
                  <a:pt x="7961" y="7914"/>
                  <a:pt x="7971" y="7904"/>
                </a:cubicBezTo>
                <a:cubicBezTo>
                  <a:pt x="7982" y="7904"/>
                  <a:pt x="7993" y="7904"/>
                  <a:pt x="8004" y="7904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Ink 11"/>
          <p:cNvSpPr/>
          <p:nvPr/>
        </p:nvSpPr>
        <p:spPr>
          <a:xfrm>
            <a:off x="1844640" y="3119400"/>
            <a:ext cx="298440" cy="1131840"/>
          </a:xfrm>
          <a:custGeom>
            <a:avLst/>
            <a:gdLst/>
            <a:ahLst/>
            <a:rect l="l" t="t" r="r" b="b"/>
            <a:pathLst>
              <a:path w="828" h="3143">
                <a:moveTo>
                  <a:pt x="5953" y="9260"/>
                </a:moveTo>
                <a:cubicBezTo>
                  <a:pt x="5945" y="9187"/>
                  <a:pt x="5953" y="9168"/>
                  <a:pt x="5920" y="9095"/>
                </a:cubicBezTo>
                <a:cubicBezTo>
                  <a:pt x="5892" y="9031"/>
                  <a:pt x="5824" y="8993"/>
                  <a:pt x="5788" y="8930"/>
                </a:cubicBezTo>
                <a:cubicBezTo>
                  <a:pt x="5731" y="8831"/>
                  <a:pt x="5689" y="8818"/>
                  <a:pt x="5622" y="8731"/>
                </a:cubicBezTo>
                <a:cubicBezTo>
                  <a:pt x="5596" y="8698"/>
                  <a:pt x="5597" y="8638"/>
                  <a:pt x="5523" y="8665"/>
                </a:cubicBezTo>
                <a:cubicBezTo>
                  <a:pt x="5474" y="8683"/>
                  <a:pt x="5348" y="8792"/>
                  <a:pt x="5325" y="8830"/>
                </a:cubicBezTo>
                <a:cubicBezTo>
                  <a:pt x="5268" y="8925"/>
                  <a:pt x="5232" y="8972"/>
                  <a:pt x="5192" y="9062"/>
                </a:cubicBezTo>
                <a:cubicBezTo>
                  <a:pt x="5186" y="9075"/>
                  <a:pt x="5132" y="9184"/>
                  <a:pt x="5126" y="9227"/>
                </a:cubicBezTo>
                <a:cubicBezTo>
                  <a:pt x="5105" y="9377"/>
                  <a:pt x="5110" y="9594"/>
                  <a:pt x="5159" y="9723"/>
                </a:cubicBezTo>
                <a:cubicBezTo>
                  <a:pt x="5188" y="9800"/>
                  <a:pt x="5232" y="9852"/>
                  <a:pt x="5259" y="9922"/>
                </a:cubicBezTo>
                <a:cubicBezTo>
                  <a:pt x="5282" y="9980"/>
                  <a:pt x="5332" y="10109"/>
                  <a:pt x="5358" y="10153"/>
                </a:cubicBezTo>
                <a:cubicBezTo>
                  <a:pt x="5435" y="10281"/>
                  <a:pt x="5499" y="10404"/>
                  <a:pt x="5556" y="10550"/>
                </a:cubicBezTo>
                <a:cubicBezTo>
                  <a:pt x="5607" y="10679"/>
                  <a:pt x="5700" y="10843"/>
                  <a:pt x="5722" y="10980"/>
                </a:cubicBezTo>
                <a:cubicBezTo>
                  <a:pt x="5735" y="11061"/>
                  <a:pt x="5751" y="11103"/>
                  <a:pt x="5755" y="11179"/>
                </a:cubicBezTo>
                <a:cubicBezTo>
                  <a:pt x="5763" y="11334"/>
                  <a:pt x="5800" y="11648"/>
                  <a:pt x="5722" y="11774"/>
                </a:cubicBezTo>
                <a:cubicBezTo>
                  <a:pt x="5707" y="11799"/>
                  <a:pt x="5667" y="11805"/>
                  <a:pt x="5622" y="11807"/>
                </a:cubicBezTo>
                <a:cubicBezTo>
                  <a:pt x="5532" y="11811"/>
                  <a:pt x="5498" y="11804"/>
                  <a:pt x="5457" y="11774"/>
                </a:cubicBezTo>
                <a:cubicBezTo>
                  <a:pt x="5412" y="11741"/>
                  <a:pt x="5434" y="11745"/>
                  <a:pt x="5424" y="11675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Ink 12"/>
          <p:cNvSpPr/>
          <p:nvPr/>
        </p:nvSpPr>
        <p:spPr>
          <a:xfrm>
            <a:off x="1917720" y="5214960"/>
            <a:ext cx="380880" cy="1060560"/>
          </a:xfrm>
          <a:custGeom>
            <a:avLst/>
            <a:gdLst/>
            <a:ahLst/>
            <a:rect l="l" t="t" r="r" b="b"/>
            <a:pathLst>
              <a:path w="1059" h="2944">
                <a:moveTo>
                  <a:pt x="6317" y="15743"/>
                </a:moveTo>
                <a:cubicBezTo>
                  <a:pt x="6317" y="15906"/>
                  <a:pt x="6315" y="16049"/>
                  <a:pt x="6284" y="16206"/>
                </a:cubicBezTo>
                <a:cubicBezTo>
                  <a:pt x="6275" y="16250"/>
                  <a:pt x="6284" y="16336"/>
                  <a:pt x="6284" y="16371"/>
                </a:cubicBezTo>
              </a:path>
              <a:path w="1059" h="2944">
                <a:moveTo>
                  <a:pt x="5325" y="16966"/>
                </a:moveTo>
                <a:cubicBezTo>
                  <a:pt x="5490" y="16966"/>
                  <a:pt x="5656" y="16966"/>
                  <a:pt x="5821" y="16966"/>
                </a:cubicBezTo>
              </a:path>
              <a:path w="1059" h="2944">
                <a:moveTo>
                  <a:pt x="5821" y="16801"/>
                </a:moveTo>
                <a:cubicBezTo>
                  <a:pt x="5821" y="16862"/>
                  <a:pt x="5813" y="16886"/>
                  <a:pt x="5854" y="16933"/>
                </a:cubicBezTo>
                <a:cubicBezTo>
                  <a:pt x="5890" y="16973"/>
                  <a:pt x="5906" y="16987"/>
                  <a:pt x="5953" y="16999"/>
                </a:cubicBezTo>
                <a:cubicBezTo>
                  <a:pt x="5953" y="17043"/>
                  <a:pt x="5953" y="17088"/>
                  <a:pt x="5953" y="17132"/>
                </a:cubicBezTo>
                <a:cubicBezTo>
                  <a:pt x="6082" y="17132"/>
                  <a:pt x="6195" y="17125"/>
                  <a:pt x="6317" y="17099"/>
                </a:cubicBezTo>
                <a:cubicBezTo>
                  <a:pt x="6327" y="17097"/>
                  <a:pt x="6439" y="17099"/>
                  <a:pt x="6350" y="17099"/>
                </a:cubicBezTo>
              </a:path>
              <a:path w="1059" h="2944">
                <a:moveTo>
                  <a:pt x="6284" y="16900"/>
                </a:moveTo>
                <a:cubicBezTo>
                  <a:pt x="6229" y="16918"/>
                  <a:pt x="6251" y="16965"/>
                  <a:pt x="6251" y="17033"/>
                </a:cubicBezTo>
                <a:cubicBezTo>
                  <a:pt x="6251" y="17165"/>
                  <a:pt x="6251" y="17297"/>
                  <a:pt x="6251" y="17429"/>
                </a:cubicBezTo>
                <a:cubicBezTo>
                  <a:pt x="6290" y="17390"/>
                  <a:pt x="6309" y="17375"/>
                  <a:pt x="6350" y="17363"/>
                </a:cubicBezTo>
              </a:path>
              <a:path w="1059" h="2944">
                <a:moveTo>
                  <a:pt x="5358" y="14519"/>
                </a:moveTo>
                <a:cubicBezTo>
                  <a:pt x="5424" y="14480"/>
                  <a:pt x="5474" y="14486"/>
                  <a:pt x="5556" y="14486"/>
                </a:cubicBezTo>
                <a:cubicBezTo>
                  <a:pt x="5611" y="14486"/>
                  <a:pt x="5667" y="14486"/>
                  <a:pt x="5722" y="14486"/>
                </a:cubicBezTo>
                <a:cubicBezTo>
                  <a:pt x="5722" y="14560"/>
                  <a:pt x="5748" y="14531"/>
                  <a:pt x="5755" y="14585"/>
                </a:cubicBezTo>
                <a:cubicBezTo>
                  <a:pt x="5764" y="14655"/>
                  <a:pt x="5743" y="14655"/>
                  <a:pt x="5722" y="14684"/>
                </a:cubicBezTo>
                <a:cubicBezTo>
                  <a:pt x="5688" y="14731"/>
                  <a:pt x="5613" y="14762"/>
                  <a:pt x="5589" y="14817"/>
                </a:cubicBezTo>
                <a:cubicBezTo>
                  <a:pt x="5572" y="14855"/>
                  <a:pt x="5513" y="14892"/>
                  <a:pt x="5490" y="14949"/>
                </a:cubicBezTo>
                <a:cubicBezTo>
                  <a:pt x="5476" y="14984"/>
                  <a:pt x="5480" y="15101"/>
                  <a:pt x="5523" y="15114"/>
                </a:cubicBezTo>
                <a:cubicBezTo>
                  <a:pt x="5662" y="15157"/>
                  <a:pt x="5870" y="15114"/>
                  <a:pt x="6019" y="1511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Ink 13"/>
          <p:cNvSpPr/>
          <p:nvPr/>
        </p:nvSpPr>
        <p:spPr>
          <a:xfrm>
            <a:off x="677880" y="3452760"/>
            <a:ext cx="1192320" cy="608040"/>
          </a:xfrm>
          <a:custGeom>
            <a:avLst/>
            <a:gdLst/>
            <a:ahLst/>
            <a:rect l="l" t="t" r="r" b="b"/>
            <a:pathLst>
              <a:path w="3308" h="1688">
                <a:moveTo>
                  <a:pt x="2348" y="9591"/>
                </a:moveTo>
                <a:cubicBezTo>
                  <a:pt x="2377" y="9639"/>
                  <a:pt x="2381" y="9688"/>
                  <a:pt x="2381" y="9790"/>
                </a:cubicBezTo>
                <a:cubicBezTo>
                  <a:pt x="2381" y="10202"/>
                  <a:pt x="2381" y="10838"/>
                  <a:pt x="2381" y="11146"/>
                </a:cubicBezTo>
                <a:cubicBezTo>
                  <a:pt x="2352" y="11097"/>
                  <a:pt x="2297" y="11009"/>
                  <a:pt x="2282" y="10947"/>
                </a:cubicBezTo>
                <a:cubicBezTo>
                  <a:pt x="2260" y="10853"/>
                  <a:pt x="2212" y="10777"/>
                  <a:pt x="2183" y="10683"/>
                </a:cubicBezTo>
                <a:cubicBezTo>
                  <a:pt x="2167" y="10629"/>
                  <a:pt x="2146" y="10599"/>
                  <a:pt x="2117" y="10550"/>
                </a:cubicBezTo>
                <a:cubicBezTo>
                  <a:pt x="2085" y="10496"/>
                  <a:pt x="2064" y="10441"/>
                  <a:pt x="2017" y="10418"/>
                </a:cubicBezTo>
                <a:cubicBezTo>
                  <a:pt x="1994" y="10457"/>
                  <a:pt x="2008" y="10469"/>
                  <a:pt x="1984" y="10517"/>
                </a:cubicBezTo>
                <a:cubicBezTo>
                  <a:pt x="1951" y="10584"/>
                  <a:pt x="1940" y="10647"/>
                  <a:pt x="1918" y="10716"/>
                </a:cubicBezTo>
                <a:cubicBezTo>
                  <a:pt x="1895" y="10788"/>
                  <a:pt x="1889" y="10808"/>
                  <a:pt x="1885" y="10881"/>
                </a:cubicBezTo>
                <a:cubicBezTo>
                  <a:pt x="1882" y="10935"/>
                  <a:pt x="1874" y="10976"/>
                  <a:pt x="1918" y="11013"/>
                </a:cubicBezTo>
                <a:cubicBezTo>
                  <a:pt x="1997" y="11079"/>
                  <a:pt x="2113" y="11117"/>
                  <a:pt x="2216" y="11146"/>
                </a:cubicBezTo>
                <a:cubicBezTo>
                  <a:pt x="2290" y="11167"/>
                  <a:pt x="2400" y="11207"/>
                  <a:pt x="2480" y="11179"/>
                </a:cubicBezTo>
                <a:cubicBezTo>
                  <a:pt x="2508" y="11169"/>
                  <a:pt x="2504" y="11117"/>
                  <a:pt x="2514" y="11079"/>
                </a:cubicBezTo>
              </a:path>
              <a:path w="3308" h="1688">
                <a:moveTo>
                  <a:pt x="2811" y="10451"/>
                </a:moveTo>
                <a:cubicBezTo>
                  <a:pt x="2921" y="10451"/>
                  <a:pt x="2912" y="10509"/>
                  <a:pt x="3010" y="10583"/>
                </a:cubicBezTo>
                <a:cubicBezTo>
                  <a:pt x="3167" y="10700"/>
                  <a:pt x="3350" y="10819"/>
                  <a:pt x="3506" y="10947"/>
                </a:cubicBezTo>
                <a:cubicBezTo>
                  <a:pt x="3561" y="10992"/>
                  <a:pt x="3757" y="11247"/>
                  <a:pt x="3836" y="11278"/>
                </a:cubicBezTo>
                <a:cubicBezTo>
                  <a:pt x="3836" y="11240"/>
                  <a:pt x="3833" y="11226"/>
                  <a:pt x="3803" y="11212"/>
                </a:cubicBezTo>
              </a:path>
              <a:path w="3308" h="1688">
                <a:moveTo>
                  <a:pt x="3605" y="10616"/>
                </a:moveTo>
                <a:cubicBezTo>
                  <a:pt x="3540" y="10698"/>
                  <a:pt x="3504" y="10796"/>
                  <a:pt x="3440" y="10881"/>
                </a:cubicBezTo>
                <a:cubicBezTo>
                  <a:pt x="3387" y="10952"/>
                  <a:pt x="3361" y="10962"/>
                  <a:pt x="3340" y="11046"/>
                </a:cubicBezTo>
                <a:cubicBezTo>
                  <a:pt x="3264" y="11071"/>
                  <a:pt x="3353" y="11109"/>
                  <a:pt x="3307" y="11146"/>
                </a:cubicBezTo>
                <a:cubicBezTo>
                  <a:pt x="3296" y="11146"/>
                  <a:pt x="3285" y="11146"/>
                  <a:pt x="3274" y="11146"/>
                </a:cubicBezTo>
              </a:path>
              <a:path w="3308" h="1688">
                <a:moveTo>
                  <a:pt x="4729" y="10385"/>
                </a:moveTo>
                <a:cubicBezTo>
                  <a:pt x="4729" y="10559"/>
                  <a:pt x="4733" y="10718"/>
                  <a:pt x="4763" y="10881"/>
                </a:cubicBezTo>
                <a:cubicBezTo>
                  <a:pt x="4777" y="10956"/>
                  <a:pt x="4728" y="11090"/>
                  <a:pt x="4796" y="11113"/>
                </a:cubicBezTo>
              </a:path>
              <a:path w="3308" h="1688">
                <a:moveTo>
                  <a:pt x="4498" y="10782"/>
                </a:moveTo>
                <a:cubicBezTo>
                  <a:pt x="4559" y="10782"/>
                  <a:pt x="4576" y="10755"/>
                  <a:pt x="4630" y="10749"/>
                </a:cubicBezTo>
                <a:cubicBezTo>
                  <a:pt x="4752" y="10735"/>
                  <a:pt x="5099" y="10822"/>
                  <a:pt x="5192" y="10716"/>
                </a:cubicBezTo>
                <a:cubicBezTo>
                  <a:pt x="5192" y="10705"/>
                  <a:pt x="5192" y="10694"/>
                  <a:pt x="5192" y="10683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Ink 14"/>
          <p:cNvSpPr/>
          <p:nvPr/>
        </p:nvSpPr>
        <p:spPr>
          <a:xfrm>
            <a:off x="1917720" y="3738600"/>
            <a:ext cx="1119240" cy="798480"/>
          </a:xfrm>
          <a:custGeom>
            <a:avLst/>
            <a:gdLst/>
            <a:ahLst/>
            <a:rect l="l" t="t" r="r" b="b"/>
            <a:pathLst>
              <a:path w="3110" h="2217">
                <a:moveTo>
                  <a:pt x="5920" y="10683"/>
                </a:moveTo>
                <a:cubicBezTo>
                  <a:pt x="5920" y="10672"/>
                  <a:pt x="5920" y="10660"/>
                  <a:pt x="5920" y="10649"/>
                </a:cubicBezTo>
                <a:cubicBezTo>
                  <a:pt x="6063" y="10649"/>
                  <a:pt x="6207" y="10649"/>
                  <a:pt x="6350" y="10649"/>
                </a:cubicBezTo>
                <a:cubicBezTo>
                  <a:pt x="6350" y="10804"/>
                  <a:pt x="6350" y="10958"/>
                  <a:pt x="6350" y="11113"/>
                </a:cubicBezTo>
                <a:cubicBezTo>
                  <a:pt x="6434" y="11113"/>
                  <a:pt x="6788" y="11156"/>
                  <a:pt x="6813" y="11079"/>
                </a:cubicBezTo>
              </a:path>
              <a:path w="3110" h="2217">
                <a:moveTo>
                  <a:pt x="7375" y="10385"/>
                </a:moveTo>
                <a:cubicBezTo>
                  <a:pt x="7425" y="10402"/>
                  <a:pt x="7408" y="10425"/>
                  <a:pt x="7408" y="10484"/>
                </a:cubicBezTo>
                <a:cubicBezTo>
                  <a:pt x="7408" y="10693"/>
                  <a:pt x="7408" y="11255"/>
                  <a:pt x="7408" y="11046"/>
                </a:cubicBezTo>
                <a:cubicBezTo>
                  <a:pt x="7408" y="11015"/>
                  <a:pt x="7333" y="10983"/>
                  <a:pt x="7309" y="10980"/>
                </a:cubicBezTo>
                <a:cubicBezTo>
                  <a:pt x="7267" y="10975"/>
                  <a:pt x="7220" y="10980"/>
                  <a:pt x="7177" y="10980"/>
                </a:cubicBezTo>
                <a:cubicBezTo>
                  <a:pt x="7177" y="11058"/>
                  <a:pt x="7165" y="11112"/>
                  <a:pt x="7210" y="11146"/>
                </a:cubicBezTo>
                <a:cubicBezTo>
                  <a:pt x="7260" y="11184"/>
                  <a:pt x="7278" y="11179"/>
                  <a:pt x="7342" y="11179"/>
                </a:cubicBezTo>
                <a:cubicBezTo>
                  <a:pt x="7439" y="11179"/>
                  <a:pt x="7812" y="11133"/>
                  <a:pt x="7838" y="11212"/>
                </a:cubicBezTo>
              </a:path>
              <a:path w="3110" h="2217">
                <a:moveTo>
                  <a:pt x="8037" y="10683"/>
                </a:moveTo>
                <a:cubicBezTo>
                  <a:pt x="8048" y="10683"/>
                  <a:pt x="8059" y="10683"/>
                  <a:pt x="8070" y="10683"/>
                </a:cubicBezTo>
                <a:cubicBezTo>
                  <a:pt x="8084" y="10737"/>
                  <a:pt x="8131" y="10805"/>
                  <a:pt x="8169" y="10848"/>
                </a:cubicBezTo>
                <a:cubicBezTo>
                  <a:pt x="8217" y="10903"/>
                  <a:pt x="8253" y="10960"/>
                  <a:pt x="8301" y="11013"/>
                </a:cubicBezTo>
                <a:cubicBezTo>
                  <a:pt x="8331" y="11043"/>
                  <a:pt x="8337" y="11054"/>
                  <a:pt x="8367" y="11046"/>
                </a:cubicBezTo>
                <a:cubicBezTo>
                  <a:pt x="8382" y="11089"/>
                  <a:pt x="8397" y="11096"/>
                  <a:pt x="8434" y="11146"/>
                </a:cubicBezTo>
              </a:path>
              <a:path w="3110" h="2217">
                <a:moveTo>
                  <a:pt x="8334" y="10782"/>
                </a:moveTo>
                <a:cubicBezTo>
                  <a:pt x="8334" y="10860"/>
                  <a:pt x="8301" y="10907"/>
                  <a:pt x="8268" y="10947"/>
                </a:cubicBezTo>
                <a:cubicBezTo>
                  <a:pt x="8188" y="11044"/>
                  <a:pt x="8095" y="11198"/>
                  <a:pt x="8004" y="11278"/>
                </a:cubicBezTo>
                <a:cubicBezTo>
                  <a:pt x="7952" y="11323"/>
                  <a:pt x="7885" y="11373"/>
                  <a:pt x="7871" y="11344"/>
                </a:cubicBezTo>
              </a:path>
              <a:path w="3110" h="2217">
                <a:moveTo>
                  <a:pt x="5325" y="12435"/>
                </a:moveTo>
                <a:cubicBezTo>
                  <a:pt x="5457" y="12435"/>
                  <a:pt x="5590" y="12435"/>
                  <a:pt x="5722" y="12435"/>
                </a:cubicBezTo>
              </a:path>
              <a:path w="3110" h="2217">
                <a:moveTo>
                  <a:pt x="5887" y="12105"/>
                </a:moveTo>
                <a:cubicBezTo>
                  <a:pt x="5887" y="12204"/>
                  <a:pt x="5887" y="12303"/>
                  <a:pt x="5887" y="12402"/>
                </a:cubicBezTo>
                <a:cubicBezTo>
                  <a:pt x="5964" y="12402"/>
                  <a:pt x="6052" y="12418"/>
                  <a:pt x="6085" y="12369"/>
                </a:cubicBezTo>
              </a:path>
              <a:path w="3110" h="2217">
                <a:moveTo>
                  <a:pt x="6152" y="12204"/>
                </a:moveTo>
                <a:cubicBezTo>
                  <a:pt x="6152" y="12335"/>
                  <a:pt x="6157" y="12445"/>
                  <a:pt x="6185" y="12568"/>
                </a:cubicBezTo>
                <a:cubicBezTo>
                  <a:pt x="6185" y="12579"/>
                  <a:pt x="6185" y="12590"/>
                  <a:pt x="6185" y="12601"/>
                </a:cubicBezTo>
                <a:cubicBezTo>
                  <a:pt x="6260" y="12563"/>
                  <a:pt x="6301" y="12420"/>
                  <a:pt x="6350" y="12336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Ink 15"/>
          <p:cNvSpPr/>
          <p:nvPr/>
        </p:nvSpPr>
        <p:spPr>
          <a:xfrm>
            <a:off x="155520" y="3048120"/>
            <a:ext cx="547920" cy="1643040"/>
          </a:xfrm>
          <a:custGeom>
            <a:avLst/>
            <a:gdLst/>
            <a:ahLst/>
            <a:rect l="l" t="t" r="r" b="b"/>
            <a:pathLst>
              <a:path w="1522" h="4565">
                <a:moveTo>
                  <a:pt x="1521" y="9690"/>
                </a:moveTo>
                <a:cubicBezTo>
                  <a:pt x="1465" y="9634"/>
                  <a:pt x="1442" y="9539"/>
                  <a:pt x="1389" y="9492"/>
                </a:cubicBezTo>
                <a:cubicBezTo>
                  <a:pt x="1367" y="9472"/>
                  <a:pt x="1338" y="9431"/>
                  <a:pt x="1290" y="9426"/>
                </a:cubicBezTo>
                <a:cubicBezTo>
                  <a:pt x="1245" y="9421"/>
                  <a:pt x="1206" y="9438"/>
                  <a:pt x="1191" y="9459"/>
                </a:cubicBezTo>
                <a:cubicBezTo>
                  <a:pt x="1160" y="9502"/>
                  <a:pt x="1097" y="9574"/>
                  <a:pt x="1091" y="9624"/>
                </a:cubicBezTo>
                <a:cubicBezTo>
                  <a:pt x="1068" y="9829"/>
                  <a:pt x="1071" y="10109"/>
                  <a:pt x="1124" y="10286"/>
                </a:cubicBezTo>
                <a:cubicBezTo>
                  <a:pt x="1142" y="10346"/>
                  <a:pt x="1154" y="10454"/>
                  <a:pt x="1158" y="10517"/>
                </a:cubicBezTo>
                <a:cubicBezTo>
                  <a:pt x="1166" y="10630"/>
                  <a:pt x="1159" y="10719"/>
                  <a:pt x="1191" y="10815"/>
                </a:cubicBezTo>
                <a:cubicBezTo>
                  <a:pt x="1216" y="10890"/>
                  <a:pt x="1148" y="11021"/>
                  <a:pt x="1224" y="11046"/>
                </a:cubicBezTo>
              </a:path>
              <a:path w="1522" h="4565">
                <a:moveTo>
                  <a:pt x="860" y="10451"/>
                </a:moveTo>
                <a:cubicBezTo>
                  <a:pt x="1125" y="10451"/>
                  <a:pt x="1389" y="10451"/>
                  <a:pt x="1654" y="10451"/>
                </a:cubicBezTo>
              </a:path>
              <a:path w="1522" h="4565">
                <a:moveTo>
                  <a:pt x="695" y="9095"/>
                </a:moveTo>
                <a:cubicBezTo>
                  <a:pt x="695" y="9084"/>
                  <a:pt x="695" y="9073"/>
                  <a:pt x="695" y="9062"/>
                </a:cubicBezTo>
                <a:cubicBezTo>
                  <a:pt x="662" y="9062"/>
                  <a:pt x="628" y="9062"/>
                  <a:pt x="595" y="9062"/>
                </a:cubicBezTo>
                <a:cubicBezTo>
                  <a:pt x="595" y="9095"/>
                  <a:pt x="595" y="9128"/>
                  <a:pt x="595" y="9161"/>
                </a:cubicBezTo>
                <a:cubicBezTo>
                  <a:pt x="576" y="9193"/>
                  <a:pt x="566" y="9191"/>
                  <a:pt x="562" y="9260"/>
                </a:cubicBezTo>
                <a:cubicBezTo>
                  <a:pt x="545" y="9544"/>
                  <a:pt x="556" y="9857"/>
                  <a:pt x="595" y="10120"/>
                </a:cubicBezTo>
                <a:cubicBezTo>
                  <a:pt x="614" y="10246"/>
                  <a:pt x="662" y="11207"/>
                  <a:pt x="562" y="11245"/>
                </a:cubicBezTo>
                <a:cubicBezTo>
                  <a:pt x="530" y="11257"/>
                  <a:pt x="465" y="11245"/>
                  <a:pt x="430" y="11245"/>
                </a:cubicBezTo>
                <a:cubicBezTo>
                  <a:pt x="430" y="11212"/>
                  <a:pt x="430" y="11201"/>
                  <a:pt x="430" y="11179"/>
                </a:cubicBezTo>
              </a:path>
              <a:path w="1522" h="4565">
                <a:moveTo>
                  <a:pt x="595" y="11807"/>
                </a:moveTo>
                <a:cubicBezTo>
                  <a:pt x="647" y="11794"/>
                  <a:pt x="668" y="11774"/>
                  <a:pt x="728" y="11774"/>
                </a:cubicBezTo>
                <a:cubicBezTo>
                  <a:pt x="783" y="11774"/>
                  <a:pt x="838" y="11774"/>
                  <a:pt x="893" y="11774"/>
                </a:cubicBezTo>
                <a:cubicBezTo>
                  <a:pt x="919" y="11697"/>
                  <a:pt x="1071" y="11711"/>
                  <a:pt x="1158" y="11708"/>
                </a:cubicBezTo>
                <a:cubicBezTo>
                  <a:pt x="1191" y="11708"/>
                  <a:pt x="1224" y="11708"/>
                  <a:pt x="1257" y="11708"/>
                </a:cubicBezTo>
                <a:cubicBezTo>
                  <a:pt x="1274" y="11658"/>
                  <a:pt x="1290" y="11680"/>
                  <a:pt x="1290" y="11609"/>
                </a:cubicBezTo>
              </a:path>
              <a:path w="1522" h="4565">
                <a:moveTo>
                  <a:pt x="1356" y="11443"/>
                </a:moveTo>
                <a:cubicBezTo>
                  <a:pt x="1356" y="11600"/>
                  <a:pt x="1321" y="11796"/>
                  <a:pt x="1389" y="11939"/>
                </a:cubicBezTo>
                <a:cubicBezTo>
                  <a:pt x="1420" y="12003"/>
                  <a:pt x="1493" y="12207"/>
                  <a:pt x="1554" y="12237"/>
                </a:cubicBezTo>
                <a:cubicBezTo>
                  <a:pt x="1629" y="12274"/>
                  <a:pt x="1609" y="12194"/>
                  <a:pt x="1654" y="12171"/>
                </a:cubicBezTo>
                <a:cubicBezTo>
                  <a:pt x="1705" y="12145"/>
                  <a:pt x="1739" y="12119"/>
                  <a:pt x="1786" y="12072"/>
                </a:cubicBezTo>
                <a:cubicBezTo>
                  <a:pt x="1816" y="12042"/>
                  <a:pt x="1876" y="12024"/>
                  <a:pt x="1885" y="12005"/>
                </a:cubicBezTo>
                <a:cubicBezTo>
                  <a:pt x="1885" y="11994"/>
                  <a:pt x="1885" y="11983"/>
                  <a:pt x="1885" y="11972"/>
                </a:cubicBezTo>
              </a:path>
              <a:path w="1522" h="4565">
                <a:moveTo>
                  <a:pt x="1753" y="11509"/>
                </a:moveTo>
                <a:cubicBezTo>
                  <a:pt x="1769" y="11589"/>
                  <a:pt x="1814" y="11627"/>
                  <a:pt x="1819" y="11708"/>
                </a:cubicBezTo>
                <a:cubicBezTo>
                  <a:pt x="1836" y="11998"/>
                  <a:pt x="1815" y="12279"/>
                  <a:pt x="1852" y="12568"/>
                </a:cubicBezTo>
                <a:cubicBezTo>
                  <a:pt x="1872" y="12728"/>
                  <a:pt x="1874" y="12883"/>
                  <a:pt x="1918" y="13031"/>
                </a:cubicBezTo>
                <a:cubicBezTo>
                  <a:pt x="1970" y="12997"/>
                  <a:pt x="1951" y="12913"/>
                  <a:pt x="1951" y="12832"/>
                </a:cubicBezTo>
                <a:cubicBezTo>
                  <a:pt x="1951" y="12709"/>
                  <a:pt x="1941" y="12713"/>
                  <a:pt x="1885" y="12601"/>
                </a:cubicBezTo>
              </a:path>
              <a:path w="1522" h="4565">
                <a:moveTo>
                  <a:pt x="1124" y="8467"/>
                </a:moveTo>
                <a:cubicBezTo>
                  <a:pt x="1124" y="8643"/>
                  <a:pt x="1124" y="8820"/>
                  <a:pt x="1124" y="8996"/>
                </a:cubicBezTo>
                <a:cubicBezTo>
                  <a:pt x="1206" y="8996"/>
                  <a:pt x="1295" y="9017"/>
                  <a:pt x="1356" y="8963"/>
                </a:cubicBezTo>
                <a:cubicBezTo>
                  <a:pt x="1422" y="8904"/>
                  <a:pt x="1448" y="8910"/>
                  <a:pt x="1455" y="8830"/>
                </a:cubicBezTo>
                <a:cubicBezTo>
                  <a:pt x="1455" y="8797"/>
                  <a:pt x="1455" y="8786"/>
                  <a:pt x="1422" y="8797"/>
                </a:cubicBezTo>
                <a:cubicBezTo>
                  <a:pt x="1370" y="8823"/>
                  <a:pt x="1348" y="8863"/>
                  <a:pt x="1323" y="8897"/>
                </a:cubicBezTo>
                <a:cubicBezTo>
                  <a:pt x="1290" y="8941"/>
                  <a:pt x="1270" y="8976"/>
                  <a:pt x="1257" y="9029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Ink 16"/>
          <p:cNvSpPr/>
          <p:nvPr/>
        </p:nvSpPr>
        <p:spPr>
          <a:xfrm>
            <a:off x="3751200" y="3606840"/>
            <a:ext cx="1262160" cy="763560"/>
          </a:xfrm>
          <a:custGeom>
            <a:avLst/>
            <a:gdLst/>
            <a:ahLst/>
            <a:rect l="l" t="t" r="r" b="b"/>
            <a:pathLst>
              <a:path w="3507" h="2118">
                <a:moveTo>
                  <a:pt x="11079" y="11179"/>
                </a:moveTo>
                <a:cubicBezTo>
                  <a:pt x="11079" y="11080"/>
                  <a:pt x="11062" y="10996"/>
                  <a:pt x="11046" y="10914"/>
                </a:cubicBezTo>
                <a:cubicBezTo>
                  <a:pt x="11028" y="10823"/>
                  <a:pt x="11013" y="10745"/>
                  <a:pt x="11013" y="10649"/>
                </a:cubicBezTo>
                <a:cubicBezTo>
                  <a:pt x="11013" y="10564"/>
                  <a:pt x="10970" y="10432"/>
                  <a:pt x="10947" y="10352"/>
                </a:cubicBezTo>
                <a:cubicBezTo>
                  <a:pt x="10926" y="10278"/>
                  <a:pt x="10914" y="10232"/>
                  <a:pt x="10914" y="10153"/>
                </a:cubicBezTo>
                <a:cubicBezTo>
                  <a:pt x="10914" y="10142"/>
                  <a:pt x="10914" y="10131"/>
                  <a:pt x="10914" y="10120"/>
                </a:cubicBezTo>
              </a:path>
              <a:path w="3507" h="2118">
                <a:moveTo>
                  <a:pt x="10418" y="10550"/>
                </a:moveTo>
                <a:cubicBezTo>
                  <a:pt x="10506" y="10550"/>
                  <a:pt x="10595" y="10550"/>
                  <a:pt x="10683" y="10550"/>
                </a:cubicBezTo>
                <a:cubicBezTo>
                  <a:pt x="10683" y="10643"/>
                  <a:pt x="10671" y="10695"/>
                  <a:pt x="10649" y="10782"/>
                </a:cubicBezTo>
                <a:cubicBezTo>
                  <a:pt x="10639" y="10821"/>
                  <a:pt x="10626" y="10842"/>
                  <a:pt x="10616" y="10881"/>
                </a:cubicBezTo>
                <a:cubicBezTo>
                  <a:pt x="10649" y="10881"/>
                  <a:pt x="10683" y="10881"/>
                  <a:pt x="10716" y="10881"/>
                </a:cubicBezTo>
                <a:cubicBezTo>
                  <a:pt x="10732" y="10928"/>
                  <a:pt x="10726" y="10914"/>
                  <a:pt x="10782" y="10914"/>
                </a:cubicBezTo>
              </a:path>
              <a:path w="3507" h="2118">
                <a:moveTo>
                  <a:pt x="10914" y="10087"/>
                </a:moveTo>
                <a:cubicBezTo>
                  <a:pt x="11094" y="10087"/>
                  <a:pt x="11284" y="10073"/>
                  <a:pt x="11443" y="10054"/>
                </a:cubicBezTo>
                <a:cubicBezTo>
                  <a:pt x="11561" y="10040"/>
                  <a:pt x="11704" y="10034"/>
                  <a:pt x="11807" y="10021"/>
                </a:cubicBezTo>
                <a:cubicBezTo>
                  <a:pt x="12142" y="9979"/>
                  <a:pt x="13571" y="9849"/>
                  <a:pt x="13791" y="10054"/>
                </a:cubicBezTo>
                <a:cubicBezTo>
                  <a:pt x="13847" y="10106"/>
                  <a:pt x="13843" y="10119"/>
                  <a:pt x="13858" y="10186"/>
                </a:cubicBezTo>
                <a:cubicBezTo>
                  <a:pt x="13876" y="10264"/>
                  <a:pt x="13861" y="10315"/>
                  <a:pt x="13891" y="10385"/>
                </a:cubicBezTo>
                <a:cubicBezTo>
                  <a:pt x="13924" y="10464"/>
                  <a:pt x="13921" y="10497"/>
                  <a:pt x="13924" y="10583"/>
                </a:cubicBezTo>
                <a:cubicBezTo>
                  <a:pt x="13932" y="10798"/>
                  <a:pt x="13918" y="11008"/>
                  <a:pt x="13891" y="11212"/>
                </a:cubicBezTo>
                <a:cubicBezTo>
                  <a:pt x="13882" y="11283"/>
                  <a:pt x="13870" y="11342"/>
                  <a:pt x="13858" y="11410"/>
                </a:cubicBezTo>
                <a:cubicBezTo>
                  <a:pt x="13858" y="11421"/>
                  <a:pt x="13858" y="11432"/>
                  <a:pt x="13858" y="11443"/>
                </a:cubicBezTo>
                <a:cubicBezTo>
                  <a:pt x="13623" y="11443"/>
                  <a:pt x="13394" y="11417"/>
                  <a:pt x="13163" y="11410"/>
                </a:cubicBezTo>
                <a:cubicBezTo>
                  <a:pt x="12949" y="11404"/>
                  <a:pt x="12740" y="11402"/>
                  <a:pt x="12535" y="11377"/>
                </a:cubicBezTo>
                <a:cubicBezTo>
                  <a:pt x="12431" y="11364"/>
                  <a:pt x="12336" y="11373"/>
                  <a:pt x="12237" y="11344"/>
                </a:cubicBezTo>
                <a:cubicBezTo>
                  <a:pt x="12157" y="11320"/>
                  <a:pt x="12084" y="11332"/>
                  <a:pt x="12005" y="11311"/>
                </a:cubicBezTo>
                <a:cubicBezTo>
                  <a:pt x="11963" y="11300"/>
                  <a:pt x="11915" y="11293"/>
                  <a:pt x="11873" y="11278"/>
                </a:cubicBezTo>
                <a:cubicBezTo>
                  <a:pt x="11818" y="11258"/>
                  <a:pt x="11808" y="11248"/>
                  <a:pt x="11741" y="11245"/>
                </a:cubicBezTo>
                <a:cubicBezTo>
                  <a:pt x="11510" y="11236"/>
                  <a:pt x="11277" y="11245"/>
                  <a:pt x="11046" y="11245"/>
                </a:cubicBezTo>
              </a:path>
              <a:path w="3507" h="2118">
                <a:moveTo>
                  <a:pt x="12535" y="11609"/>
                </a:moveTo>
                <a:cubicBezTo>
                  <a:pt x="12535" y="11763"/>
                  <a:pt x="12535" y="11918"/>
                  <a:pt x="12535" y="12072"/>
                </a:cubicBezTo>
              </a:path>
              <a:path w="3507" h="2118">
                <a:moveTo>
                  <a:pt x="12733" y="11873"/>
                </a:moveTo>
                <a:cubicBezTo>
                  <a:pt x="12733" y="11941"/>
                  <a:pt x="12721" y="11988"/>
                  <a:pt x="12766" y="12039"/>
                </a:cubicBezTo>
                <a:cubicBezTo>
                  <a:pt x="12790" y="12067"/>
                  <a:pt x="12855" y="12157"/>
                  <a:pt x="12898" y="12138"/>
                </a:cubicBezTo>
                <a:cubicBezTo>
                  <a:pt x="12944" y="12118"/>
                  <a:pt x="12993" y="12049"/>
                  <a:pt x="12998" y="12005"/>
                </a:cubicBezTo>
                <a:cubicBezTo>
                  <a:pt x="13006" y="11934"/>
                  <a:pt x="13002" y="11901"/>
                  <a:pt x="12965" y="11873"/>
                </a:cubicBezTo>
                <a:cubicBezTo>
                  <a:pt x="12922" y="11841"/>
                  <a:pt x="12851" y="11797"/>
                  <a:pt x="12799" y="11774"/>
                </a:cubicBezTo>
                <a:cubicBezTo>
                  <a:pt x="12733" y="11745"/>
                  <a:pt x="12733" y="11793"/>
                  <a:pt x="12733" y="11840"/>
                </a:cubicBezTo>
              </a:path>
              <a:path w="3507" h="2118">
                <a:moveTo>
                  <a:pt x="11741" y="10550"/>
                </a:moveTo>
                <a:cubicBezTo>
                  <a:pt x="11741" y="10492"/>
                  <a:pt x="11749" y="10484"/>
                  <a:pt x="11774" y="10451"/>
                </a:cubicBezTo>
                <a:cubicBezTo>
                  <a:pt x="11822" y="10387"/>
                  <a:pt x="11850" y="10421"/>
                  <a:pt x="11873" y="10451"/>
                </a:cubicBezTo>
                <a:cubicBezTo>
                  <a:pt x="11911" y="10501"/>
                  <a:pt x="11906" y="10519"/>
                  <a:pt x="11906" y="10583"/>
                </a:cubicBezTo>
                <a:cubicBezTo>
                  <a:pt x="11906" y="10656"/>
                  <a:pt x="11891" y="10679"/>
                  <a:pt x="11873" y="10749"/>
                </a:cubicBezTo>
                <a:cubicBezTo>
                  <a:pt x="11861" y="10798"/>
                  <a:pt x="11846" y="10809"/>
                  <a:pt x="11807" y="10848"/>
                </a:cubicBezTo>
                <a:cubicBezTo>
                  <a:pt x="11895" y="10848"/>
                  <a:pt x="11984" y="10848"/>
                  <a:pt x="12072" y="10848"/>
                </a:cubicBezTo>
              </a:path>
              <a:path w="3507" h="2118">
                <a:moveTo>
                  <a:pt x="12468" y="10484"/>
                </a:moveTo>
                <a:cubicBezTo>
                  <a:pt x="12407" y="10484"/>
                  <a:pt x="12383" y="10476"/>
                  <a:pt x="12336" y="10517"/>
                </a:cubicBezTo>
                <a:cubicBezTo>
                  <a:pt x="12299" y="10550"/>
                  <a:pt x="12285" y="10637"/>
                  <a:pt x="12270" y="10649"/>
                </a:cubicBezTo>
                <a:cubicBezTo>
                  <a:pt x="12232" y="10679"/>
                  <a:pt x="12237" y="10679"/>
                  <a:pt x="12237" y="10749"/>
                </a:cubicBezTo>
                <a:cubicBezTo>
                  <a:pt x="12278" y="10749"/>
                  <a:pt x="12325" y="10760"/>
                  <a:pt x="12336" y="10782"/>
                </a:cubicBezTo>
                <a:cubicBezTo>
                  <a:pt x="12359" y="10828"/>
                  <a:pt x="12371" y="10815"/>
                  <a:pt x="12435" y="10815"/>
                </a:cubicBezTo>
                <a:cubicBezTo>
                  <a:pt x="12522" y="10815"/>
                  <a:pt x="12629" y="10833"/>
                  <a:pt x="12667" y="10782"/>
                </a:cubicBezTo>
                <a:cubicBezTo>
                  <a:pt x="12700" y="10739"/>
                  <a:pt x="12728" y="10722"/>
                  <a:pt x="12733" y="10683"/>
                </a:cubicBezTo>
                <a:cubicBezTo>
                  <a:pt x="12741" y="10614"/>
                  <a:pt x="12713" y="10609"/>
                  <a:pt x="12700" y="10583"/>
                </a:cubicBezTo>
                <a:cubicBezTo>
                  <a:pt x="12684" y="10550"/>
                  <a:pt x="12644" y="10537"/>
                  <a:pt x="12634" y="10517"/>
                </a:cubicBezTo>
                <a:cubicBezTo>
                  <a:pt x="12629" y="10506"/>
                  <a:pt x="12568" y="10442"/>
                  <a:pt x="12535" y="10484"/>
                </a:cubicBezTo>
                <a:cubicBezTo>
                  <a:pt x="12535" y="10495"/>
                  <a:pt x="12535" y="10506"/>
                  <a:pt x="12535" y="10517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Ink 17"/>
          <p:cNvSpPr/>
          <p:nvPr/>
        </p:nvSpPr>
        <p:spPr>
          <a:xfrm>
            <a:off x="2143080" y="4691160"/>
            <a:ext cx="2346480" cy="1762200"/>
          </a:xfrm>
          <a:custGeom>
            <a:avLst/>
            <a:gdLst/>
            <a:ahLst/>
            <a:rect l="l" t="t" r="r" b="b"/>
            <a:pathLst>
              <a:path w="6516" h="4896">
                <a:moveTo>
                  <a:pt x="9426" y="13031"/>
                </a:moveTo>
                <a:cubicBezTo>
                  <a:pt x="9403" y="13078"/>
                  <a:pt x="9370" y="13092"/>
                  <a:pt x="9360" y="13130"/>
                </a:cubicBezTo>
                <a:cubicBezTo>
                  <a:pt x="9338" y="13210"/>
                  <a:pt x="9341" y="13278"/>
                  <a:pt x="9327" y="13361"/>
                </a:cubicBezTo>
                <a:cubicBezTo>
                  <a:pt x="9311" y="13460"/>
                  <a:pt x="9314" y="13612"/>
                  <a:pt x="9293" y="13725"/>
                </a:cubicBezTo>
                <a:cubicBezTo>
                  <a:pt x="9269" y="13857"/>
                  <a:pt x="9227" y="13909"/>
                  <a:pt x="9227" y="14056"/>
                </a:cubicBezTo>
                <a:cubicBezTo>
                  <a:pt x="9227" y="15261"/>
                  <a:pt x="9163" y="16500"/>
                  <a:pt x="9260" y="17694"/>
                </a:cubicBezTo>
                <a:cubicBezTo>
                  <a:pt x="9264" y="17740"/>
                  <a:pt x="9304" y="17904"/>
                  <a:pt x="9293" y="17926"/>
                </a:cubicBezTo>
                <a:cubicBezTo>
                  <a:pt x="9282" y="17915"/>
                  <a:pt x="9271" y="17903"/>
                  <a:pt x="9260" y="17892"/>
                </a:cubicBezTo>
              </a:path>
              <a:path w="6516" h="4896">
                <a:moveTo>
                  <a:pt x="6185" y="15908"/>
                </a:moveTo>
                <a:cubicBezTo>
                  <a:pt x="8279" y="15908"/>
                  <a:pt x="10374" y="15908"/>
                  <a:pt x="12468" y="15908"/>
                </a:cubicBezTo>
              </a:path>
              <a:path w="6516" h="4896">
                <a:moveTo>
                  <a:pt x="5953" y="14089"/>
                </a:moveTo>
                <a:cubicBezTo>
                  <a:pt x="6008" y="14079"/>
                  <a:pt x="6042" y="14048"/>
                  <a:pt x="6118" y="14056"/>
                </a:cubicBezTo>
                <a:cubicBezTo>
                  <a:pt x="6201" y="14065"/>
                  <a:pt x="6269" y="14073"/>
                  <a:pt x="6350" y="14089"/>
                </a:cubicBezTo>
                <a:cubicBezTo>
                  <a:pt x="6463" y="14111"/>
                  <a:pt x="6567" y="14105"/>
                  <a:pt x="6681" y="14122"/>
                </a:cubicBezTo>
                <a:cubicBezTo>
                  <a:pt x="6805" y="14141"/>
                  <a:pt x="6927" y="14203"/>
                  <a:pt x="7045" y="14221"/>
                </a:cubicBezTo>
                <a:cubicBezTo>
                  <a:pt x="7143" y="14236"/>
                  <a:pt x="7279" y="14248"/>
                  <a:pt x="7375" y="14254"/>
                </a:cubicBezTo>
                <a:cubicBezTo>
                  <a:pt x="7527" y="14263"/>
                  <a:pt x="7658" y="14262"/>
                  <a:pt x="7805" y="14288"/>
                </a:cubicBezTo>
                <a:cubicBezTo>
                  <a:pt x="7911" y="14307"/>
                  <a:pt x="8027" y="14332"/>
                  <a:pt x="8136" y="14354"/>
                </a:cubicBezTo>
                <a:cubicBezTo>
                  <a:pt x="8251" y="14377"/>
                  <a:pt x="8382" y="14407"/>
                  <a:pt x="8500" y="14420"/>
                </a:cubicBezTo>
                <a:cubicBezTo>
                  <a:pt x="8708" y="14442"/>
                  <a:pt x="8931" y="14416"/>
                  <a:pt x="9128" y="14387"/>
                </a:cubicBezTo>
                <a:cubicBezTo>
                  <a:pt x="9272" y="14366"/>
                  <a:pt x="9411" y="14357"/>
                  <a:pt x="9558" y="14354"/>
                </a:cubicBezTo>
                <a:cubicBezTo>
                  <a:pt x="9814" y="14349"/>
                  <a:pt x="10074" y="14338"/>
                  <a:pt x="10319" y="14321"/>
                </a:cubicBezTo>
                <a:cubicBezTo>
                  <a:pt x="10468" y="14311"/>
                  <a:pt x="10600" y="14315"/>
                  <a:pt x="10749" y="14288"/>
                </a:cubicBezTo>
                <a:cubicBezTo>
                  <a:pt x="10827" y="14274"/>
                  <a:pt x="10915" y="14237"/>
                  <a:pt x="10980" y="14221"/>
                </a:cubicBezTo>
                <a:cubicBezTo>
                  <a:pt x="11048" y="14204"/>
                  <a:pt x="11120" y="14171"/>
                  <a:pt x="11179" y="14155"/>
                </a:cubicBezTo>
                <a:cubicBezTo>
                  <a:pt x="11206" y="14148"/>
                  <a:pt x="11295" y="14124"/>
                  <a:pt x="11311" y="14122"/>
                </a:cubicBezTo>
                <a:cubicBezTo>
                  <a:pt x="11418" y="14110"/>
                  <a:pt x="11543" y="14096"/>
                  <a:pt x="11642" y="14089"/>
                </a:cubicBezTo>
                <a:cubicBezTo>
                  <a:pt x="11803" y="14078"/>
                  <a:pt x="12251" y="14037"/>
                  <a:pt x="12336" y="14122"/>
                </a:cubicBezTo>
                <a:cubicBezTo>
                  <a:pt x="12370" y="14156"/>
                  <a:pt x="12357" y="14189"/>
                  <a:pt x="12369" y="14254"/>
                </a:cubicBezTo>
                <a:cubicBezTo>
                  <a:pt x="12414" y="14486"/>
                  <a:pt x="12353" y="14759"/>
                  <a:pt x="12336" y="14982"/>
                </a:cubicBezTo>
                <a:cubicBezTo>
                  <a:pt x="12316" y="15239"/>
                  <a:pt x="12342" y="15572"/>
                  <a:pt x="12369" y="15776"/>
                </a:cubicBezTo>
                <a:cubicBezTo>
                  <a:pt x="12369" y="15809"/>
                  <a:pt x="12369" y="15820"/>
                  <a:pt x="12369" y="15842"/>
                </a:cubicBezTo>
                <a:cubicBezTo>
                  <a:pt x="12364" y="15843"/>
                  <a:pt x="12290" y="15874"/>
                  <a:pt x="12237" y="15875"/>
                </a:cubicBezTo>
                <a:cubicBezTo>
                  <a:pt x="11719" y="15885"/>
                  <a:pt x="11189" y="15875"/>
                  <a:pt x="10683" y="15908"/>
                </a:cubicBezTo>
                <a:cubicBezTo>
                  <a:pt x="10480" y="15921"/>
                  <a:pt x="10286" y="15901"/>
                  <a:pt x="10087" y="15941"/>
                </a:cubicBezTo>
                <a:cubicBezTo>
                  <a:pt x="9994" y="15960"/>
                  <a:pt x="9925" y="15971"/>
                  <a:pt x="9823" y="15974"/>
                </a:cubicBezTo>
                <a:cubicBezTo>
                  <a:pt x="9548" y="15982"/>
                  <a:pt x="9249" y="15952"/>
                  <a:pt x="8996" y="16007"/>
                </a:cubicBezTo>
                <a:cubicBezTo>
                  <a:pt x="8939" y="16019"/>
                  <a:pt x="8881" y="16035"/>
                  <a:pt x="8830" y="16040"/>
                </a:cubicBezTo>
                <a:cubicBezTo>
                  <a:pt x="8347" y="16086"/>
                  <a:pt x="7717" y="16100"/>
                  <a:pt x="7243" y="16007"/>
                </a:cubicBezTo>
                <a:cubicBezTo>
                  <a:pt x="7185" y="15996"/>
                  <a:pt x="7138" y="15981"/>
                  <a:pt x="7078" y="15974"/>
                </a:cubicBezTo>
                <a:cubicBezTo>
                  <a:pt x="7023" y="15968"/>
                  <a:pt x="6952" y="15945"/>
                  <a:pt x="6912" y="15941"/>
                </a:cubicBezTo>
                <a:cubicBezTo>
                  <a:pt x="6708" y="15919"/>
                  <a:pt x="6490" y="15941"/>
                  <a:pt x="6284" y="15941"/>
                </a:cubicBezTo>
                <a:cubicBezTo>
                  <a:pt x="6284" y="15773"/>
                  <a:pt x="6288" y="15609"/>
                  <a:pt x="6317" y="15445"/>
                </a:cubicBezTo>
                <a:cubicBezTo>
                  <a:pt x="6345" y="15287"/>
                  <a:pt x="6350" y="15143"/>
                  <a:pt x="6350" y="14982"/>
                </a:cubicBezTo>
                <a:cubicBezTo>
                  <a:pt x="6350" y="14802"/>
                  <a:pt x="6331" y="14623"/>
                  <a:pt x="6317" y="14453"/>
                </a:cubicBezTo>
                <a:cubicBezTo>
                  <a:pt x="6310" y="14363"/>
                  <a:pt x="6292" y="14261"/>
                  <a:pt x="6284" y="14188"/>
                </a:cubicBezTo>
                <a:cubicBezTo>
                  <a:pt x="6284" y="14155"/>
                  <a:pt x="6284" y="14144"/>
                  <a:pt x="6284" y="14122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Ink 18"/>
          <p:cNvSpPr/>
          <p:nvPr/>
        </p:nvSpPr>
        <p:spPr>
          <a:xfrm>
            <a:off x="4524480" y="5656320"/>
            <a:ext cx="95040" cy="630360"/>
          </a:xfrm>
          <a:custGeom>
            <a:avLst/>
            <a:gdLst/>
            <a:ahLst/>
            <a:rect l="l" t="t" r="r" b="b"/>
            <a:pathLst>
              <a:path w="265" h="1754">
                <a:moveTo>
                  <a:pt x="12568" y="15710"/>
                </a:moveTo>
                <a:cubicBezTo>
                  <a:pt x="12568" y="15791"/>
                  <a:pt x="12591" y="15835"/>
                  <a:pt x="12601" y="15908"/>
                </a:cubicBezTo>
                <a:cubicBezTo>
                  <a:pt x="12622" y="16061"/>
                  <a:pt x="12669" y="16195"/>
                  <a:pt x="12733" y="16338"/>
                </a:cubicBezTo>
              </a:path>
              <a:path w="265" h="1754">
                <a:moveTo>
                  <a:pt x="12766" y="16768"/>
                </a:moveTo>
                <a:cubicBezTo>
                  <a:pt x="12732" y="16813"/>
                  <a:pt x="12716" y="16848"/>
                  <a:pt x="12700" y="16900"/>
                </a:cubicBezTo>
                <a:cubicBezTo>
                  <a:pt x="12674" y="16983"/>
                  <a:pt x="12634" y="17046"/>
                  <a:pt x="12634" y="17132"/>
                </a:cubicBezTo>
                <a:cubicBezTo>
                  <a:pt x="12634" y="17193"/>
                  <a:pt x="12607" y="17210"/>
                  <a:pt x="12601" y="17264"/>
                </a:cubicBezTo>
                <a:cubicBezTo>
                  <a:pt x="12596" y="17307"/>
                  <a:pt x="12588" y="17373"/>
                  <a:pt x="12634" y="17396"/>
                </a:cubicBezTo>
                <a:cubicBezTo>
                  <a:pt x="12681" y="17420"/>
                  <a:pt x="12740" y="17457"/>
                  <a:pt x="12799" y="17463"/>
                </a:cubicBezTo>
                <a:cubicBezTo>
                  <a:pt x="12810" y="17463"/>
                  <a:pt x="12821" y="17463"/>
                  <a:pt x="12832" y="17463"/>
                </a:cubicBezTo>
                <a:cubicBezTo>
                  <a:pt x="12832" y="17408"/>
                  <a:pt x="12832" y="17352"/>
                  <a:pt x="12832" y="17297"/>
                </a:cubicBezTo>
                <a:cubicBezTo>
                  <a:pt x="12758" y="17297"/>
                  <a:pt x="12787" y="17271"/>
                  <a:pt x="12733" y="17264"/>
                </a:cubicBezTo>
                <a:cubicBezTo>
                  <a:pt x="12680" y="17257"/>
                  <a:pt x="12622" y="17264"/>
                  <a:pt x="12568" y="17264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Ink 19"/>
          <p:cNvSpPr/>
          <p:nvPr/>
        </p:nvSpPr>
        <p:spPr>
          <a:xfrm>
            <a:off x="2727360" y="6773760"/>
            <a:ext cx="1844640" cy="441360"/>
          </a:xfrm>
          <a:custGeom>
            <a:avLst/>
            <a:gdLst/>
            <a:ahLst/>
            <a:rect l="l" t="t" r="r" b="b"/>
            <a:pathLst>
              <a:path w="5127" h="1225">
                <a:moveTo>
                  <a:pt x="7574" y="18885"/>
                </a:moveTo>
                <a:cubicBezTo>
                  <a:pt x="7621" y="18869"/>
                  <a:pt x="7606" y="18826"/>
                  <a:pt x="7673" y="18818"/>
                </a:cubicBezTo>
                <a:cubicBezTo>
                  <a:pt x="7737" y="18811"/>
                  <a:pt x="7806" y="18818"/>
                  <a:pt x="7871" y="18818"/>
                </a:cubicBezTo>
                <a:cubicBezTo>
                  <a:pt x="7871" y="18896"/>
                  <a:pt x="7858" y="18923"/>
                  <a:pt x="7838" y="18984"/>
                </a:cubicBezTo>
                <a:cubicBezTo>
                  <a:pt x="7820" y="19037"/>
                  <a:pt x="7823" y="18997"/>
                  <a:pt x="7805" y="19050"/>
                </a:cubicBezTo>
                <a:cubicBezTo>
                  <a:pt x="7850" y="19110"/>
                  <a:pt x="7848" y="19100"/>
                  <a:pt x="7904" y="19149"/>
                </a:cubicBezTo>
                <a:cubicBezTo>
                  <a:pt x="7947" y="19187"/>
                  <a:pt x="7976" y="19245"/>
                  <a:pt x="8004" y="19282"/>
                </a:cubicBezTo>
                <a:cubicBezTo>
                  <a:pt x="8042" y="19332"/>
                  <a:pt x="8037" y="19350"/>
                  <a:pt x="8037" y="19414"/>
                </a:cubicBezTo>
                <a:cubicBezTo>
                  <a:pt x="8037" y="19447"/>
                  <a:pt x="8037" y="19458"/>
                  <a:pt x="8037" y="19480"/>
                </a:cubicBezTo>
                <a:cubicBezTo>
                  <a:pt x="7936" y="19480"/>
                  <a:pt x="7967" y="19505"/>
                  <a:pt x="7904" y="19513"/>
                </a:cubicBezTo>
                <a:cubicBezTo>
                  <a:pt x="7872" y="19517"/>
                  <a:pt x="7837" y="19513"/>
                  <a:pt x="7805" y="19513"/>
                </a:cubicBezTo>
                <a:cubicBezTo>
                  <a:pt x="7805" y="19469"/>
                  <a:pt x="7805" y="19425"/>
                  <a:pt x="7805" y="19381"/>
                </a:cubicBezTo>
              </a:path>
              <a:path w="5127" h="1225">
                <a:moveTo>
                  <a:pt x="8334" y="19248"/>
                </a:moveTo>
                <a:cubicBezTo>
                  <a:pt x="8466" y="19248"/>
                  <a:pt x="8599" y="19248"/>
                  <a:pt x="8731" y="19248"/>
                </a:cubicBezTo>
              </a:path>
              <a:path w="5127" h="1225">
                <a:moveTo>
                  <a:pt x="8764" y="19083"/>
                </a:moveTo>
                <a:cubicBezTo>
                  <a:pt x="8829" y="19083"/>
                  <a:pt x="8951" y="19043"/>
                  <a:pt x="8996" y="19050"/>
                </a:cubicBezTo>
                <a:cubicBezTo>
                  <a:pt x="9058" y="19060"/>
                  <a:pt x="9062" y="19169"/>
                  <a:pt x="9062" y="19215"/>
                </a:cubicBezTo>
                <a:cubicBezTo>
                  <a:pt x="9062" y="19316"/>
                  <a:pt x="9055" y="19394"/>
                  <a:pt x="9029" y="19480"/>
                </a:cubicBezTo>
                <a:cubicBezTo>
                  <a:pt x="9012" y="19538"/>
                  <a:pt x="9055" y="19526"/>
                  <a:pt x="8996" y="19546"/>
                </a:cubicBezTo>
                <a:cubicBezTo>
                  <a:pt x="9150" y="19546"/>
                  <a:pt x="9313" y="19568"/>
                  <a:pt x="9459" y="19513"/>
                </a:cubicBezTo>
                <a:cubicBezTo>
                  <a:pt x="9548" y="19479"/>
                  <a:pt x="9525" y="19465"/>
                  <a:pt x="9525" y="19381"/>
                </a:cubicBezTo>
              </a:path>
              <a:path w="5127" h="1225">
                <a:moveTo>
                  <a:pt x="9790" y="19050"/>
                </a:moveTo>
                <a:cubicBezTo>
                  <a:pt x="9790" y="19160"/>
                  <a:pt x="9790" y="19271"/>
                  <a:pt x="9790" y="19381"/>
                </a:cubicBezTo>
              </a:path>
              <a:path w="5127" h="1225">
                <a:moveTo>
                  <a:pt x="9988" y="19116"/>
                </a:moveTo>
                <a:cubicBezTo>
                  <a:pt x="10041" y="19134"/>
                  <a:pt x="10021" y="19181"/>
                  <a:pt x="10021" y="19248"/>
                </a:cubicBezTo>
                <a:cubicBezTo>
                  <a:pt x="10021" y="19340"/>
                  <a:pt x="10021" y="19627"/>
                  <a:pt x="10021" y="19612"/>
                </a:cubicBezTo>
                <a:cubicBezTo>
                  <a:pt x="10021" y="19565"/>
                  <a:pt x="10015" y="19542"/>
                  <a:pt x="9988" y="19513"/>
                </a:cubicBezTo>
              </a:path>
              <a:path w="5127" h="1225">
                <a:moveTo>
                  <a:pt x="9591" y="19248"/>
                </a:moveTo>
                <a:cubicBezTo>
                  <a:pt x="9591" y="19180"/>
                  <a:pt x="9610" y="19177"/>
                  <a:pt x="9624" y="19149"/>
                </a:cubicBezTo>
                <a:cubicBezTo>
                  <a:pt x="9639" y="19120"/>
                  <a:pt x="9683" y="19067"/>
                  <a:pt x="9690" y="19050"/>
                </a:cubicBezTo>
                <a:cubicBezTo>
                  <a:pt x="9715" y="18992"/>
                  <a:pt x="9783" y="18951"/>
                  <a:pt x="9790" y="18885"/>
                </a:cubicBezTo>
                <a:cubicBezTo>
                  <a:pt x="9790" y="18874"/>
                  <a:pt x="9790" y="18863"/>
                  <a:pt x="9790" y="18852"/>
                </a:cubicBezTo>
                <a:cubicBezTo>
                  <a:pt x="9830" y="18905"/>
                  <a:pt x="9796" y="18936"/>
                  <a:pt x="9823" y="18984"/>
                </a:cubicBezTo>
                <a:cubicBezTo>
                  <a:pt x="9841" y="19016"/>
                  <a:pt x="9902" y="19047"/>
                  <a:pt x="9922" y="19050"/>
                </a:cubicBezTo>
                <a:cubicBezTo>
                  <a:pt x="9995" y="19059"/>
                  <a:pt x="10052" y="19071"/>
                  <a:pt x="10120" y="19083"/>
                </a:cubicBezTo>
                <a:cubicBezTo>
                  <a:pt x="10206" y="19098"/>
                  <a:pt x="10249" y="19068"/>
                  <a:pt x="10286" y="19050"/>
                </a:cubicBezTo>
                <a:cubicBezTo>
                  <a:pt x="10319" y="19050"/>
                  <a:pt x="10330" y="19050"/>
                  <a:pt x="10319" y="19017"/>
                </a:cubicBezTo>
              </a:path>
              <a:path w="5127" h="1225">
                <a:moveTo>
                  <a:pt x="10914" y="19447"/>
                </a:moveTo>
                <a:cubicBezTo>
                  <a:pt x="10914" y="19517"/>
                  <a:pt x="10893" y="19545"/>
                  <a:pt x="10881" y="19612"/>
                </a:cubicBezTo>
                <a:cubicBezTo>
                  <a:pt x="10867" y="19694"/>
                  <a:pt x="10881" y="19793"/>
                  <a:pt x="10881" y="19877"/>
                </a:cubicBezTo>
                <a:cubicBezTo>
                  <a:pt x="10871" y="19838"/>
                  <a:pt x="10858" y="19817"/>
                  <a:pt x="10848" y="19778"/>
                </a:cubicBezTo>
              </a:path>
              <a:path w="5127" h="1225">
                <a:moveTo>
                  <a:pt x="10749" y="19711"/>
                </a:moveTo>
                <a:cubicBezTo>
                  <a:pt x="10856" y="19711"/>
                  <a:pt x="10940" y="19713"/>
                  <a:pt x="11046" y="19678"/>
                </a:cubicBezTo>
                <a:cubicBezTo>
                  <a:pt x="11137" y="19648"/>
                  <a:pt x="11226" y="19633"/>
                  <a:pt x="11311" y="19612"/>
                </a:cubicBezTo>
              </a:path>
              <a:path w="5127" h="1225">
                <a:moveTo>
                  <a:pt x="11344" y="19513"/>
                </a:moveTo>
                <a:cubicBezTo>
                  <a:pt x="11367" y="19478"/>
                  <a:pt x="11476" y="19462"/>
                  <a:pt x="11542" y="19447"/>
                </a:cubicBezTo>
                <a:cubicBezTo>
                  <a:pt x="11571" y="19440"/>
                  <a:pt x="11612" y="19447"/>
                  <a:pt x="11642" y="19447"/>
                </a:cubicBezTo>
                <a:cubicBezTo>
                  <a:pt x="11642" y="19533"/>
                  <a:pt x="11662" y="19638"/>
                  <a:pt x="11609" y="19711"/>
                </a:cubicBezTo>
                <a:cubicBezTo>
                  <a:pt x="11538" y="19808"/>
                  <a:pt x="11542" y="19789"/>
                  <a:pt x="11542" y="19910"/>
                </a:cubicBezTo>
                <a:cubicBezTo>
                  <a:pt x="11542" y="19983"/>
                  <a:pt x="11621" y="20027"/>
                  <a:pt x="11708" y="20042"/>
                </a:cubicBezTo>
                <a:cubicBezTo>
                  <a:pt x="11780" y="20055"/>
                  <a:pt x="12058" y="20064"/>
                  <a:pt x="12072" y="20009"/>
                </a:cubicBezTo>
                <a:cubicBezTo>
                  <a:pt x="12072" y="19976"/>
                  <a:pt x="12072" y="19965"/>
                  <a:pt x="12072" y="19943"/>
                </a:cubicBezTo>
              </a:path>
              <a:path w="5127" h="1225">
                <a:moveTo>
                  <a:pt x="12270" y="19513"/>
                </a:moveTo>
                <a:cubicBezTo>
                  <a:pt x="12182" y="19535"/>
                  <a:pt x="12236" y="19555"/>
                  <a:pt x="12204" y="19612"/>
                </a:cubicBezTo>
                <a:cubicBezTo>
                  <a:pt x="12165" y="19683"/>
                  <a:pt x="12143" y="19794"/>
                  <a:pt x="12138" y="19877"/>
                </a:cubicBezTo>
                <a:cubicBezTo>
                  <a:pt x="12138" y="19932"/>
                  <a:pt x="12138" y="19943"/>
                  <a:pt x="12138" y="19976"/>
                </a:cubicBezTo>
                <a:cubicBezTo>
                  <a:pt x="12208" y="19976"/>
                  <a:pt x="12236" y="19955"/>
                  <a:pt x="12303" y="19943"/>
                </a:cubicBezTo>
                <a:cubicBezTo>
                  <a:pt x="12381" y="19929"/>
                  <a:pt x="12551" y="19888"/>
                  <a:pt x="12601" y="19844"/>
                </a:cubicBezTo>
                <a:cubicBezTo>
                  <a:pt x="12649" y="19801"/>
                  <a:pt x="12696" y="19681"/>
                  <a:pt x="12700" y="19645"/>
                </a:cubicBezTo>
                <a:cubicBezTo>
                  <a:pt x="12705" y="19604"/>
                  <a:pt x="12686" y="19556"/>
                  <a:pt x="12667" y="19546"/>
                </a:cubicBezTo>
                <a:cubicBezTo>
                  <a:pt x="12601" y="19513"/>
                  <a:pt x="12605" y="19420"/>
                  <a:pt x="12535" y="19381"/>
                </a:cubicBezTo>
                <a:cubicBezTo>
                  <a:pt x="12479" y="19350"/>
                  <a:pt x="12384" y="19487"/>
                  <a:pt x="12369" y="19513"/>
                </a:cubicBezTo>
                <a:cubicBezTo>
                  <a:pt x="12369" y="19524"/>
                  <a:pt x="12369" y="19535"/>
                  <a:pt x="12369" y="19546"/>
                </a:cubicBezTo>
              </a:path>
            </a:pathLst>
          </a:custGeom>
          <a:noFill/>
          <a:ln cap="rnd" w="190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Ink 20"/>
          <p:cNvSpPr/>
          <p:nvPr/>
        </p:nvSpPr>
        <p:spPr>
          <a:xfrm>
            <a:off x="2309760" y="368280"/>
            <a:ext cx="1584360" cy="822240"/>
          </a:xfrm>
          <a:custGeom>
            <a:avLst/>
            <a:gdLst/>
            <a:ahLst/>
            <a:rect l="l" t="t" r="r" b="b"/>
            <a:pathLst>
              <a:path w="4400" h="2283">
                <a:moveTo>
                  <a:pt x="8434" y="1158"/>
                </a:moveTo>
                <a:cubicBezTo>
                  <a:pt x="8122" y="1158"/>
                  <a:pt x="7760" y="1115"/>
                  <a:pt x="7474" y="1191"/>
                </a:cubicBezTo>
                <a:cubicBezTo>
                  <a:pt x="7420" y="1205"/>
                  <a:pt x="7398" y="1244"/>
                  <a:pt x="7375" y="1257"/>
                </a:cubicBezTo>
                <a:cubicBezTo>
                  <a:pt x="7293" y="1305"/>
                  <a:pt x="7201" y="1357"/>
                  <a:pt x="7111" y="1422"/>
                </a:cubicBezTo>
                <a:cubicBezTo>
                  <a:pt x="7022" y="1486"/>
                  <a:pt x="6933" y="1555"/>
                  <a:pt x="6846" y="1621"/>
                </a:cubicBezTo>
                <a:cubicBezTo>
                  <a:pt x="6759" y="1687"/>
                  <a:pt x="6710" y="1735"/>
                  <a:pt x="6648" y="1819"/>
                </a:cubicBezTo>
                <a:cubicBezTo>
                  <a:pt x="6622" y="1854"/>
                  <a:pt x="6580" y="1908"/>
                  <a:pt x="6548" y="1951"/>
                </a:cubicBezTo>
                <a:cubicBezTo>
                  <a:pt x="6511" y="2000"/>
                  <a:pt x="6473" y="2066"/>
                  <a:pt x="6449" y="2117"/>
                </a:cubicBezTo>
                <a:cubicBezTo>
                  <a:pt x="6421" y="2174"/>
                  <a:pt x="6425" y="2183"/>
                  <a:pt x="6416" y="2249"/>
                </a:cubicBezTo>
                <a:cubicBezTo>
                  <a:pt x="6397" y="2379"/>
                  <a:pt x="6444" y="2461"/>
                  <a:pt x="6482" y="2547"/>
                </a:cubicBezTo>
                <a:cubicBezTo>
                  <a:pt x="6514" y="2618"/>
                  <a:pt x="6570" y="2663"/>
                  <a:pt x="6615" y="2712"/>
                </a:cubicBezTo>
                <a:cubicBezTo>
                  <a:pt x="6687" y="2789"/>
                  <a:pt x="6744" y="2793"/>
                  <a:pt x="6813" y="2844"/>
                </a:cubicBezTo>
                <a:cubicBezTo>
                  <a:pt x="6839" y="2863"/>
                  <a:pt x="6878" y="2956"/>
                  <a:pt x="6912" y="2977"/>
                </a:cubicBezTo>
                <a:cubicBezTo>
                  <a:pt x="6940" y="2995"/>
                  <a:pt x="7022" y="3031"/>
                  <a:pt x="7045" y="3043"/>
                </a:cubicBezTo>
                <a:cubicBezTo>
                  <a:pt x="7100" y="3073"/>
                  <a:pt x="7224" y="3076"/>
                  <a:pt x="7276" y="3109"/>
                </a:cubicBezTo>
                <a:cubicBezTo>
                  <a:pt x="7374" y="3171"/>
                  <a:pt x="7399" y="3207"/>
                  <a:pt x="7508" y="3241"/>
                </a:cubicBezTo>
                <a:cubicBezTo>
                  <a:pt x="7626" y="3278"/>
                  <a:pt x="7773" y="3305"/>
                  <a:pt x="7904" y="3307"/>
                </a:cubicBezTo>
                <a:cubicBezTo>
                  <a:pt x="8227" y="3313"/>
                  <a:pt x="8553" y="3299"/>
                  <a:pt x="8864" y="3274"/>
                </a:cubicBezTo>
                <a:cubicBezTo>
                  <a:pt x="9130" y="3253"/>
                  <a:pt x="9398" y="3304"/>
                  <a:pt x="9657" y="3241"/>
                </a:cubicBezTo>
                <a:cubicBezTo>
                  <a:pt x="9747" y="3219"/>
                  <a:pt x="9866" y="3182"/>
                  <a:pt x="9955" y="3175"/>
                </a:cubicBezTo>
                <a:cubicBezTo>
                  <a:pt x="10093" y="3164"/>
                  <a:pt x="10195" y="3142"/>
                  <a:pt x="10319" y="3109"/>
                </a:cubicBezTo>
                <a:cubicBezTo>
                  <a:pt x="10420" y="3082"/>
                  <a:pt x="10515" y="3046"/>
                  <a:pt x="10616" y="3010"/>
                </a:cubicBezTo>
                <a:cubicBezTo>
                  <a:pt x="10670" y="2991"/>
                  <a:pt x="10680" y="3008"/>
                  <a:pt x="10716" y="2977"/>
                </a:cubicBezTo>
                <a:cubicBezTo>
                  <a:pt x="10755" y="2943"/>
                  <a:pt x="10768" y="2889"/>
                  <a:pt x="10782" y="2844"/>
                </a:cubicBezTo>
                <a:cubicBezTo>
                  <a:pt x="10789" y="2821"/>
                  <a:pt x="10813" y="2725"/>
                  <a:pt x="10815" y="2712"/>
                </a:cubicBezTo>
                <a:cubicBezTo>
                  <a:pt x="10834" y="2559"/>
                  <a:pt x="10816" y="2391"/>
                  <a:pt x="10782" y="2249"/>
                </a:cubicBezTo>
                <a:cubicBezTo>
                  <a:pt x="10758" y="2148"/>
                  <a:pt x="10733" y="2014"/>
                  <a:pt x="10683" y="1918"/>
                </a:cubicBezTo>
                <a:cubicBezTo>
                  <a:pt x="10648" y="1851"/>
                  <a:pt x="10583" y="1838"/>
                  <a:pt x="10550" y="1786"/>
                </a:cubicBezTo>
                <a:cubicBezTo>
                  <a:pt x="10506" y="1717"/>
                  <a:pt x="10464" y="1697"/>
                  <a:pt x="10418" y="1654"/>
                </a:cubicBezTo>
                <a:cubicBezTo>
                  <a:pt x="10378" y="1617"/>
                  <a:pt x="10325" y="1508"/>
                  <a:pt x="10253" y="1455"/>
                </a:cubicBezTo>
                <a:cubicBezTo>
                  <a:pt x="10174" y="1397"/>
                  <a:pt x="10072" y="1307"/>
                  <a:pt x="9988" y="1257"/>
                </a:cubicBezTo>
                <a:cubicBezTo>
                  <a:pt x="9946" y="1232"/>
                  <a:pt x="9842" y="1208"/>
                  <a:pt x="9790" y="1191"/>
                </a:cubicBezTo>
                <a:cubicBezTo>
                  <a:pt x="9731" y="1171"/>
                  <a:pt x="9657" y="1146"/>
                  <a:pt x="9591" y="1124"/>
                </a:cubicBezTo>
                <a:cubicBezTo>
                  <a:pt x="9523" y="1101"/>
                  <a:pt x="9465" y="1067"/>
                  <a:pt x="9393" y="1058"/>
                </a:cubicBezTo>
                <a:cubicBezTo>
                  <a:pt x="9306" y="1047"/>
                  <a:pt x="9213" y="1031"/>
                  <a:pt x="9128" y="1025"/>
                </a:cubicBezTo>
                <a:cubicBezTo>
                  <a:pt x="8910" y="1009"/>
                  <a:pt x="8608" y="986"/>
                  <a:pt x="8401" y="1058"/>
                </a:cubicBezTo>
                <a:cubicBezTo>
                  <a:pt x="8224" y="1120"/>
                  <a:pt x="8118" y="1157"/>
                  <a:pt x="7938" y="1191"/>
                </a:cubicBezTo>
                <a:cubicBezTo>
                  <a:pt x="7853" y="1207"/>
                  <a:pt x="7859" y="1213"/>
                  <a:pt x="7805" y="1224"/>
                </a:cubicBezTo>
                <a:cubicBezTo>
                  <a:pt x="7737" y="1238"/>
                  <a:pt x="7645" y="1258"/>
                  <a:pt x="7574" y="1290"/>
                </a:cubicBezTo>
                <a:cubicBezTo>
                  <a:pt x="7432" y="1354"/>
                  <a:pt x="7301" y="1395"/>
                  <a:pt x="7177" y="1455"/>
                </a:cubicBezTo>
                <a:cubicBezTo>
                  <a:pt x="7112" y="1486"/>
                  <a:pt x="7099" y="1497"/>
                  <a:pt x="7045" y="1521"/>
                </a:cubicBezTo>
              </a:path>
            </a:pathLst>
          </a:custGeom>
          <a:noFill/>
          <a:ln cap="rnd" w="1908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Ink 21"/>
          <p:cNvSpPr/>
          <p:nvPr/>
        </p:nvSpPr>
        <p:spPr>
          <a:xfrm>
            <a:off x="2178000" y="3036960"/>
            <a:ext cx="179280" cy="272880"/>
          </a:xfrm>
          <a:custGeom>
            <a:avLst/>
            <a:gdLst/>
            <a:ahLst/>
            <a:rect l="l" t="t" r="r" b="b"/>
            <a:pathLst>
              <a:path w="497" h="761">
                <a:moveTo>
                  <a:pt x="6052" y="8434"/>
                </a:moveTo>
                <a:cubicBezTo>
                  <a:pt x="6052" y="8497"/>
                  <a:pt x="6081" y="8539"/>
                  <a:pt x="6085" y="8599"/>
                </a:cubicBezTo>
                <a:cubicBezTo>
                  <a:pt x="6091" y="8686"/>
                  <a:pt x="6131" y="8743"/>
                  <a:pt x="6152" y="8830"/>
                </a:cubicBezTo>
                <a:cubicBezTo>
                  <a:pt x="6166" y="8891"/>
                  <a:pt x="6180" y="8925"/>
                  <a:pt x="6185" y="8963"/>
                </a:cubicBezTo>
                <a:cubicBezTo>
                  <a:pt x="6190" y="8999"/>
                  <a:pt x="6215" y="9024"/>
                  <a:pt x="6251" y="9029"/>
                </a:cubicBezTo>
                <a:cubicBezTo>
                  <a:pt x="6298" y="9035"/>
                  <a:pt x="6391" y="9045"/>
                  <a:pt x="6416" y="8996"/>
                </a:cubicBezTo>
                <a:cubicBezTo>
                  <a:pt x="6447" y="8934"/>
                  <a:pt x="6462" y="8944"/>
                  <a:pt x="6515" y="8897"/>
                </a:cubicBezTo>
                <a:cubicBezTo>
                  <a:pt x="6588" y="8832"/>
                  <a:pt x="6528" y="8762"/>
                  <a:pt x="6515" y="8731"/>
                </a:cubicBezTo>
                <a:cubicBezTo>
                  <a:pt x="6495" y="8683"/>
                  <a:pt x="6478" y="8698"/>
                  <a:pt x="6416" y="8698"/>
                </a:cubicBezTo>
                <a:cubicBezTo>
                  <a:pt x="6317" y="8698"/>
                  <a:pt x="6386" y="8768"/>
                  <a:pt x="6350" y="8797"/>
                </a:cubicBezTo>
                <a:cubicBezTo>
                  <a:pt x="6319" y="8822"/>
                  <a:pt x="6301" y="8874"/>
                  <a:pt x="6284" y="8930"/>
                </a:cubicBezTo>
                <a:cubicBezTo>
                  <a:pt x="6264" y="8996"/>
                  <a:pt x="6236" y="9069"/>
                  <a:pt x="6218" y="9128"/>
                </a:cubicBezTo>
                <a:cubicBezTo>
                  <a:pt x="6218" y="9161"/>
                  <a:pt x="6218" y="9172"/>
                  <a:pt x="6218" y="9194"/>
                </a:cubicBezTo>
              </a:path>
            </a:pathLst>
          </a:custGeom>
          <a:noFill/>
          <a:ln cap="rnd" w="19080">
            <a:solidFill>
              <a:srgbClr val="c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3"/>
          <p:cNvSpPr/>
          <p:nvPr/>
        </p:nvSpPr>
        <p:spPr>
          <a:xfrm>
            <a:off x="171360" y="1625760"/>
            <a:ext cx="6458040" cy="62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is a continuous function defined for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≤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≤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we divide the interval 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 into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subintervals of equal width </a:t>
            </a:r>
            <a:r>
              <a:rPr b="0" lang="el-GR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Δ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−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/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 We let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0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. . . 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= 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be the endpoints of these subintervals and we le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 any sample points in these subintervals, so that       lies in the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 subinterva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[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 − 1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i="1" lang="en-US" sz="30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i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].  Then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definite integral of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f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 from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a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 to </a:t>
            </a:r>
            <a:r>
              <a:rPr b="1" i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DEFINITE INTEGR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4"/>
              <p:cNvSpPr txBox="1"/>
              <p:nvPr/>
            </p:nvSpPr>
            <p:spPr>
              <a:xfrm>
                <a:off x="0" y="4800600"/>
                <a:ext cx="201924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1</m:t>
                        </m:r>
                      </m:sub>
                      <m:sup/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2</m:t>
                        </m:r>
                      </m:sub>
                      <m:sup/>
                    </m:sSubSup>
                    <m:r>
                      <m:t xml:space="preserve">,</m:t>
                    </m:r>
                    <m:r>
                      <m:t xml:space="preserve">…</m:t>
                    </m:r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n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6" name="Object 6"/>
              <p:cNvSpPr txBox="1"/>
              <p:nvPr/>
            </p:nvSpPr>
            <p:spPr>
              <a:xfrm>
                <a:off x="4191120" y="5410080"/>
                <a:ext cx="53316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Object 8"/>
              <p:cNvSpPr txBox="1"/>
              <p:nvPr/>
            </p:nvSpPr>
            <p:spPr>
              <a:xfrm>
                <a:off x="838080" y="7367760"/>
                <a:ext cx="5715000" cy="177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lim</m:t>
                            </m:r>
                          </m:e>
                          <m:lim>
                            <m:r>
                              <m:t xml:space="preserve">n</m:t>
                            </m:r>
                            <m:r>
                              <m:t xml:space="preserve"> </m:t>
                            </m:r>
                            <m:r>
                              <m:t xml:space="preserve">→</m:t>
                            </m:r>
                            <m:r>
                              <m:t xml:space="preserve"> </m:t>
                            </m:r>
                            <m:r>
                              <m:t xml:space="preserve">∞</m:t>
                            </m:r>
                          </m:lim>
                        </m:limLow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/>
                                </m:sSubSup>
                              </m:e>
                            </m:d>
                            <m:r>
                              <m:t xml:space="preserve"> 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228600" y="1371600"/>
            <a:ext cx="6343560" cy="56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e symbol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∫ is called an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l sig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 the notation                 , 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is called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nd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re called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limits of integ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;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lower lim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and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is the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upper limit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symbol </a:t>
            </a:r>
            <a:r>
              <a:rPr b="0" i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x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as no official meaning by itself;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s all one symbol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procedure of calculating an integral is called </a:t>
            </a:r>
            <a:r>
              <a:rPr b="1" lang="en-US" sz="30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integration</a:t>
            </a: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0"/>
            <a:ext cx="6172200" cy="105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REMA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Object 6"/>
              <p:cNvSpPr txBox="1"/>
              <p:nvPr/>
            </p:nvSpPr>
            <p:spPr>
              <a:xfrm>
                <a:off x="457200" y="4952880"/>
                <a:ext cx="1981080" cy="127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8"/>
              <p:cNvSpPr txBox="1"/>
              <p:nvPr/>
            </p:nvSpPr>
            <p:spPr>
              <a:xfrm>
                <a:off x="2438280" y="1676520"/>
                <a:ext cx="1828800" cy="106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RIEMANN SU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3"/>
          <p:cNvSpPr/>
          <p:nvPr/>
        </p:nvSpPr>
        <p:spPr>
          <a:xfrm>
            <a:off x="285840" y="2438280"/>
            <a:ext cx="6229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s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rom the definition of the definite integral is called a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Riemann sum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fter the German mathematician Bernhard Rieman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4" name="Object 4"/>
              <p:cNvSpPr txBox="1"/>
              <p:nvPr/>
            </p:nvSpPr>
            <p:spPr>
              <a:xfrm>
                <a:off x="2133720" y="2133720"/>
                <a:ext cx="3124080" cy="160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r>
                          <m:t xml:space="preserve">f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Sup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</m:sSubSup>
                          </m:e>
                        </m:d>
                        <m:r>
                          <m:t xml:space="preserve"> </m:t>
                        </m:r>
                        <m:r>
                          <m:t xml:space="preserve">Δ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285840" y="1727280"/>
            <a:ext cx="6286320" cy="37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≥ 0 (that is, the graph lies abov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),                  gives the area under the curv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f the graph of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lies both above and below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, then the definite integral gives the </a:t>
            </a:r>
            <a:r>
              <a:rPr b="1" lang="en-US" sz="2800" spc="-1" strike="noStrike" u="sng">
                <a:solidFill>
                  <a:srgbClr val="3333ff"/>
                </a:solidFill>
                <a:uFillTx/>
                <a:latin typeface="Times New Roman"/>
                <a:ea typeface="Times New Roman"/>
              </a:rPr>
              <a:t>net are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the area above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 subtracted by the area below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axis); that 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NET ARE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7" name="Object 4"/>
              <p:cNvSpPr txBox="1"/>
              <p:nvPr/>
            </p:nvSpPr>
            <p:spPr>
              <a:xfrm>
                <a:off x="1600200" y="2133720"/>
                <a:ext cx="137160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6"/>
              <p:cNvSpPr txBox="1"/>
              <p:nvPr/>
            </p:nvSpPr>
            <p:spPr>
              <a:xfrm>
                <a:off x="2133720" y="4876920"/>
                <a:ext cx="4267080" cy="103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 </m:t>
                        </m:r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up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down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59" name="Picture 8" descr="img004"/>
          <p:cNvPicPr/>
          <p:nvPr/>
        </p:nvPicPr>
        <p:blipFill>
          <a:blip r:embed="rId1"/>
          <a:stretch/>
        </p:blipFill>
        <p:spPr>
          <a:xfrm>
            <a:off x="3429000" y="5689440"/>
            <a:ext cx="3029040" cy="27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5"/>
          <p:cNvSpPr/>
          <p:nvPr/>
        </p:nvSpPr>
        <p:spPr>
          <a:xfrm>
            <a:off x="285840" y="1727280"/>
            <a:ext cx="62863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f we are approximating a definite integral, it is often better to let       be the midpoint of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 subinterval.  This results in the </a:t>
            </a:r>
            <a:r>
              <a:rPr b="1" lang="en-US" sz="2800" spc="-1" strike="noStrike" u="sng">
                <a:solidFill>
                  <a:srgbClr val="0000ff"/>
                </a:solidFill>
                <a:uFillTx/>
                <a:latin typeface="Times New Roman"/>
              </a:rPr>
              <a:t>Midpoint Rul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MIDPOINT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4876920" y="2057400"/>
                <a:ext cx="312480" cy="81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i</m:t>
                        </m:r>
                      </m:sub>
                      <m:sup/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Object 8"/>
              <p:cNvSpPr txBox="1"/>
              <p:nvPr/>
            </p:nvSpPr>
            <p:spPr>
              <a:xfrm>
                <a:off x="0" y="3505320"/>
                <a:ext cx="6858000" cy="563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≈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 </m:t>
                            </m:r>
                            <m:r>
                              <m:t xml:space="preserve">=</m:t>
                            </m:r>
                            <m:r>
                              <m:t xml:space="preserve"> 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n</m:t>
                            </m:r>
                          </m:sup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Δx</m:t>
                            </m:r>
                          </m:e>
                        </m:nary>
                      </m:e>
                      <m:e>
                        <m:r>
                          <m:t xml:space="preserve">Δx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  <m:r>
                              <m:t xml:space="preserve">+</m:t>
                            </m:r>
                            <m:r>
                              <m:t xml:space="preserve">⋯</m:t>
                            </m:r>
                            <m:r>
                              <m:t xml:space="preserve">+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n</m:t>
                                </m:r>
                              </m:sub>
                            </m:sSub>
                            <m:r>
                              <m:t xml:space="preserve">)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where</m:t>
                        </m:r>
                        <m:r>
                          <m:t xml:space="preserve"> </m:t>
                        </m:r>
                        <m:r>
                          <m:t xml:space="preserve">Δx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b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</m:num>
                          <m:den>
                            <m:r>
                              <m:t xml:space="preserve">n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 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midpoint</m:t>
                        </m:r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of</m:t>
                        </m:r>
                        <m:r>
                          <m:t xml:space="preserve"> 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x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BASIC PROPERTIES OF THE DEFINITE INTEG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5" name="Object 3"/>
              <p:cNvSpPr txBox="1"/>
              <p:nvPr/>
            </p:nvSpPr>
            <p:spPr>
              <a:xfrm>
                <a:off x="0" y="3749760"/>
                <a:ext cx="6858000" cy="3462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/>
                      <m:e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  <m:r>
                              <m:t xml:space="preserve">0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TANT MULTIPLE AND ADDITION/SUBTRACTION PROPER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-38160" y="2057400"/>
                <a:ext cx="6869160" cy="601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1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r>
                          <m:t xml:space="preserve">2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+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3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c</m:t>
                            </m:r>
                            <m:r>
                              <m:t xml:space="preserve">⋅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</m:t>
                        </m:r>
                        <m:r>
                          <m:t xml:space="preserve">=</m:t>
                        </m:r>
                        <m:r>
                          <m:t xml:space="preserve">c</m:t>
                        </m:r>
                        <m:r>
                          <m:t xml:space="preserve">⋅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t xml:space="preserve">4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d>
                              <m:dPr>
                                <m:begChr m:val="["/>
                                <m:endChr m:val="]"/>
                              </m:dPr>
                              <m:e>
                                <m:r>
                                  <m:t xml:space="preserve">f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g</m:t>
                                </m:r>
                                <m:r>
                                  <m:t xml:space="preserve">(</m:t>
                                </m:r>
                                <m:r>
                                  <m:t xml:space="preserve">x</m:t>
                                </m:r>
                                <m:r>
                                  <m:t xml:space="preserve">)</m:t>
                                </m:r>
                              </m:e>
                            </m:d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−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g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INTERVAL ADDITIVITY PROPER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3"/>
              <p:cNvSpPr txBox="1"/>
              <p:nvPr/>
            </p:nvSpPr>
            <p:spPr>
              <a:xfrm>
                <a:off x="-27000" y="2597040"/>
                <a:ext cx="6885000" cy="192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5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t xml:space="preserve"> 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  <m:r>
                          <m:t xml:space="preserve">+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                             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 </m:t>
                            </m:r>
                            <m:r>
                              <m:t xml:space="preserve">f</m:t>
                            </m:r>
                            <m:r>
                              <m:t xml:space="preserve">(</m:t>
                            </m:r>
                            <m:r>
                              <m:t xml:space="preserve">x</m:t>
                            </m:r>
                            <m:r>
                              <m:t xml:space="preserve">)</m:t>
                            </m:r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e>
                        </m:nary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8T20:28:38Z</dcterms:created>
  <dc:creator>Allen Fuller</dc:creator>
  <dc:description/>
  <dc:language>en-US</dc:language>
  <cp:lastModifiedBy>sraja</cp:lastModifiedBy>
  <dcterms:modified xsi:type="dcterms:W3CDTF">2011-02-15T18:57:30Z</dcterms:modified>
  <cp:revision>35</cp:revision>
  <dc:subject/>
  <dc:title>Section 5.2</dc:title>
</cp:coreProperties>
</file>